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C71-AD36-403A-87D5-62D49282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10B-4C3C-40B7-8374-C38B6FB7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1CC-E488-4381-8079-E23933D3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6E3-E82E-42B0-8B62-A37CF2EB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4C6C-A2FB-4549-ACEE-0223FE2D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D013-F76C-459D-9DD0-0B535F22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0EDC-1B60-4ABA-A6CF-17D19205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5F95-2B3F-40AB-A383-18FF9BAD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534C-C10C-4E84-A33D-C7FA5329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F898-6D4A-4DE0-A7CD-301771DB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9F29-93E1-4AF5-8745-6202DAA1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EA3-A822-4EFB-8C17-0CB039F5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2486-3CB3-487A-AEA5-CF3DF4D9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7EDA-C1E7-44AF-8E9C-5234B80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304F-854F-48F6-841F-5F9A8EF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C5D6-33A4-4603-A912-46C8432B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80B6-2BC5-4EED-835D-BF41DDD7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F1A-9545-40D7-8500-0C6A840D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A64-D7B8-466A-8C83-801AE3D7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9C4-CF77-4F9C-A8DC-22C1269F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BDA-020D-4E21-A746-8698F17E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E05-781F-492A-9A90-8B83267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17C-F8F4-4351-8EC6-B4DA65D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3DE-2D8A-4F11-AA41-75BD4974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79BB-1E58-4057-9AF4-C1623997965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CB01-1BC9-488F-897C-6ED94EA67B4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597708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CÁTEDRA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FESOR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BERNARDO GONZÁLEZ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4071600"/>
            <a:ext cx="7842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Construcción de la Memor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1746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3132000" y="1268280"/>
            <a:ext cx="3095640" cy="5329440"/>
          </a:xfrm>
          <a:prstGeom prst="ellipse">
            <a:avLst/>
          </a:prstGeom>
          <a:solidFill>
            <a:srgbClr val="00ff00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Oval 3"/>
          <p:cNvSpPr/>
          <p:nvPr/>
        </p:nvSpPr>
        <p:spPr>
          <a:xfrm>
            <a:off x="1116000" y="3213000"/>
            <a:ext cx="7272360" cy="1368360"/>
          </a:xfrm>
          <a:prstGeom prst="ellipse">
            <a:avLst/>
          </a:prstGeom>
          <a:solidFill>
            <a:srgbClr val="ff3300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LA MEMORIA: 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EN EL CRUCE DE ESPACIOS IDENTITARIO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55640" y="1916280"/>
            <a:ext cx="158436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COLE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84360" y="5300640"/>
            <a:ext cx="18208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INDIVID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51280" y="148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067280" y="595008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16720" y="1787400"/>
            <a:ext cx="194292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LECTIV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588000" y="5300640"/>
            <a:ext cx="19432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DIVIDU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547640" y="36608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AS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924360" y="366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RES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443640" y="36608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UTU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 rot="1026000">
            <a:off x="3347640" y="2635200"/>
            <a:ext cx="5059440" cy="34513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3"/>
          <p:cNvSpPr/>
          <p:nvPr/>
        </p:nvSpPr>
        <p:spPr>
          <a:xfrm rot="2278800">
            <a:off x="684000" y="1268280"/>
            <a:ext cx="5327640" cy="352584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5280" y="25992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MEMORIA INCLUIDA / MEMORIA EXCLUID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47636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156360" y="47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635280" y="292428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HISTÓ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ICHO IDENTITA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L SUJE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51640" y="1484280"/>
            <a:ext cx="2808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OF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661000"/>
            <a:ext cx="3024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MARG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987640" y="1988640"/>
            <a:ext cx="3168720" cy="3527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Marc Ferro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“Cómo se cuenta la Historia 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a los niños en el mundo entero” (1981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Controlar el pasado ayuda a dominar el presente, a legitimar dominaciones e impugnaciones. Ahora bien, son las potencias dominantes –Estados; iglesias, partidos políticos o intereses privados- los que poseen y financian medios de comunicación masiva o mecanismos de reproducción, libros escolares o tiras cómicas, filmes o emisiones de televisión. Cada vez más frecuentemente, entregan a todos y cada uno un pasado uniforme. La revuelta brota entre aquellos para quienes su Historia esta “prohibid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persiste un modelo de la historia de cada país: es la dominante que moldea la conciencia colectiva de cada sociedad. Por ello es importante conocer los elementos de ese modelo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13:59Z</dcterms:created>
  <dc:creator>Bernardo Patricio González Mella</dc:creator>
  <dc:description/>
  <dc:language>en-US</dc:language>
  <cp:lastModifiedBy>Bernardo González</cp:lastModifiedBy>
  <dcterms:modified xsi:type="dcterms:W3CDTF">2011-11-15T15:58:51Z</dcterms:modified>
  <cp:revision>19</cp:revision>
  <dc:subject/>
  <dc:title>UNIVERSIDAD DE CHILE PROGRAMA ACADÉMICO DE BACHILLERATO CÁTEDRA : HISTORIA PROFESOR : BERNARDO GONZÁLEZ</dc:title>
</cp:coreProperties>
</file>