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7BF-7ED3-408F-8147-A2AB0B6F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915-584B-4C06-8385-8D65E5FB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DF4-1D00-48E6-A62F-96F52214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9A3-B67D-457C-A862-2AAE24FC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5447-1445-40DC-B240-8E88DCF6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17C-F4F5-4198-9B8F-B7E6C78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5FBF-247C-458A-9A9C-A1CB9D1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0D0-D02D-45F5-BE3A-4863145A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67BB-B8DD-4772-AE5D-527C0D54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2057-A7E7-4B74-873F-1D3512D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7434-936E-40E3-8C91-78CCFC9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38A-86B4-4783-84E1-19BD70BC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C92D-46E0-4AB1-914B-A4935C7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0B0C-9022-4968-8149-068FA2DC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2DE6-5AA6-4C5B-9C50-4F92C054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5183-424A-4F9A-A15C-5FA9E39E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0026-DD81-45FC-9D1C-A7ECF653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2A5-C92A-4CF4-ADFB-5F7B3D88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950-A365-4511-8806-8AFEDF17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B1D-11BC-42F5-A0BF-E08D1F94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35B-FC5D-4969-BF19-CB76BF80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F12-3788-4E28-87F2-91EDBD5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63A-0EB9-45D0-8E1E-6C920B4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247-2985-4339-BFCD-ECFA97EC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7760-6E20-481A-9CB7-07834E8FBDD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C121-C119-4D4C-B1C0-89B26866708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CÁTEDRA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FESOR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BERNARDO GONZÁLEZ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4071600"/>
            <a:ext cx="7842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Construcción de la Memor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1746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132000" y="1268280"/>
            <a:ext cx="3095640" cy="5329440"/>
          </a:xfrm>
          <a:prstGeom prst="ellipse">
            <a:avLst/>
          </a:prstGeom>
          <a:solidFill>
            <a:srgbClr val="00ff00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Oval 3"/>
          <p:cNvSpPr/>
          <p:nvPr/>
        </p:nvSpPr>
        <p:spPr>
          <a:xfrm>
            <a:off x="1116000" y="3213000"/>
            <a:ext cx="7272360" cy="1368360"/>
          </a:xfrm>
          <a:prstGeom prst="ellipse">
            <a:avLst/>
          </a:prstGeom>
          <a:solidFill>
            <a:srgbClr val="ff33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LA MEMORIA: 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EN EL CRUCE DE ESPACIOS IDENTITARIO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5640" y="1916280"/>
            <a:ext cx="158436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COLE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5300640"/>
            <a:ext cx="18208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INDIVID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51280" y="148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67280" y="59500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16720" y="1787400"/>
            <a:ext cx="194292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LEC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547640" y="3660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AS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24360" y="366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S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43640" y="3660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UT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 rot="1026000">
            <a:off x="3347640" y="2635200"/>
            <a:ext cx="5059440" cy="34513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 rot="2278800">
            <a:off x="684000" y="1268280"/>
            <a:ext cx="5327640" cy="35258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5280" y="25992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MEMORIA INCLUIDA / MEMORIA EXCLUID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76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5636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635280" y="2924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HISTÓ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ICHO IDENT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UJE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484280"/>
            <a:ext cx="2808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OF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661000"/>
            <a:ext cx="3024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MARG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87640" y="1988640"/>
            <a:ext cx="3168720" cy="35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Marc Ferro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“Cómo se cuenta la Historia 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a los niños en el mundo entero” (198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Controlar el pasado ayuda a dominar el presente, a legitimar dominaciones e impugnaciones. Ahora bien, son las potencias dominantes –Estados; iglesias, partidos políticos o intereses privados- los que poseen y financian medios de comunicación masiva o mecanismos de reproducción, libros escolares o tiras cómicas, filmes o emisiones de televisión. Cada vez más frecuentemente, entregan a todos y cada uno un pasado uniforme. La revuelta brota entre aquellos para quienes su Historia esta “prohibid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ersiste un modelo de la historia de cada país: es la dominante que moldea la conciencia colectiva de cada sociedad. Por ello es importante conocer los elementos de ese modelo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3:59Z</dcterms:created>
  <dc:creator>Bernardo Patricio González Mella</dc:creator>
  <dc:description/>
  <dc:language>en-US</dc:language>
  <cp:lastModifiedBy>Bernardo González</cp:lastModifiedBy>
  <dcterms:modified xsi:type="dcterms:W3CDTF">2011-11-15T15:58:51Z</dcterms:modified>
  <cp:revision>19</cp:revision>
  <dc:subject/>
  <dc:title>UNIVERSIDAD DE CHILE PROGRAMA ACADÉMICO DE BACHILLERATO CÁTEDRA : HISTORIA PROFESOR : BERNARDO GONZÁLEZ</dc:title>
</cp:coreProperties>
</file>