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44F1-F5EB-4460-B704-6605F99E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CDE2-47AD-4AD9-9012-B02808C4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7C4C-6D19-4BC0-AF54-D8347ED7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E2D5-E447-4334-89A1-1186A9CF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C2F2-9536-41A0-9E1C-C6F1FCFD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B46E-A723-4805-B547-7E11F1C0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E404-E665-462E-ABA6-76230A12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577B-4E31-4361-8A0D-1907FE63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A097-B7FD-459D-B420-4545D678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6247-A2EE-4386-95E4-44651821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AF7A-0386-414B-BA2C-8CC40128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E9D8-EE6C-482C-82F4-89CEB5E6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A3C6-2131-4BE7-936E-CEAF5DF9AFE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Neoimpresionismo y Postimpresionismo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a progresiva transformación de la visualidad en la represent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Hiroshige_Van_Gogh_2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77120" cy="473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76880" y="5334120"/>
            <a:ext cx="22532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iroshige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El puente O-hashi en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take bajo una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lluvia repentin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7400" y="5486400"/>
            <a:ext cx="22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Van Gogh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Puente bajo la lluvia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87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VanGogh-starry_night_ballance1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05360" cy="535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2000" y="5943600"/>
            <a:ext cx="84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sterrennac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noche estrellada]. 188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por 92 cm; MOMA, 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-Lautrec_at_the_moulin_rouge_1892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496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2120" y="5486400"/>
            <a:ext cx="675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enri Marie Raymond de Toulouse-Lautrec-Monfa Tapié de Celeyran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nde de Toulouse-Lautrec-Monfa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u Moulin Rouge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dx6nkohj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630600" cy="5029200"/>
          </a:xfrm>
          <a:prstGeom prst="rect">
            <a:avLst/>
          </a:prstGeom>
          <a:ln w="0">
            <a:noFill/>
          </a:ln>
        </p:spPr>
      </p:pic>
      <p:pic>
        <p:nvPicPr>
          <p:cNvPr id="67" name="Lautrec_ambassadeurs,_aristide_bruant_(poster)_1892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443400" cy="5181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60080" y="6172200"/>
            <a:ext cx="620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enri Touluse-Lautre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ristide Bru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Carteles). 1892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eorges_Seurat_031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04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67080" y="5715000"/>
            <a:ext cx="7948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dimanche après-midi à l'Ile de la Grande Ja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rt Institute, Chica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-10CYRETEQ00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858000" cy="4505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23280" y="5638680"/>
            <a:ext cx="47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arade de cir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eurat-La_Parade_detail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467160" cy="5629320"/>
          </a:xfrm>
          <a:prstGeom prst="rect">
            <a:avLst/>
          </a:prstGeom>
          <a:ln w="0">
            <a:noFill/>
          </a:ln>
        </p:spPr>
      </p:pic>
      <p:pic>
        <p:nvPicPr>
          <p:cNvPr id="48" name="detailpoint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472428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aul_Signac_Dimanche" descr=""/>
          <p:cNvPicPr/>
          <p:nvPr/>
        </p:nvPicPr>
        <p:blipFill>
          <a:blip r:embed="rId1"/>
          <a:stretch/>
        </p:blipFill>
        <p:spPr>
          <a:xfrm>
            <a:off x="3276720" y="685800"/>
            <a:ext cx="5451480" cy="5478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1760" y="4648320"/>
            <a:ext cx="2007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Signa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oming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8-189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lección privad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ul_Signac_Port_de_Marseilles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81880" cy="5477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55880" y="601992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igna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uerto de Marsel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Ermitage, San Petesburgo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aul_Gauguin_10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53440" cy="527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81240" y="5715000"/>
            <a:ext cx="66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Gaugi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ncent Van Gogh pintando los girasol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msterdam, Museo Van Gogh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Gauguin_14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21560" cy="534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04640" y="601992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ujeres de Tahiti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Vincent_Van_Gogh_-_The_Potato_Eaters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477120" cy="4575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92880" y="5791320"/>
            <a:ext cx="54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incent van Gog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Comedores de Pata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01:39:29Z</dcterms:created>
  <dc:creator>Victor Diaz</dc:creator>
  <dc:description/>
  <dc:language>en-US</dc:language>
  <cp:lastModifiedBy>Victor Diaz</cp:lastModifiedBy>
  <dcterms:modified xsi:type="dcterms:W3CDTF">2008-12-26T21:59:00Z</dcterms:modified>
  <cp:revision>18</cp:revision>
  <dc:subject/>
  <dc:title>Paul Cézanne</dc:title>
</cp:coreProperties>
</file>