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73A-045C-4CB1-B27C-C9F6985A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D7D-B859-4C94-81EC-14732027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9A3-0E04-4536-A4C2-322F43C1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B999-7A2C-4691-87FF-A719E562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CE00-8128-48EF-9283-76D51BB6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CDB8-E87B-4F64-889D-14B4FB12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B55-D7A5-4F01-9B3D-C752A0A6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8083-A9B2-4486-B2FD-1DBE70CD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0A73-29FE-47E7-87DC-2A8C1EDC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64B4-0452-4608-A166-81BFDACF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056-2494-4E6D-9524-A592DBDC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2DAC-B9E2-49EF-9B3A-B03AB554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7964-47E2-4BF4-941A-9BDC5F391BA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íspera de la Vanguardi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E0000051780_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40856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97960" y="5029200"/>
            <a:ext cx="388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ffet du mat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800px-Claude_Monet_038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534520" cy="292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01400" y="5562720"/>
            <a:ext cx="46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nymphé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0 - 26 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19 por 602 c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espartanos%20degas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162920" cy="5027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41320" y="5943600"/>
            <a:ext cx="56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jercicios de jóvenes esparta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dgar_Germain_Hilaire_Degas_02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602320" cy="624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49480" y="5181480"/>
            <a:ext cx="217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Germain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ilaire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lase de danz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lasedanzacompos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894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bsinthe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455148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760" y="4724280"/>
            <a:ext cx="24055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'Absint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2 por 68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Edouard_Manet_040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464000" cy="624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5080" y="5334120"/>
            <a:ext cx="3044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etrato de Berthe Moriso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erthe_Morisot_002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629400" cy="564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0160" y="6019920"/>
            <a:ext cx="85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he Moriso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ugène Manet en la isla de Wig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5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, Parí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noir21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05720" cy="4937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58280" y="5715000"/>
            <a:ext cx="66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erre-Auguste Renoi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 au Moulin de la Gale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por 175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mwm07591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0536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3920" y="6095880"/>
            <a:ext cx="82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ligencia a Enner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4240" y="601992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,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: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 Monet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Impression,%20Sunrise%20(Monet)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771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15480" y="5638680"/>
            <a:ext cx="56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sla de Lacroix con efecto de nieb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Arte de Filadelf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9" name="lacroix_island_rouen_in_fog-400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87px-Claude_Monet_02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38600" cy="570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9520" y="4800600"/>
            <a:ext cx="3896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s au jard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6 por 208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5400" y="4876920"/>
            <a:ext cx="34772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 ai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(vers la droite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x 88 cm; Musée d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apc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273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mp_14b05e04ae5c406e879cd17e7268adb3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4121280" cy="6248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27640" y="4572000"/>
            <a:ext cx="325296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-air 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 à l'ombrel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urnée vers la gauc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ée d'Orsay, Pari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onet.portail-temps-gri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00824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06840" y="5257800"/>
            <a:ext cx="28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temps gri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pcaa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2876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6720" y="5105520"/>
            <a:ext cx="310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Rouen, Le Portai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u de face, hamonie brun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E0000051779_3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384800" cy="6381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2680" y="5334120"/>
            <a:ext cx="288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soleil matina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h_monet_rouen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97600" y="4952880"/>
            <a:ext cx="379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e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lein soleil, harmonie bleue et 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2:55:23Z</dcterms:created>
  <dc:creator>Victor Diaz</dc:creator>
  <dc:description/>
  <dc:language>en-US</dc:language>
  <cp:lastModifiedBy>Victor Diaz</cp:lastModifiedBy>
  <dcterms:modified xsi:type="dcterms:W3CDTF">2008-12-26T02:35:16Z</dcterms:modified>
  <cp:revision>25</cp:revision>
  <dc:subject/>
  <dc:title>Impresionismo y postimpresionismo</dc:title>
</cp:coreProperties>
</file>