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BF6C-CF03-4A60-9A4A-60F55CDC4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330B-F954-479F-B707-00C7E6CC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2D66-5580-42AB-8003-DB1A6EF38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E29E-F2AE-4B72-B621-A1CB9DA2D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DB07-02E6-4636-8D77-DAEC80D6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F6FE-1037-48D1-A200-0FCBDF85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AA66-57A3-495E-91E5-238CC4F3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0A72-157B-40FD-9346-765781A3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CE89-ABE2-4755-8102-BE342DF1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E5AD-4ADA-406F-8682-9CB793FD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C925-7C19-40C4-9860-B0267A14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B27C-A8C9-4018-94EC-98082B35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B12C-2716-401B-A398-6C0FD6B74DF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Cézanne: romanticismo, impresionismo, postimpresionismo, constructivismo y el inicio de las vanguardias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608076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barque-dante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92504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c1613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943600" cy="4800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819800" y="5715000"/>
            <a:ext cx="57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mino a Pontoise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8 x 71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aul-Cezanne-Blue-Vase-162033" descr=""/>
          <p:cNvPicPr/>
          <p:nvPr/>
        </p:nvPicPr>
        <p:blipFill>
          <a:blip r:embed="rId1"/>
          <a:stretch/>
        </p:blipFill>
        <p:spPr>
          <a:xfrm>
            <a:off x="3733920" y="533520"/>
            <a:ext cx="4871880" cy="5943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42280" y="4952880"/>
            <a:ext cx="1701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vaso azul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5-8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61 x 50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ezannejugadores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553080" cy="5562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587600" y="6095880"/>
            <a:ext cx="61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Jugadores de cart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0-9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7 x 57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ezanne.pommes-oranges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629400" cy="5210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92560" y="6019920"/>
            <a:ext cx="82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Bodegón con manzanas y naranj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5-1900¿?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4 x 93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ezanne_appsorgs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333760" cy="41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verano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781680" cy="5257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89080" y="5867280"/>
            <a:ext cx="869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ontaña Santa Victoria desde Les Lauv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02-0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63,5 x 83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aul_Cézanne_047" descr=""/>
          <p:cNvPicPr/>
          <p:nvPr/>
        </p:nvPicPr>
        <p:blipFill>
          <a:blip r:embed="rId1"/>
          <a:stretch/>
        </p:blipFill>
        <p:spPr>
          <a:xfrm>
            <a:off x="1219320" y="152280"/>
            <a:ext cx="6754680" cy="5716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505240" y="6095880"/>
            <a:ext cx="44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s bañist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8-190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asso_avignon%5B1%5D_jpg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5034240" cy="5257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895040" y="6019920"/>
            <a:ext cx="52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s Demoiselles d´Avign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0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ezanne14-10CYRETEQ00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678200" cy="6095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90480" y="4648320"/>
            <a:ext cx="264024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sueño del poe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(o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beso de la mus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59-60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82 x 66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Still%20life%20with%20bread%20and%20eggs%20by%20Cezanne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086600" cy="556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52640" y="6095880"/>
            <a:ext cx="71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turaleza muerta: pan y huev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9 x 76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die_orgie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3730680" cy="6324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65960" y="5029200"/>
            <a:ext cx="1701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rgí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8-7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0 x 81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ezanne10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5680080" cy="5943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243480" y="4495680"/>
            <a:ext cx="27183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a Olympia modern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9-7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6 x 55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aul_Cezanne,_A_Modern_Olympia,_c._1873-1874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705360" cy="5500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65000" y="6095880"/>
            <a:ext cx="60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a Olympia modern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6 x 55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Le%20Dejeuner%20sur%20L'herbe__Paul%20Cezanne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351840" cy="4686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84480" y="5867280"/>
            <a:ext cx="65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ejeuner sur l'herb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0-7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60 x 80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aul_Cézanne_-_Le_Déjeuner_sur_l'herbe_(Orangerie)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781680" cy="5141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84480" y="594360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ejeuner sur l'herbe.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3-7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0´8 x 27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-14024-15323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848720" cy="5643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24760" y="6095880"/>
            <a:ext cx="75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rca de Dante (Según Delacroix)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187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 x 33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6T21:56:43Z</dcterms:created>
  <dc:creator>Victor Diaz</dc:creator>
  <dc:description/>
  <dc:language>en-US</dc:language>
  <cp:lastModifiedBy>Victor Diaz</cp:lastModifiedBy>
  <dcterms:modified xsi:type="dcterms:W3CDTF">2009-01-03T03:48:07Z</dcterms:modified>
  <cp:revision>24</cp:revision>
  <dc:subject/>
  <dc:title>Cézanne: constructivismo y el inicio de las vanguardias.</dc:title>
</cp:coreProperties>
</file>