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6C7B-54AD-422D-A116-98EECACE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F166-D646-4FC8-B430-84561E74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C338-2985-4F3B-B400-E24E42A7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7A0A-6FBE-4CCE-9381-853CAAF3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6763-7019-46FB-8CCB-7545C5ED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538D-5B92-4240-BE20-17ECAC60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47E0-41BA-46A9-8E79-C9A8B32E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4D42-7D6C-4A89-BCCD-D879A3FD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4FED-CA04-4A5C-99F4-695457A2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FE51-C998-4F8C-AE03-514F8EE5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6CC9-E027-4470-9AFE-99AD7ABD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4863-8E2B-4C2E-B34F-8028AD4A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51AA-4B09-4F26-BC85-4CB64184AB2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Manet: modernismo y surgimiento del impresionismo.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ición del siglo XIX hacia el siglo XX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net6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848720" cy="563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1600" y="6095880"/>
            <a:ext cx="86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usique aux Tuileri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6,2 x 118,1 cm; National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ortrait%20d'Emile%20Zol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952880" cy="63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6320" y="5105520"/>
            <a:ext cx="2556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ortrait d'Emile Zola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46 x 114 cm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00px-The_Great_Wave_off_Kanagawa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1080" y="5943600"/>
            <a:ext cx="85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atsushika Hokusa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Kanagawa oki nami ur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gran ola de Kanagawa]. 1832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4560" y="5943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El sueño de la mujer del pescad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onet_DesayunoEstudio65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21560" cy="5373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5600" y="6095880"/>
            <a:ext cx="84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sayuno sobre la hierb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-66. [Estudio de tamaño menor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ejeuner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3680" y="6172200"/>
            <a:ext cx="89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é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8 por 264 cm; Museo de Orsay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lympia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47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92640" y="609588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800px-Tizian_102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21560" cy="545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2880" y="594360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izian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enus de Urbi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53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5 por 119 cm; Galería Uffizi, Florenc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l%20pifano%20de%20manet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72240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1880" y="5105520"/>
            <a:ext cx="4262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cador de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1 x 97 cm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DE%20VALLADOLID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67020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33680" y="5791320"/>
            <a:ext cx="458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blo de Valladolid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636-3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12 por 125 cm; Museo del Prado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usilamientos_manet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537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36040" y="5791320"/>
            <a:ext cx="61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ejecución del Emperador Maximili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2 x 305 cm; Städtische Kunsthall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net_balcone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5464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027400" y="5486400"/>
            <a:ext cx="38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8-186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70 por 124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80px-Goya_maya_balcon" descr=""/>
          <p:cNvPicPr/>
          <p:nvPr/>
        </p:nvPicPr>
        <p:blipFill>
          <a:blip r:embed="rId1"/>
          <a:stretch/>
        </p:blipFill>
        <p:spPr>
          <a:xfrm>
            <a:off x="4637160" y="304920"/>
            <a:ext cx="40114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6280" y="5715000"/>
            <a:ext cx="39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Majas en el balcón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08-1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62 x 107 cm; colección particul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2:56:51Z</dcterms:created>
  <dc:creator>Victor Diaz</dc:creator>
  <dc:description/>
  <dc:language>en-US</dc:language>
  <cp:lastModifiedBy>Victor Diaz</cp:lastModifiedBy>
  <dcterms:modified xsi:type="dcterms:W3CDTF">2008-12-23T23:27:21Z</dcterms:modified>
  <cp:revision>16</cp:revision>
  <dc:subject/>
  <dc:title>Manet: modernismo y surgimiento del impresionismo.   </dc:title>
</cp:coreProperties>
</file>