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D14C-F617-45E1-A537-DAC4D43D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E434-36DC-435B-B5AF-4D83BAFD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CEC2-923B-41C6-8DCB-E7C72D2F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49C-03F4-404A-90DE-B2411984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AB81-6737-4E04-ADD3-880F214E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7E6-238A-4ED0-8A44-56ADC244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A390-F9DE-4665-AEBD-21699C09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235F-03AB-403C-AB42-5AD0C803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E38-8B3C-460C-B300-64C601B5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A4F-E5E3-4D24-9591-B75536DE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CF26-463E-4750-8767-2C0B9BE0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C8DE-A3BF-43EB-9704-470B3A21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B798-4B3D-4965-AB75-CFA742046E3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decurso de la escultura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Neoclásica, romántica, impresionista, assamblage, ready-made y surrealist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evalse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654440" cy="6248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71480" y="5257800"/>
            <a:ext cx="1966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Claudel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vals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valse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071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558760" y="5105520"/>
            <a:ext cx="2497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equeña bailarina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torce añ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8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" name="Degas___Ballerina_di_14_anni__188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056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SC_3533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72924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tmp_00c9ddb66a2090456024e954c33e4263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05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0033083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2725560" cy="63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870080" y="594360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Guitarr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1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adymade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559400" cy="5257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77720" y="6019920"/>
            <a:ext cx="46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rcel Duchamp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ueda de bicic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nkbellmerdoll2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346720" cy="5486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36000" y="601992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Bellm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e Pupp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34-3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hans-bellmer%201935.2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81024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BellPou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8098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horvaldsens_Ganymedes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515360" cy="5705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93240" y="6248520"/>
            <a:ext cx="55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el Thorvaldse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animedes con el águi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din__The_Thinker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881600" cy="6248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32640" y="5334120"/>
            <a:ext cx="341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çois-Auguste-René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enseu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originalmente “El Poeta”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anova_-_Napoleone_Bonaparte_-_Milano,_Cortile_del_Palazzo_di_Brera_-_Foto_Giovanni_Dall'Orto_19-jan_2007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2037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21640" y="5181480"/>
            <a:ext cx="387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ntonio Canov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como Marte Pacificad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 Napoleón divinizad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anova-napoleon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2846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Napoleon_243x37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3892320" cy="594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84240" y="5181480"/>
            <a:ext cx="268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como Mar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cificado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imera versión de 180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Hoellentor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3926160" cy="6400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2760" y="5410080"/>
            <a:ext cx="2338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uguste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orte de l'Enf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191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385072382_f8a493b666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648320" cy="3095640"/>
          </a:xfrm>
          <a:prstGeom prst="rect">
            <a:avLst/>
          </a:prstGeom>
          <a:ln w="0">
            <a:noFill/>
          </a:ln>
        </p:spPr>
      </p:pic>
      <p:pic>
        <p:nvPicPr>
          <p:cNvPr id="55" name="1384172925_e692d18cee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48006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384172023_79e057f0b0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057920" cy="2702160"/>
          </a:xfrm>
          <a:prstGeom prst="rect">
            <a:avLst/>
          </a:prstGeom>
          <a:ln w="0">
            <a:noFill/>
          </a:ln>
        </p:spPr>
      </p:pic>
      <p:pic>
        <p:nvPicPr>
          <p:cNvPr id="57" name="1384170855_e2f81c2965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805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22:35:50Z</dcterms:created>
  <dc:creator>Victor Diaz</dc:creator>
  <dc:description/>
  <dc:language>en-US</dc:language>
  <cp:lastModifiedBy>Victor Diaz</cp:lastModifiedBy>
  <dcterms:modified xsi:type="dcterms:W3CDTF">2009-01-08T18:22:42Z</dcterms:modified>
  <cp:revision>21</cp:revision>
  <dc:subject/>
  <dc:title>Sin título de diapositiva</dc:title>
</cp:coreProperties>
</file>