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0F92-CBF0-4292-A676-6CD677AD8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3CC4-A080-4A3A-8A97-EEEE944C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B8AF-AAE9-4482-BD43-986E797C3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5D4F-B5AC-4EB6-92D7-F800FDC6A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0C39-F8B1-4F08-856A-524DE348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BBD2-6CA4-4D14-BC47-3A8F05E2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2AFC-1D55-4A19-86FC-10934C45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88E3-FD30-4BEB-A335-44BD9D12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1AAC-B9C5-4C6D-8963-2F9BE629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8B37-32FA-4563-BE9E-23B1EF1A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A76E-E888-4A4E-A50D-CBD0CFBE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742B-F727-4BE8-AA76-E742B393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AABE-73F6-4154-BFE1-741EF2290C5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Manet: modernismo y surgimiento del impresionismo.  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ansición del siglo XIX hacia el siglo XX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anet6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848720" cy="5637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91600" y="6095880"/>
            <a:ext cx="86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Musique aux Tuileri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6,2 x 118,1 cm; National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ortrait%20d'Emile%20Zola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952880" cy="6324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16320" y="5105520"/>
            <a:ext cx="2556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ortrait d'Emile Zola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8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46 x 114 cm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800px-The_Great_Wave_off_Kanagawa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257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1080" y="5943600"/>
            <a:ext cx="85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Katsushika Hokusai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Kanagawa oki nami ur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La gran ola de Kanagawa]. 1832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4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4560" y="5943600"/>
            <a:ext cx="45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El sueño de la mujer del pescado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Monet_DesayunoEstudio65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21560" cy="5373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35600" y="6095880"/>
            <a:ext cx="84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sayuno sobre la hierb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5-66. [Estudio de tamaño menor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dejeuner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467840" cy="5600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3680" y="6172200"/>
            <a:ext cx="89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éjeuner sur l'herb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08 por 264 cm; Museo de Orsay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lympia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53280" cy="5477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92640" y="6095880"/>
            <a:ext cx="64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800px-Tizian_102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21560" cy="5459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02880" y="5943600"/>
            <a:ext cx="76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izian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enus de Urbi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53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5 por 119 cm; Galería Uffizi, Florenci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l%20pifano%20de%20manet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722400" cy="6400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71880" y="5105520"/>
            <a:ext cx="42620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ocador de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1 x 97 cm.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BLO%20DE%20VALLADOLID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670200" cy="6477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333680" y="5791320"/>
            <a:ext cx="4584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ablo de Valladolid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636-37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12 por 125 cm; Museo del Prado, Madrid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fusilamientos_manet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400800" cy="537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36040" y="5791320"/>
            <a:ext cx="615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ejecución del Emperador Maximili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2 x 305 cm; Städtische Kunsthalle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anet_balcone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454640" cy="6324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027400" y="5486400"/>
            <a:ext cx="389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lc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8-186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70 por 124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380px-Goya_maya_balcon" descr=""/>
          <p:cNvPicPr/>
          <p:nvPr/>
        </p:nvPicPr>
        <p:blipFill>
          <a:blip r:embed="rId1"/>
          <a:stretch/>
        </p:blipFill>
        <p:spPr>
          <a:xfrm>
            <a:off x="4637160" y="304920"/>
            <a:ext cx="4011480" cy="6324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96280" y="5715000"/>
            <a:ext cx="398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Majas en el balcón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08-12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62 x 107 cm; colección particula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22:56:51Z</dcterms:created>
  <dc:creator>Victor Diaz</dc:creator>
  <dc:description/>
  <dc:language>en-US</dc:language>
  <cp:lastModifiedBy>Victor Diaz</cp:lastModifiedBy>
  <dcterms:modified xsi:type="dcterms:W3CDTF">2008-12-23T23:27:21Z</dcterms:modified>
  <cp:revision>16</cp:revision>
  <dc:subject/>
  <dc:title>Manet: modernismo y surgimiento del impresionismo.   </dc:title>
</cp:coreProperties>
</file>