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BA23-1BD8-48A6-BE9D-3047E2A3E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234C-225A-44CB-8FA7-1595CED3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1CEE-FD8C-4905-8111-E546DD091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AE3C-2163-4564-A02D-942943A8E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3B16-A944-472A-8FB1-B53E56F8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F886-33FB-4D56-8C0B-52F1A5C6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14F2-C606-4015-832C-1591C938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1DE8-9C8D-4DE7-9AD4-02536B82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4EA7-E509-4DC7-AB17-E25025ED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CC55-EF49-47EC-9652-E1E5E51A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8A45-5D3F-47A7-BE70-D94B3A20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C4AF-CAA4-47FF-830D-445C1C4C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4E7E-C7A2-4BBC-8B61-BB5F508F761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Neoimpresionismo y Postimpresionismo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La progresiva transformación de la visualidad en la representació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Hiroshige_Van_Gogh_2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477120" cy="4734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676880" y="5334120"/>
            <a:ext cx="22532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Hiroshige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El puente O-hashi en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Atake bajo una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lluvia repentin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7400" y="5486400"/>
            <a:ext cx="225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Van Gogh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Puente bajo la lluvia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887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VanGogh-starry_night_ballance1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705360" cy="5356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2000" y="5943600"/>
            <a:ext cx="84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sterrennach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La noche estrellada]. 188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3 por 92 cm; MOMA, Nueva York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-Lautrec_at_the_moulin_rouge_1892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5715000" cy="4967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12120" y="5486400"/>
            <a:ext cx="675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Henri Marie Raymond de Toulouse-Lautrec-Monfa Tapié de Celeyran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conde de Toulouse-Lautrec-Monfa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Au Moulin Rouge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dx6nkohj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3630600" cy="5029200"/>
          </a:xfrm>
          <a:prstGeom prst="rect">
            <a:avLst/>
          </a:prstGeom>
          <a:ln w="0">
            <a:noFill/>
          </a:ln>
        </p:spPr>
      </p:pic>
      <p:pic>
        <p:nvPicPr>
          <p:cNvPr id="67" name="Lautrec_ambassadeurs,_aristide_bruant_(poster)_1892" descr=""/>
          <p:cNvPicPr/>
          <p:nvPr/>
        </p:nvPicPr>
        <p:blipFill>
          <a:blip r:embed="rId2"/>
          <a:stretch/>
        </p:blipFill>
        <p:spPr>
          <a:xfrm>
            <a:off x="4952880" y="457200"/>
            <a:ext cx="3443400" cy="5181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60080" y="6172200"/>
            <a:ext cx="620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enri Touluse-Lautrec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ristide Bru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Carteles). 1892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eorges_Seurat_031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619760" cy="5048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67080" y="5715000"/>
            <a:ext cx="7948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Seura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 dimanche après-midi à l'Ile de la Grande Jat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Art Institute, Chica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4-10CYRETEQ00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858000" cy="4505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123280" y="5638680"/>
            <a:ext cx="47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Seura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parade de cirqu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eurat-La_Parade_detail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3467160" cy="5629320"/>
          </a:xfrm>
          <a:prstGeom prst="rect">
            <a:avLst/>
          </a:prstGeom>
          <a:ln w="0">
            <a:noFill/>
          </a:ln>
        </p:spPr>
      </p:pic>
      <p:pic>
        <p:nvPicPr>
          <p:cNvPr id="48" name="detailpoint" descr=""/>
          <p:cNvPicPr/>
          <p:nvPr/>
        </p:nvPicPr>
        <p:blipFill>
          <a:blip r:embed="rId2"/>
          <a:stretch/>
        </p:blipFill>
        <p:spPr>
          <a:xfrm>
            <a:off x="4191120" y="1219320"/>
            <a:ext cx="472428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aul_Signac_Dimanche" descr=""/>
          <p:cNvPicPr/>
          <p:nvPr/>
        </p:nvPicPr>
        <p:blipFill>
          <a:blip r:embed="rId1"/>
          <a:stretch/>
        </p:blipFill>
        <p:spPr>
          <a:xfrm>
            <a:off x="3276720" y="685800"/>
            <a:ext cx="5451480" cy="5478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1760" y="4648320"/>
            <a:ext cx="2007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Signac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oming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8-189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Colección privad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ul_Signac_Port_de_Marseilles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581880" cy="5477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55880" y="6019920"/>
            <a:ext cx="72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Signac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uerto de Marsel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Ermitage, San Petesburgo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aul_Gauguin_104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553440" cy="527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81240" y="5715000"/>
            <a:ext cx="66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Gaugin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incent Van Gogh pintando los girasol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Amsterdam, Museo Van Gogh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aul_Gauguin_144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21560" cy="5345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04640" y="6019920"/>
            <a:ext cx="49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ujeres de Tahiti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Vincent_Van_Gogh_-_The_Potato_Eaters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477120" cy="4575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892880" y="5791320"/>
            <a:ext cx="54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Vincent van Gog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Comedores de Pata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5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0T01:39:29Z</dcterms:created>
  <dc:creator>Victor Diaz</dc:creator>
  <dc:description/>
  <dc:language>en-US</dc:language>
  <cp:lastModifiedBy>Victor Diaz</cp:lastModifiedBy>
  <dcterms:modified xsi:type="dcterms:W3CDTF">2008-12-26T21:59:00Z</dcterms:modified>
  <cp:revision>18</cp:revision>
  <dc:subject/>
  <dc:title>Paul Cézanne</dc:title>
</cp:coreProperties>
</file>