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B7A5-07AE-49B1-84B8-2B3A6438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3CD8-5B4D-48D3-B773-ECAFC697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AD7F-107F-44A8-B4D0-B28766B2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D84C-C86E-44B6-A2CA-62140417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2D2B-B381-4188-97A6-A23540BB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32BF-826A-4C1A-836D-E8208781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0C87-0C9B-41B7-A0B9-ACA757FC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E996-25D6-4EC9-9913-BD63B00B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F621-D503-4BA9-91F7-2964FF9F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CDD7-0334-41AF-86DD-D4221958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18FC-9E60-425D-8DCD-5A91F39A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6CB5-289D-4D65-B9AD-44231E65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A773-3C5E-4E3A-8320-89D82B38577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omantic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800px-Abtei_im_Eichwald_(C_D_Friedrich)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300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0560" y="6095880"/>
            <a:ext cx="81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btei im Eichwald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,4 por 171 cm; Staatliche Museen, Berlín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00px-Caspar_David_Friedrich_006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569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69560" y="6172200"/>
            <a:ext cx="50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r de hiel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3-2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41px-Chargingchasseur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71168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26920" y="4495680"/>
            <a:ext cx="35992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fficier de chasseurs à chev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la garde impériale chargeant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2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49 por 2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ericault%20-%20La%20balsa%20de%20la%20Medusa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76960" cy="550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1640" y="601992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lsa de la Medus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1819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91 x 717 cm; Museo del Louvre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ericault_envy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946680" cy="4924440"/>
          </a:xfrm>
          <a:prstGeom prst="rect">
            <a:avLst/>
          </a:prstGeom>
          <a:ln w="0">
            <a:noFill/>
          </a:ln>
        </p:spPr>
      </p:pic>
      <p:pic>
        <p:nvPicPr>
          <p:cNvPr id="48" name="gericault.insane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401520" y="5383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c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6640" y="614520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1824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87120" y="538308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onomane de l'env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ericault001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132080" cy="5271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66400" y="6095880"/>
            <a:ext cx="31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Retrato de una mujer insa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oto1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248160" cy="4713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4440" y="5943600"/>
            <a:ext cx="84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é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ante y Virgilio en los infier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 18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ugène_Delacroix_-_La_liberté_guidant_le_peuple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781680" cy="5585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7560" y="6095880"/>
            <a:ext cx="88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è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liberté guidant le peupl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9 por 352;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471px-Caspar_David_Friedrich_03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083200" cy="6477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15600" y="4800600"/>
            <a:ext cx="27014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Wander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über dem Nebelme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5 por 9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05fried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67760" y="5791320"/>
            <a:ext cx="5408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je a la orilla del ma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71,5 cm; Staatliche Museen, Berlín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21:32:04Z</dcterms:created>
  <dc:creator>Victor Diaz</dc:creator>
  <dc:description/>
  <dc:language>en-US</dc:language>
  <cp:lastModifiedBy>Victor Diaz</cp:lastModifiedBy>
  <dcterms:modified xsi:type="dcterms:W3CDTF">2008-12-07T00:44:48Z</dcterms:modified>
  <cp:revision>12</cp:revision>
  <dc:subject/>
  <dc:title>Romanticismo</dc:title>
</cp:coreProperties>
</file>