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A38B6-BD60-41E0-B434-ECD408607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78586-196A-4F8E-B393-230D91E90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9FAF3-3010-40BC-B4CA-0EE76322D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A7FD3-F3E8-439D-83EE-0AEBD8E76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229D2-182A-4DA5-8E27-4C0639E05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AF5A9-D57D-4D55-8A97-22947BC51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3A8C5-C1A6-4B60-A6CC-D742B3C2F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05973-BBEA-4D82-A060-51E733DDC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769D1-2556-4107-9FEE-67B3DAEC9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FDDD1-2EF9-427F-8278-3210A4226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41366-6B49-4304-BA58-5550F23C2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ED52F-1A3C-4A95-8AAB-EB2723F30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64EBD-286E-49AA-86E8-0C3507A3EB5E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El neoclásico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rte del siglo XIX (2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370px-Ingres,_Napoleon_on_his_Imperial_throne" descr=""/>
          <p:cNvPicPr/>
          <p:nvPr/>
        </p:nvPicPr>
        <p:blipFill>
          <a:blip r:embed="rId1"/>
          <a:stretch/>
        </p:blipFill>
        <p:spPr>
          <a:xfrm>
            <a:off x="4191120" y="152280"/>
            <a:ext cx="4135320" cy="67057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373680" y="4876920"/>
            <a:ext cx="3524400" cy="16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Ingres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eaeaea"/>
                </a:solidFill>
                <a:latin typeface="Times New Roman"/>
              </a:rPr>
              <a:t>Napoleón en su torno imperial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1806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259 x 162 cm;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Museo del Ejército, Parí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La%20Bañista%20de%20Valpincon”%20(1808)%20Óleo%20en%20tela%20146%20x97.5%20cm" descr=""/>
          <p:cNvPicPr/>
          <p:nvPr/>
        </p:nvPicPr>
        <p:blipFill>
          <a:blip r:embed="rId1"/>
          <a:stretch/>
        </p:blipFill>
        <p:spPr>
          <a:xfrm>
            <a:off x="533520" y="152280"/>
            <a:ext cx="4305240" cy="64771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5634720" y="5105520"/>
            <a:ext cx="292104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Ingres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a Bañista de Valpincon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08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46 x97.5 cm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Dominique_Ingres_-_Le_Bain_turc" descr=""/>
          <p:cNvPicPr/>
          <p:nvPr/>
        </p:nvPicPr>
        <p:blipFill>
          <a:blip r:embed="rId1"/>
          <a:stretch/>
        </p:blipFill>
        <p:spPr>
          <a:xfrm>
            <a:off x="1828800" y="304920"/>
            <a:ext cx="5676840" cy="57150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1360440" y="6172200"/>
            <a:ext cx="699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Ingres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e Bain turc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62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108 por 108 cm; Museo del Louvre, París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dejeuner" descr=""/>
          <p:cNvPicPr/>
          <p:nvPr/>
        </p:nvPicPr>
        <p:blipFill>
          <a:blip r:embed="rId1"/>
          <a:stretch/>
        </p:blipFill>
        <p:spPr>
          <a:xfrm>
            <a:off x="838080" y="304920"/>
            <a:ext cx="7315200" cy="54864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4345200" y="60199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1863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jldnapoleon" descr=""/>
          <p:cNvPicPr/>
          <p:nvPr/>
        </p:nvPicPr>
        <p:blipFill>
          <a:blip r:embed="rId1"/>
          <a:stretch/>
        </p:blipFill>
        <p:spPr>
          <a:xfrm>
            <a:off x="152280" y="990720"/>
            <a:ext cx="4469040" cy="5181480"/>
          </a:xfrm>
          <a:prstGeom prst="rect">
            <a:avLst/>
          </a:prstGeom>
          <a:ln w="0">
            <a:noFill/>
          </a:ln>
        </p:spPr>
      </p:pic>
      <p:pic>
        <p:nvPicPr>
          <p:cNvPr id="44" name="napoleonpic" descr=""/>
          <p:cNvPicPr/>
          <p:nvPr/>
        </p:nvPicPr>
        <p:blipFill>
          <a:blip r:embed="rId2"/>
          <a:stretch/>
        </p:blipFill>
        <p:spPr>
          <a:xfrm>
            <a:off x="4800600" y="990720"/>
            <a:ext cx="414828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napoleon-en-su-estudio-1812" descr=""/>
          <p:cNvPicPr/>
          <p:nvPr/>
        </p:nvPicPr>
        <p:blipFill>
          <a:blip r:embed="rId1"/>
          <a:stretch/>
        </p:blipFill>
        <p:spPr>
          <a:xfrm>
            <a:off x="1371600" y="228600"/>
            <a:ext cx="3797280" cy="64771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5555880" y="5638680"/>
            <a:ext cx="3278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Jacques-Louis David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Napoleón en su estudio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12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David%20El%20Juramento%20de%20Los%20Horacios" descr=""/>
          <p:cNvPicPr/>
          <p:nvPr/>
        </p:nvPicPr>
        <p:blipFill>
          <a:blip r:embed="rId1"/>
          <a:stretch/>
        </p:blipFill>
        <p:spPr>
          <a:xfrm>
            <a:off x="1219320" y="304920"/>
            <a:ext cx="6972120" cy="54244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65400" y="6019920"/>
            <a:ext cx="871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David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El Juramento de Los Horacios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784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330 x 425 cm; Museo del Louvre, París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David%20Bruto%20y%20los%20Cadáveres%20de%20sus%20hijos" descr=""/>
          <p:cNvPicPr/>
          <p:nvPr/>
        </p:nvPicPr>
        <p:blipFill>
          <a:blip r:embed="rId1"/>
          <a:stretch/>
        </p:blipFill>
        <p:spPr>
          <a:xfrm>
            <a:off x="1066680" y="304920"/>
            <a:ext cx="7093080" cy="5391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051560" y="6095880"/>
            <a:ext cx="714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David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os Lictores traen a Bruto los Cadáveres de sus hijos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789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133720" y="6095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01680" y="3886200"/>
            <a:ext cx="23464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David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eaeaea"/>
                </a:solidFill>
                <a:latin typeface="Times New Roman"/>
              </a:rPr>
              <a:t>La muerte de Marat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1793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165 por 128 cm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Museo Rea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de Bellas Artes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de Bélgica, Bruselas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3" name="466px-Death_of_Marat_by_David" descr=""/>
          <p:cNvPicPr/>
          <p:nvPr/>
        </p:nvPicPr>
        <p:blipFill>
          <a:blip r:embed="rId1"/>
          <a:stretch/>
        </p:blipFill>
        <p:spPr>
          <a:xfrm>
            <a:off x="3681360" y="228600"/>
            <a:ext cx="4979880" cy="639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302david" descr=""/>
          <p:cNvPicPr/>
          <p:nvPr/>
        </p:nvPicPr>
        <p:blipFill>
          <a:blip r:embed="rId1"/>
          <a:stretch/>
        </p:blipFill>
        <p:spPr>
          <a:xfrm>
            <a:off x="1295280" y="1295280"/>
            <a:ext cx="6615360" cy="45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la-coronacion-de-napoleon-y-josefina-1804" descr=""/>
          <p:cNvPicPr/>
          <p:nvPr/>
        </p:nvPicPr>
        <p:blipFill>
          <a:blip r:embed="rId1"/>
          <a:stretch/>
        </p:blipFill>
        <p:spPr>
          <a:xfrm>
            <a:off x="457200" y="228600"/>
            <a:ext cx="8381880" cy="52801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1815480" y="6019920"/>
            <a:ext cx="563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David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a coronación de Napoleón y Josefina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1804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apotiosis%20de%20homero_ingres" descr=""/>
          <p:cNvPicPr/>
          <p:nvPr/>
        </p:nvPicPr>
        <p:blipFill>
          <a:blip r:embed="rId1"/>
          <a:stretch/>
        </p:blipFill>
        <p:spPr>
          <a:xfrm>
            <a:off x="1828800" y="228600"/>
            <a:ext cx="5638680" cy="5472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1355040" y="5943600"/>
            <a:ext cx="66196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Jean Auguste Dominique Ingres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Apoteosis de Homero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27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386 x 515 cm; Museo Nacional del Louvre, Parí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6T00:29:19Z</dcterms:created>
  <dc:creator>Victor Diaz</dc:creator>
  <dc:description/>
  <dc:language>en-US</dc:language>
  <cp:lastModifiedBy>Victor Diaz</cp:lastModifiedBy>
  <dcterms:modified xsi:type="dcterms:W3CDTF">2008-12-06T21:32:00Z</dcterms:modified>
  <cp:revision>19</cp:revision>
  <dc:subject/>
  <dc:title>El neoclásico</dc:title>
</cp:coreProperties>
</file>