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CA29-D81E-46D9-A76D-A5B06B379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FCF6-0EE6-4B32-9110-3BB8C6DC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40CF-0CA9-422E-9654-2EA1B97D5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1B16-C0AB-4981-AD4A-FA2F146D1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C030-B9AC-41E8-A9C8-4E327B30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0124-F767-437F-B53C-95A774A6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EC87-C106-474C-AA5B-F079EE77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2258-DBC9-4D35-B365-26C04828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A99A-D7FA-44C3-B86D-6C1D2F76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0863-0C46-4344-9586-128B1246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8B01-7CB1-4B59-8121-F68ED711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191B-C3B9-4D60-B830-E8BB71F2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BBDE-12FC-40B4-9FF6-9DF24C58749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proximación comprensiva a las Artes Visuales II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La representación como problema: el problema de la representación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goya_3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4324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67080" y="5486400"/>
            <a:ext cx="7579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José de Goya y Lucientes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aja desnud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790 - 1800 ¿?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97 por 190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Hacia%201800-1805_95por188_museo%20del%20prado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4029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42080" y="5715000"/>
            <a:ext cx="816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aja vestida.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1800 - 1805 ¿?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95 por 188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lympia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153640" cy="5477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79560" y="6019920"/>
            <a:ext cx="74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Édouard  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lympi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90 por 130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86%20Manet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7334280" cy="5524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94320" y="6095880"/>
            <a:ext cx="537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 bar de las Folies Bergèr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1 - 82 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682960" cy="648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0840" y="4648320"/>
            <a:ext cx="2863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Diego de Velázquez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eaeaea"/>
                </a:solidFill>
                <a:latin typeface="Times New Roman"/>
              </a:rPr>
              <a:t>Las meninas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1656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Óleo sobre tela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318 por 276 cm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Museo del Prado, Madrid</a:t>
            </a: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Velazquez%20-%20Venus%20del%20Espejo" descr=""/>
          <p:cNvPicPr/>
          <p:nvPr/>
        </p:nvPicPr>
        <p:blipFill>
          <a:blip r:embed="rId1"/>
          <a:stretch/>
        </p:blipFill>
        <p:spPr>
          <a:xfrm>
            <a:off x="914400" y="272880"/>
            <a:ext cx="7543800" cy="516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4640" y="5943600"/>
            <a:ext cx="86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Velázquez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Venus del espej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647 - 51 ¿?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122 x 177 cm; The National Gallery, Londr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holbein" descr=""/>
          <p:cNvPicPr/>
          <p:nvPr/>
        </p:nvPicPr>
        <p:blipFill>
          <a:blip r:embed="rId1"/>
          <a:stretch/>
        </p:blipFill>
        <p:spPr>
          <a:xfrm>
            <a:off x="3124080" y="609480"/>
            <a:ext cx="5791320" cy="5713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2120" y="4648320"/>
            <a:ext cx="2867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ans Holbein (el joven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embajadore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533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209 por 207 cm; Nationa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allery, Lond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49px-Holbein_Ambassadors_anamorphosis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71560" cy="3555720"/>
          </a:xfrm>
          <a:prstGeom prst="rect">
            <a:avLst/>
          </a:prstGeom>
          <a:ln w="0">
            <a:noFill/>
          </a:ln>
        </p:spPr>
      </p:pic>
      <p:pic>
        <p:nvPicPr>
          <p:cNvPr id="50" name="Skull-Ambassadors" descr=""/>
          <p:cNvPicPr/>
          <p:nvPr/>
        </p:nvPicPr>
        <p:blipFill>
          <a:blip r:embed="rId2"/>
          <a:stretch/>
        </p:blipFill>
        <p:spPr>
          <a:xfrm>
            <a:off x="1981080" y="2895480"/>
            <a:ext cx="2292480" cy="2319480"/>
          </a:xfrm>
          <a:prstGeom prst="rect">
            <a:avLst/>
          </a:prstGeom>
          <a:ln w="0">
            <a:noFill/>
          </a:ln>
        </p:spPr>
      </p:pic>
      <p:pic>
        <p:nvPicPr>
          <p:cNvPr id="51" name="220px-Holbein_spoon_trick" descr=""/>
          <p:cNvPicPr/>
          <p:nvPr/>
        </p:nvPicPr>
        <p:blipFill>
          <a:blip r:embed="rId3"/>
          <a:stretch/>
        </p:blipFill>
        <p:spPr>
          <a:xfrm>
            <a:off x="4800600" y="2286000"/>
            <a:ext cx="38098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lbrecht%20Dürer%20(1471-1528).%20%20Underweysung%20der%20Messung" descr=""/>
          <p:cNvPicPr/>
          <p:nvPr/>
        </p:nvPicPr>
        <p:blipFill>
          <a:blip r:embed="rId1"/>
          <a:stretch/>
        </p:blipFill>
        <p:spPr>
          <a:xfrm>
            <a:off x="304920" y="237960"/>
            <a:ext cx="4440240" cy="6620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0520" y="5334120"/>
            <a:ext cx="323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Albrecht Dürer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derweysung der Messung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rnolfini" descr=""/>
          <p:cNvPicPr/>
          <p:nvPr/>
        </p:nvPicPr>
        <p:blipFill>
          <a:blip r:embed="rId1"/>
          <a:stretch/>
        </p:blipFill>
        <p:spPr>
          <a:xfrm>
            <a:off x="3733920" y="228600"/>
            <a:ext cx="4687920" cy="6477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29200" y="5410080"/>
            <a:ext cx="281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an Van Eyck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matrimonio Arnolfini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434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rnolfini_det1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62780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rnolfini3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5638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20:02:32Z</dcterms:created>
  <dc:creator>Victor Diaz</dc:creator>
  <dc:description/>
  <dc:language>en-US</dc:language>
  <cp:lastModifiedBy>Victor Diaz</cp:lastModifiedBy>
  <dcterms:modified xsi:type="dcterms:W3CDTF">2008-12-04T22:46:07Z</dcterms:modified>
  <cp:revision>14</cp:revision>
  <dc:subject/>
  <dc:title>Aproximación comprensiva a las Artes Visuales II.</dc:title>
</cp:coreProperties>
</file>