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EE27-33A2-488C-8654-7257CEBA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8626-1468-473A-B4DA-B2B86068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F46-32BA-4F46-A0A6-2FD12E38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DE4-21FE-453F-80A5-AF0DD182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22FA-57FD-4A58-A381-A92A07EE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32FB-E1E3-40ED-B136-C0EC319C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D6FF-6A22-42B9-8684-01B2E7B8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1466-D060-4C40-80DF-BCBD0A68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0020-FAED-47BF-B9B3-E7525590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1497-16E9-4188-99DE-CC613B58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6EE1-32AE-4EB6-BEDC-B15D2459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29D3-3400-4E91-A303-94567283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416F-8C27-47D9-B0A3-46868428F51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roximación comprensiva a las Artes Visuales II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a representación como problema: el problema de la representació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ya_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32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080" y="5486400"/>
            <a:ext cx="757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José de Goya y Lucientes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desnud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90 - 1800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7 por 190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cia%201800-1805_95por188_museo%20del%20pra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080" y="57150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vestida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800 - 1805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5 por 188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lympia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54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9560" y="6019920"/>
            <a:ext cx="74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6%20Mane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34280" cy="552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94320" y="609588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bar de las Folies Bergèr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1 - 82 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829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0840" y="4648320"/>
            <a:ext cx="286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iego de Velázquez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Las menin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1656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Óleo sobre tel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318 por 276 cm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elazquez%20-%20Venus%20del%20Espejo" descr=""/>
          <p:cNvPicPr/>
          <p:nvPr/>
        </p:nvPicPr>
        <p:blipFill>
          <a:blip r:embed="rId1"/>
          <a:stretch/>
        </p:blipFill>
        <p:spPr>
          <a:xfrm>
            <a:off x="914400" y="272880"/>
            <a:ext cx="7543800" cy="516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640" y="5943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Venus del espej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647 - 51 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22 x 177 cm; The National Gallery, Lond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lbe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5791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2120" y="4648320"/>
            <a:ext cx="286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Holbein (el joven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embajad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533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209 por 207 cm; Nat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allery, Lond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px-Holbein_Ambassadors_anamorphosis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71560" cy="3555720"/>
          </a:xfrm>
          <a:prstGeom prst="rect">
            <a:avLst/>
          </a:prstGeom>
          <a:ln w="0">
            <a:noFill/>
          </a:ln>
        </p:spPr>
      </p:pic>
      <p:pic>
        <p:nvPicPr>
          <p:cNvPr id="50" name="Skull-Ambassadors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22924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220px-Holbein_spoon_trick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brecht%20Dürer%20(1471-1528).%20%20Underweysung%20der%20Messung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444024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0520" y="533412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lbrecht Düre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derweysung der Messung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nolfini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687920" cy="647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00" y="541008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n Van Eyck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matrimonio Arnolfin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3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nolfini_det1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2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nolfini3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2:32Z</dcterms:created>
  <dc:creator>Victor Diaz</dc:creator>
  <dc:description/>
  <dc:language>en-US</dc:language>
  <cp:lastModifiedBy>Victor Diaz</cp:lastModifiedBy>
  <dcterms:modified xsi:type="dcterms:W3CDTF">2008-12-04T22:46:07Z</dcterms:modified>
  <cp:revision>14</cp:revision>
  <dc:subject/>
  <dc:title>Aproximación comprensiva a las Artes Visuales II.</dc:title>
</cp:coreProperties>
</file>