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3BCD-A8C2-43B8-BED8-1ACF9933B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3E5C-2724-488E-890B-25ED636D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9149-7789-47D2-9543-34B333A9F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EE93-4F87-4870-922A-9E2003509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914A-E214-4272-9E96-0FE68EB6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36F7-60F9-4D7D-8D1A-6DCC7B5D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D8CA-91C5-4B44-99ED-3F2B84A4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7E75-2B78-4D35-9B7F-CC6CAF15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1084-4038-4227-BDB2-C4879A06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9FCE-284C-4C68-965E-06A6CB12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82A3-AD1B-4B55-984F-18FCE1B0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D8FB-3F7B-493E-8306-0F19A6B4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3911-CD50-4E11-B52B-3310FED188F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 neoclásic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2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370px-Ingres,_Napoleon_on_his_Imperial_throne" descr=""/>
          <p:cNvPicPr/>
          <p:nvPr/>
        </p:nvPicPr>
        <p:blipFill>
          <a:blip r:embed="rId1"/>
          <a:stretch/>
        </p:blipFill>
        <p:spPr>
          <a:xfrm>
            <a:off x="4191120" y="152280"/>
            <a:ext cx="4135320" cy="6705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73680" y="4876920"/>
            <a:ext cx="352440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Napoleón en su torno imperia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06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59 x 162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Museo del Ejército, Parí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La%20Bañista%20de%20Valpincon”%20(1808)%20Óleo%20en%20tela%20146%20x97.5%20cm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4305240" cy="6477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634720" y="5105520"/>
            <a:ext cx="29210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ñista de Valpinc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08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46 x97.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ominique_Ingres_-_Le_Bain_turc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67684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60440" y="6172200"/>
            <a:ext cx="69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in turc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2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08 por 108 cm; 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dejeuner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345200" y="60199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86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jldnapoleon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469040" cy="5181480"/>
          </a:xfrm>
          <a:prstGeom prst="rect">
            <a:avLst/>
          </a:prstGeom>
          <a:ln w="0">
            <a:noFill/>
          </a:ln>
        </p:spPr>
      </p:pic>
      <p:pic>
        <p:nvPicPr>
          <p:cNvPr id="44" name="napoleonpic" descr=""/>
          <p:cNvPicPr/>
          <p:nvPr/>
        </p:nvPicPr>
        <p:blipFill>
          <a:blip r:embed="rId2"/>
          <a:stretch/>
        </p:blipFill>
        <p:spPr>
          <a:xfrm>
            <a:off x="4800600" y="990720"/>
            <a:ext cx="41482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napoleon-en-su-estudio-1812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3797280" cy="6477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55880" y="5638680"/>
            <a:ext cx="327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cques-Louis 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poleón en su estudi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avid%20El%20Juramento%20de%20Los%20Horacios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972120" cy="54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5400" y="6019920"/>
            <a:ext cx="87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Juramento de Los Horaci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784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30 x 425 cm; 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avid%20Bruto%20y%20los%20Cadáveres%20de%20sus%20hijos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093080" cy="5391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51560" y="6095880"/>
            <a:ext cx="714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Lictores traen a Bruto los Cadáveres de sus hij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78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3372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1680" y="3886200"/>
            <a:ext cx="2346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uerte de Marat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793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65 por 128 cm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seo Re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e Bellas Artes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e Bélgica, Brusela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3" name="466px-Death_of_Marat_by_David" descr=""/>
          <p:cNvPicPr/>
          <p:nvPr/>
        </p:nvPicPr>
        <p:blipFill>
          <a:blip r:embed="rId1"/>
          <a:stretch/>
        </p:blipFill>
        <p:spPr>
          <a:xfrm>
            <a:off x="3681360" y="228600"/>
            <a:ext cx="497988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302david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61536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la-coronacion-de-napoleon-y-josefina-180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280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815480" y="601992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oronación de Napoleón y Josefi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1804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potiosis%20de%20homero_ingres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638680" cy="5472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55040" y="5943600"/>
            <a:ext cx="6619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ean Auguste Dominique Ingre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poteosis de Homer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86 x 515 cm; Museo Nacional del Louvre, Parí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00:29:19Z</dcterms:created>
  <dc:creator>Victor Diaz</dc:creator>
  <dc:description/>
  <dc:language>en-US</dc:language>
  <cp:lastModifiedBy>Victor Diaz</cp:lastModifiedBy>
  <dcterms:modified xsi:type="dcterms:W3CDTF">2008-12-06T21:32:00Z</dcterms:modified>
  <cp:revision>19</cp:revision>
  <dc:subject/>
  <dc:title>El neoclásico</dc:title>
</cp:coreProperties>
</file>