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8C115-5564-4FB9-95C4-EDE7F9387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C08DE-1DAC-41A1-8B73-D963FBC83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718C8-1343-451A-8D1C-C787D2954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F17F9-689A-49C9-83F2-4D28CD6DE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D1884-772F-4C71-B704-5FAF320B1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42562-8AFB-45C7-8FCF-46FC545BE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9BFA3-064B-46E0-AC05-B617D8001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E35D8-A1B7-486E-BCDC-461A0655F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0E92D-A0D3-4BF5-A25F-2EE1D2D65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10096-5B1C-457D-914C-688AD5A9D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F1E31-41A8-48F0-99EC-8D9628638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F74C6-7B36-4946-927E-BC69B75F0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92FC0-77E9-41D7-AEB0-78EDD4BF2D16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Aproximación comprensiva a las Artes Visuales II.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eaeaea"/>
                </a:solidFill>
                <a:latin typeface="Times New Roman"/>
              </a:rPr>
              <a:t>La representación como problema: el problema de la representación.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goya_34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8534160" cy="43243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667080" y="5486400"/>
            <a:ext cx="75798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rancisco José de Goya y Lucientes. </a:t>
            </a:r>
            <a:r>
              <a:rPr b="1" i="1" lang="en-US" sz="2000" spc="-1" strike="noStrike">
                <a:solidFill>
                  <a:srgbClr val="eaeaea"/>
                </a:solidFill>
                <a:latin typeface="Times New Roman"/>
              </a:rPr>
              <a:t>La maja desnuda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. 1790 - 1800 ¿?.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97 por 190 cm; Museo del Prado, Madrid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Hacia%201800-1805_95por188_museo%20del%20prado" descr=""/>
          <p:cNvPicPr/>
          <p:nvPr/>
        </p:nvPicPr>
        <p:blipFill>
          <a:blip r:embed="rId1"/>
          <a:stretch/>
        </p:blipFill>
        <p:spPr>
          <a:xfrm>
            <a:off x="457200" y="380880"/>
            <a:ext cx="8229600" cy="40291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42080" y="5715000"/>
            <a:ext cx="816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Goya. </a:t>
            </a:r>
            <a:r>
              <a:rPr b="1" i="1" lang="en-US" sz="2000" spc="-1" strike="noStrike">
                <a:solidFill>
                  <a:srgbClr val="eaeaea"/>
                </a:solidFill>
                <a:latin typeface="Times New Roman"/>
              </a:rPr>
              <a:t>La maja vestida.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 1800 - 1805 ¿?.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95 por 188 cm; Museo del Prado, Madrid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olympia" descr=""/>
          <p:cNvPicPr/>
          <p:nvPr/>
        </p:nvPicPr>
        <p:blipFill>
          <a:blip r:embed="rId1"/>
          <a:stretch/>
        </p:blipFill>
        <p:spPr>
          <a:xfrm>
            <a:off x="609480" y="228600"/>
            <a:ext cx="8153640" cy="547704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979560" y="6019920"/>
            <a:ext cx="741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Édouard  Manet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Olympia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63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190 por 130 cm; Museo de Orsay, París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86%20Manet" descr=""/>
          <p:cNvPicPr/>
          <p:nvPr/>
        </p:nvPicPr>
        <p:blipFill>
          <a:blip r:embed="rId1"/>
          <a:stretch/>
        </p:blipFill>
        <p:spPr>
          <a:xfrm>
            <a:off x="914400" y="152280"/>
            <a:ext cx="7334280" cy="55245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894320" y="6095880"/>
            <a:ext cx="537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Manet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Un bar de las Folies Bergère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81 - 82 ¿?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5682960" cy="6480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6090840" y="4648320"/>
            <a:ext cx="2863080" cy="19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Times New Roman"/>
              </a:rPr>
              <a:t>Diego de Velázquez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eaeaea"/>
                </a:solidFill>
                <a:latin typeface="Times New Roman"/>
              </a:rPr>
              <a:t>Las meninas</a:t>
            </a:r>
            <a:r>
              <a:rPr b="0" lang="es-ES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Times New Roman"/>
              </a:rPr>
              <a:t>1656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Times New Roman"/>
              </a:rPr>
              <a:t>Óleo sobre tela,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Times New Roman"/>
              </a:rPr>
              <a:t>318 por 276 cm;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Times New Roman"/>
              </a:rPr>
              <a:t>Museo del Prado, Madrid</a:t>
            </a:r>
            <a:r>
              <a:rPr b="0" lang="es-ES" sz="24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Velazquez%20-%20Venus%20del%20Espejo" descr=""/>
          <p:cNvPicPr/>
          <p:nvPr/>
        </p:nvPicPr>
        <p:blipFill>
          <a:blip r:embed="rId1"/>
          <a:stretch/>
        </p:blipFill>
        <p:spPr>
          <a:xfrm>
            <a:off x="914400" y="272880"/>
            <a:ext cx="7543800" cy="51692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24640" y="5943600"/>
            <a:ext cx="866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Velázquez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a Venus del espejo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647 - 51 ¿?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s-ES_tradnl" sz="1600" spc="-1" strike="noStrike">
                <a:solidFill>
                  <a:srgbClr val="eaeaea"/>
                </a:solidFill>
                <a:latin typeface="Times New Roman"/>
              </a:rPr>
              <a:t>122 x 177 cm; The National Gallery, Londres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holbein" descr=""/>
          <p:cNvPicPr/>
          <p:nvPr/>
        </p:nvPicPr>
        <p:blipFill>
          <a:blip r:embed="rId1"/>
          <a:stretch/>
        </p:blipFill>
        <p:spPr>
          <a:xfrm>
            <a:off x="3124080" y="609480"/>
            <a:ext cx="5791320" cy="57135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22120" y="4648320"/>
            <a:ext cx="28674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Hans Holbein (el joven)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os embajadores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533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209 por 207 cm; National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Gallery, Londres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49px-Holbein_Ambassadors_anamorphosis" descr=""/>
          <p:cNvPicPr/>
          <p:nvPr/>
        </p:nvPicPr>
        <p:blipFill>
          <a:blip r:embed="rId1"/>
          <a:stretch/>
        </p:blipFill>
        <p:spPr>
          <a:xfrm>
            <a:off x="533520" y="1676520"/>
            <a:ext cx="871560" cy="3555720"/>
          </a:xfrm>
          <a:prstGeom prst="rect">
            <a:avLst/>
          </a:prstGeom>
          <a:ln w="0">
            <a:noFill/>
          </a:ln>
        </p:spPr>
      </p:pic>
      <p:pic>
        <p:nvPicPr>
          <p:cNvPr id="50" name="Skull-Ambassadors" descr=""/>
          <p:cNvPicPr/>
          <p:nvPr/>
        </p:nvPicPr>
        <p:blipFill>
          <a:blip r:embed="rId2"/>
          <a:stretch/>
        </p:blipFill>
        <p:spPr>
          <a:xfrm>
            <a:off x="1981080" y="2895480"/>
            <a:ext cx="2292480" cy="2319480"/>
          </a:xfrm>
          <a:prstGeom prst="rect">
            <a:avLst/>
          </a:prstGeom>
          <a:ln w="0">
            <a:noFill/>
          </a:ln>
        </p:spPr>
      </p:pic>
      <p:pic>
        <p:nvPicPr>
          <p:cNvPr id="51" name="220px-Holbein_spoon_trick" descr=""/>
          <p:cNvPicPr/>
          <p:nvPr/>
        </p:nvPicPr>
        <p:blipFill>
          <a:blip r:embed="rId3"/>
          <a:stretch/>
        </p:blipFill>
        <p:spPr>
          <a:xfrm>
            <a:off x="4800600" y="2286000"/>
            <a:ext cx="3809880" cy="29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Albrecht%20Dürer%20(1471-1528).%20%20Underweysung%20der%20Messung" descr=""/>
          <p:cNvPicPr/>
          <p:nvPr/>
        </p:nvPicPr>
        <p:blipFill>
          <a:blip r:embed="rId1"/>
          <a:stretch/>
        </p:blipFill>
        <p:spPr>
          <a:xfrm>
            <a:off x="304920" y="237960"/>
            <a:ext cx="4440240" cy="66200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5330520" y="5334120"/>
            <a:ext cx="3231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Albrecht Dürer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Underweysung der Messung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arnolfini" descr=""/>
          <p:cNvPicPr/>
          <p:nvPr/>
        </p:nvPicPr>
        <p:blipFill>
          <a:blip r:embed="rId1"/>
          <a:stretch/>
        </p:blipFill>
        <p:spPr>
          <a:xfrm>
            <a:off x="3733920" y="228600"/>
            <a:ext cx="4687920" cy="64771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529200" y="5410080"/>
            <a:ext cx="2818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Jan Van Eyck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El matrimonio Arnolfini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434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Arnolfini_det1" descr=""/>
          <p:cNvPicPr/>
          <p:nvPr/>
        </p:nvPicPr>
        <p:blipFill>
          <a:blip r:embed="rId1"/>
          <a:stretch/>
        </p:blipFill>
        <p:spPr>
          <a:xfrm>
            <a:off x="2438280" y="304920"/>
            <a:ext cx="4627800" cy="63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arnolfini3" descr=""/>
          <p:cNvPicPr/>
          <p:nvPr/>
        </p:nvPicPr>
        <p:blipFill>
          <a:blip r:embed="rId1"/>
          <a:stretch/>
        </p:blipFill>
        <p:spPr>
          <a:xfrm>
            <a:off x="1905120" y="685800"/>
            <a:ext cx="563868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4T20:02:32Z</dcterms:created>
  <dc:creator>Victor Diaz</dc:creator>
  <dc:description/>
  <dc:language>en-US</dc:language>
  <cp:lastModifiedBy>Victor Diaz</cp:lastModifiedBy>
  <dcterms:modified xsi:type="dcterms:W3CDTF">2008-12-04T22:46:07Z</dcterms:modified>
  <cp:revision>14</cp:revision>
  <dc:subject/>
  <dc:title>Aproximación comprensiva a las Artes Visuales II.</dc:title>
</cp:coreProperties>
</file>