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151-0BE0-401D-8A62-9295806F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894A-3179-4B01-9412-7B198685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A79D-2F05-4F06-8C0C-9FCB4E5E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5C3-AAED-46CB-9A16-5C56A187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EF55-8A26-4B69-8358-AD2F44E2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264-DEA0-4790-AE1F-0CE251A1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0173-202F-4F33-8453-5581D959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2049-348C-4741-8B0F-D5740A65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BA0-84DB-4A78-92BF-C2E39C23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0976-8729-4E7C-98E5-D4A713C8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99FF-7731-45D4-A865-4CE8672C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0189-36F0-415C-BDF0-F68C6AC7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E9EB-21A9-4FF7-9D88-42203A7D97A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neoclásic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70px-Ingres,_Napoleon_on_his_Imperial_throne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35320" cy="670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3680" y="4876920"/>
            <a:ext cx="35244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en su torno imperia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59 x 162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useo del Ejército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a%20Bañista%20de%20Valpincon”%20(1808)%20Óleo%20en%20tela%20146%20x97.5%20cm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4720" y="5105520"/>
            <a:ext cx="292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ñista de Valpin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6 x97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ominique_Ingres_-_Le_Bain_tur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04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in turc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8 por 108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4520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ldnapoleon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6904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napoleonpic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48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poleon-en-su-estudio-18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797280" cy="647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5880" y="5638680"/>
            <a:ext cx="32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en su estud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avid%20El%20Juramento%20de%20Los%20Horacio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72120" cy="54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400" y="6019920"/>
            <a:ext cx="87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Juramento de Los Horaci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30 x 425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vid%20Bruto%20y%20los%20Cadáveres%20de%20sus%20hijos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930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1560" y="6095880"/>
            <a:ext cx="71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Lictores traen a Bruto los Cadáveres de sus hij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3886200"/>
            <a:ext cx="23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uerte de Mara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93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65 por 128 cm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R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ellas Art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élgica, Brusel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466px-Death_of_Marat_by_David" descr=""/>
          <p:cNvPicPr/>
          <p:nvPr/>
        </p:nvPicPr>
        <p:blipFill>
          <a:blip r:embed="rId1"/>
          <a:stretch/>
        </p:blipFill>
        <p:spPr>
          <a:xfrm>
            <a:off x="3681360" y="228600"/>
            <a:ext cx="4979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2david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153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-coronacion-de-napoleon-y-josefina-18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15480" y="601992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oronación de Napoleón y Josefi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180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potiosis%20de%20homero_ingres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386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55040" y="5943600"/>
            <a:ext cx="6619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ean Auguste Dominique 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poteosis de Homer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6 x 515 cm; Museo Nacional del Louvre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0:29:19Z</dcterms:created>
  <dc:creator>Victor Diaz</dc:creator>
  <dc:description/>
  <dc:language>en-US</dc:language>
  <cp:lastModifiedBy>Victor Diaz</cp:lastModifiedBy>
  <dcterms:modified xsi:type="dcterms:W3CDTF">2008-12-06T21:32:00Z</dcterms:modified>
  <cp:revision>19</cp:revision>
  <dc:subject/>
  <dc:title>El neoclásico</dc:title>
</cp:coreProperties>
</file>