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2AEB-6EDF-4E97-B7D4-4C794D41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9555-53BD-4AB0-ACED-FE6DBBD8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7DE5-3A8C-407F-80C2-4A1ACEEA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4934-5FF9-4EAA-A944-2C6ABCF52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9643-AFAE-45DA-834D-9EE83098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E172-04A9-4CD6-9373-2B33649D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01E6-26A6-4FF2-915F-E538FB5E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B39B-318A-4B85-AA1A-91A2AB46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0D50-512E-4A8A-9C8F-DC436DA8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03CD-6BF7-4065-852F-6BC5B624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E5C8-6817-4CF6-B209-9DD60F91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5D26-61D8-44EC-853A-7C36F321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BE31-F418-4DB6-8C2A-0228F65FB90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íspera de la Vanguardia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E0000051780_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408560" cy="6324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97960" y="5029200"/>
            <a:ext cx="388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 et la tour Saint-Romai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ffet du mat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800px-Claude_Monet_038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534520" cy="2922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01400" y="5562720"/>
            <a:ext cx="46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nymphé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20 - 26 ¿?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19 por 602 c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espartanos%20degas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162920" cy="5027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41320" y="5943600"/>
            <a:ext cx="564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jercicios de jóvenes espartan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Edgar_Germain_Hilaire_Degas_021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602320" cy="6248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549480" y="5181480"/>
            <a:ext cx="217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Germain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ilaire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lase de danz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lasedanzacompos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4894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bsinthe" descr=""/>
          <p:cNvPicPr/>
          <p:nvPr/>
        </p:nvPicPr>
        <p:blipFill>
          <a:blip r:embed="rId1"/>
          <a:stretch/>
        </p:blipFill>
        <p:spPr>
          <a:xfrm>
            <a:off x="4038480" y="304920"/>
            <a:ext cx="4551480" cy="6324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14760" y="4724280"/>
            <a:ext cx="24055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'Absinth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2 por 68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Edouard_Manet_040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464000" cy="624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635080" y="5334120"/>
            <a:ext cx="30445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etrato de Berthe Moriso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Berthe_Morisot_002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629400" cy="564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90160" y="6019920"/>
            <a:ext cx="85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Berthe Moriso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ugène Manet en la isla de Wigh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5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Marmottan, Parí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enoir21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705720" cy="4937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358280" y="5715000"/>
            <a:ext cx="665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ierre-Auguste Renoi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 au Moulin de la Galet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1 por 175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mwm07591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05360" cy="568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73920" y="6095880"/>
            <a:ext cx="82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mille Pissarr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ligencia a Enner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4240" y="6019920"/>
            <a:ext cx="81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,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: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Marmottan Monet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" name="Impression,%20Sunrise%20(Monet)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47712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15480" y="5638680"/>
            <a:ext cx="566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issarr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sla de Lacroix con efecto de nieb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; Museo de Arte de Filadelf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9" name="lacroix_island_rouen_in_fog-400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55308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487px-Claude_Monet_024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638600" cy="5705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49520" y="4800600"/>
            <a:ext cx="38962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emmes au jard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6 por 208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5400" y="4876920"/>
            <a:ext cx="34772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sai de figure en plein ai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(vers la droite)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1 x 88 cm; Musée d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8" name="apc" descr=""/>
          <p:cNvPicPr/>
          <p:nvPr/>
        </p:nvPicPr>
        <p:blipFill>
          <a:blip r:embed="rId1"/>
          <a:stretch/>
        </p:blipFill>
        <p:spPr>
          <a:xfrm>
            <a:off x="4419720" y="228600"/>
            <a:ext cx="4273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mp_14b05e04ae5c406e879cd17e7268adb3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4121280" cy="6248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27640" y="4572000"/>
            <a:ext cx="325296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sai de figure en plein-air 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emme à l'ombrell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urnée vers la gauch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ée d'Orsay, Pari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monet.portail-temps-gris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00824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06840" y="5257800"/>
            <a:ext cx="282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, temps gri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pcaa" descr=""/>
          <p:cNvPicPr/>
          <p:nvPr/>
        </p:nvPicPr>
        <p:blipFill>
          <a:blip r:embed="rId1"/>
          <a:stretch/>
        </p:blipFill>
        <p:spPr>
          <a:xfrm>
            <a:off x="4191120" y="228600"/>
            <a:ext cx="4287600" cy="6400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6720" y="5105520"/>
            <a:ext cx="310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Rouen, Le Portai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u de face, hamonie brun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E0000051779_3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384800" cy="6381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32680" y="5334120"/>
            <a:ext cx="288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, soleil matinal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h_monet_rouen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986280" cy="5943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97600" y="4952880"/>
            <a:ext cx="379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edrale de Roue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 et la tour Saint-Romai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lein soleil, harmonie bleue et o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2:55:23Z</dcterms:created>
  <dc:creator>Victor Diaz</dc:creator>
  <dc:description/>
  <dc:language>en-US</dc:language>
  <cp:lastModifiedBy>Victor Diaz</cp:lastModifiedBy>
  <dcterms:modified xsi:type="dcterms:W3CDTF">2008-12-26T02:35:16Z</dcterms:modified>
  <cp:revision>25</cp:revision>
  <dc:subject/>
  <dc:title>Impresionismo y postimpresionismo</dc:title>
</cp:coreProperties>
</file>