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A4B-9D48-4869-A109-AB39DC65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AB5-B81D-463B-86BB-5F6B6E3A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0B5-7291-43B8-9794-855479C1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AB4-6125-4DAF-A92D-E9D637BE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0B9-67CC-482E-806B-39462EA1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FB6-DF93-4933-8809-C49779FC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9DE7-87AA-403D-B9C0-42ADCE3F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F6F-18F2-40B3-A05D-7A60DBE5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80CC-70E4-428B-8624-D8A3B21C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495-1250-4051-9222-A20FDC43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00D-0EEA-4C91-BAEB-DAA474F5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752-2682-4181-869B-A1559337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4C34-4540-4CEE-94AA-31D8E25D39C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decurso de la escultura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eoclásica, romántica, impresionista, assamblage, ready-made y surrealist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evals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654440" cy="624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1480" y="5257800"/>
            <a:ext cx="1966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Claudel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vals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valse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071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58760" y="5105520"/>
            <a:ext cx="2497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equeña bailarina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torce añ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8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" name="Degas___Ballerina_di_14_anni__188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5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SC_3533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72924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tmp_00c9ddb66a2090456024e954c33e4263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05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0033083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2725560" cy="63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0080" y="5943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Guitarr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1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adymade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5594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77720" y="6019920"/>
            <a:ext cx="46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rcel Duchamp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ueda de bicic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kbellmerdoll2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46720" cy="548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36000" y="601992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Bellm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e Pupp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34-3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ans-bellmer%201935.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BellPou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09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orvaldsens_Ganymedes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515360" cy="570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93240" y="6248520"/>
            <a:ext cx="55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el Thorvaldse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animedes con el águi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din__The_Thinker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881600" cy="6248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32640" y="5334120"/>
            <a:ext cx="341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çois-Auguste-René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enseu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originalmente “El Poeta”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nova_-_Napoleone_Bonaparte_-_Milano,_Cortile_del_Palazzo_di_Brera_-_Foto_Giovanni_Dall'Orto_19-jan_2007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037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21640" y="5181480"/>
            <a:ext cx="387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ntonio Canov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como Marte Pacificad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 Napoleón divinizad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nova-napoleon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2846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Napoleon_243x37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389232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84240" y="5181480"/>
            <a:ext cx="268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como Mar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cificado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mera versión de 180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Hoellentor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392616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2760" y="5410080"/>
            <a:ext cx="2338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uguste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orte de l'Enf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191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385072382_f8a493b666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648320" cy="3095640"/>
          </a:xfrm>
          <a:prstGeom prst="rect">
            <a:avLst/>
          </a:prstGeom>
          <a:ln w="0">
            <a:noFill/>
          </a:ln>
        </p:spPr>
      </p:pic>
      <p:pic>
        <p:nvPicPr>
          <p:cNvPr id="55" name="1384172925_e692d18cee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384172023_79e057f0b0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57920" cy="2702160"/>
          </a:xfrm>
          <a:prstGeom prst="rect">
            <a:avLst/>
          </a:prstGeom>
          <a:ln w="0">
            <a:noFill/>
          </a:ln>
        </p:spPr>
      </p:pic>
      <p:pic>
        <p:nvPicPr>
          <p:cNvPr id="57" name="1384170855_e2f81c2965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80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35:50Z</dcterms:created>
  <dc:creator>Victor Diaz</dc:creator>
  <dc:description/>
  <dc:language>en-US</dc:language>
  <cp:lastModifiedBy>Victor Diaz</cp:lastModifiedBy>
  <dcterms:modified xsi:type="dcterms:W3CDTF">2009-01-08T18:22:42Z</dcterms:modified>
  <cp:revision>21</cp:revision>
  <dc:subject/>
  <dc:title>Sin título de diapositiva</dc:title>
</cp:coreProperties>
</file>