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DFECD-4908-46A8-98A4-1BDB31C95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2B33B-1F78-4F21-891C-1C790415C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5C364-F96B-4617-BFD5-4DEB5AB14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ED4F0-7670-4D26-9530-BA3B73E46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ED4C6-A201-43F8-866C-E8F8B1D0F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BB63D-F1F5-4E89-A74C-DFE151E13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6A4C1-1389-4468-8AAF-99A2B8BF8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64D53-AF0D-4639-8D39-D000A9C8C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DACF1-9E13-4E35-B060-C3E547FAB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7385C-57BA-4456-8B0C-7A1C7531B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3E856-BA0A-4BFB-943B-4C230ACD9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0802B-6E4B-41B8-9177-03A92B14E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903C3-549F-4E13-8412-499219EBDEAB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1599840"/>
            <a:ext cx="80010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aeaea"/>
                </a:solidFill>
                <a:latin typeface="Times New Roman"/>
              </a:rPr>
              <a:t>Cézanne: romanticismo, impresionismo, postimpresionismo, constructivismo y el inicio de las vanguardias.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47920" y="6080760"/>
            <a:ext cx="640080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barque-dante" descr=""/>
          <p:cNvPicPr/>
          <p:nvPr/>
        </p:nvPicPr>
        <p:blipFill>
          <a:blip r:embed="rId1"/>
          <a:stretch/>
        </p:blipFill>
        <p:spPr>
          <a:xfrm>
            <a:off x="609480" y="228600"/>
            <a:ext cx="7925040" cy="592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c1613" descr=""/>
          <p:cNvPicPr/>
          <p:nvPr/>
        </p:nvPicPr>
        <p:blipFill>
          <a:blip r:embed="rId1"/>
          <a:stretch/>
        </p:blipFill>
        <p:spPr>
          <a:xfrm>
            <a:off x="1600200" y="380880"/>
            <a:ext cx="5943600" cy="48006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1819800" y="5715000"/>
            <a:ext cx="575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Paul Cézanne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Camino a Pontoise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75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58 x 71 cm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aul-Cezanne-Blue-Vase-162033" descr=""/>
          <p:cNvPicPr/>
          <p:nvPr/>
        </p:nvPicPr>
        <p:blipFill>
          <a:blip r:embed="rId1"/>
          <a:stretch/>
        </p:blipFill>
        <p:spPr>
          <a:xfrm>
            <a:off x="3733920" y="533520"/>
            <a:ext cx="4871880" cy="59436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142280" y="4952880"/>
            <a:ext cx="170172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Paul Cézanne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El vaso azul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85-87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61 x 50 cm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cezannejugadores" descr=""/>
          <p:cNvPicPr/>
          <p:nvPr/>
        </p:nvPicPr>
        <p:blipFill>
          <a:blip r:embed="rId1"/>
          <a:stretch/>
        </p:blipFill>
        <p:spPr>
          <a:xfrm>
            <a:off x="1371600" y="228600"/>
            <a:ext cx="6553080" cy="55627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1587600" y="6095880"/>
            <a:ext cx="618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Paul Cézanne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Jugadores de cartas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90-95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47 x 57 cm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cezanne.pommes-oranges" descr=""/>
          <p:cNvPicPr/>
          <p:nvPr/>
        </p:nvPicPr>
        <p:blipFill>
          <a:blip r:embed="rId1"/>
          <a:stretch/>
        </p:blipFill>
        <p:spPr>
          <a:xfrm>
            <a:off x="1295280" y="457200"/>
            <a:ext cx="6629400" cy="521028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592560" y="6019920"/>
            <a:ext cx="82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Paul Cézanne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Bodegón con manzanas y naranjas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95-1900¿?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74 x 93 cm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cezanne_appsorgs" descr=""/>
          <p:cNvPicPr/>
          <p:nvPr/>
        </p:nvPicPr>
        <p:blipFill>
          <a:blip r:embed="rId1"/>
          <a:stretch/>
        </p:blipFill>
        <p:spPr>
          <a:xfrm>
            <a:off x="1905120" y="1295280"/>
            <a:ext cx="5333760" cy="419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verano" descr=""/>
          <p:cNvPicPr/>
          <p:nvPr/>
        </p:nvPicPr>
        <p:blipFill>
          <a:blip r:embed="rId1"/>
          <a:stretch/>
        </p:blipFill>
        <p:spPr>
          <a:xfrm>
            <a:off x="1143000" y="228600"/>
            <a:ext cx="6781680" cy="52578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289080" y="5867280"/>
            <a:ext cx="869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Paul Cézanne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Montaña Santa Victoria desde Les Lauves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902-06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63,5 x 83 cm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aul_Cézanne_047" descr=""/>
          <p:cNvPicPr/>
          <p:nvPr/>
        </p:nvPicPr>
        <p:blipFill>
          <a:blip r:embed="rId1"/>
          <a:stretch/>
        </p:blipFill>
        <p:spPr>
          <a:xfrm>
            <a:off x="1219320" y="152280"/>
            <a:ext cx="6754680" cy="57168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505240" y="6095880"/>
            <a:ext cx="440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Paul Cézanne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as bañistas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98-1905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asso_avignon%5B1%5D_jpg" descr=""/>
          <p:cNvPicPr/>
          <p:nvPr/>
        </p:nvPicPr>
        <p:blipFill>
          <a:blip r:embed="rId1"/>
          <a:stretch/>
        </p:blipFill>
        <p:spPr>
          <a:xfrm>
            <a:off x="1981080" y="228600"/>
            <a:ext cx="5034240" cy="52578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1895040" y="6019920"/>
            <a:ext cx="52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Pablo Picasso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es Demoiselles d´Avignon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907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777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cezanne14-10CYRETEQ00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4678200" cy="60958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6090480" y="4648320"/>
            <a:ext cx="2640240" cy="192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Paul Cézanne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El sueño del poeta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(o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El beso de la musa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)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59-60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82 x 66 cm;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Museo de Orsay, París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Still%20life%20with%20bread%20and%20eggs%20by%20Cezanne" descr=""/>
          <p:cNvPicPr/>
          <p:nvPr/>
        </p:nvPicPr>
        <p:blipFill>
          <a:blip r:embed="rId1"/>
          <a:stretch/>
        </p:blipFill>
        <p:spPr>
          <a:xfrm>
            <a:off x="990720" y="228600"/>
            <a:ext cx="7086600" cy="5568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052640" y="6095880"/>
            <a:ext cx="715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Paul Cézanne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Naturaleza muerta: pan y huevos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65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59 x 76 cm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die_orgie" descr=""/>
          <p:cNvPicPr/>
          <p:nvPr/>
        </p:nvPicPr>
        <p:blipFill>
          <a:blip r:embed="rId1"/>
          <a:stretch/>
        </p:blipFill>
        <p:spPr>
          <a:xfrm>
            <a:off x="3581280" y="304920"/>
            <a:ext cx="3730680" cy="63244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065960" y="5029200"/>
            <a:ext cx="170172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Paul Cézanne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Orgía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68-70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130 x 81 cm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cezanne10" descr=""/>
          <p:cNvPicPr/>
          <p:nvPr/>
        </p:nvPicPr>
        <p:blipFill>
          <a:blip r:embed="rId1"/>
          <a:stretch/>
        </p:blipFill>
        <p:spPr>
          <a:xfrm>
            <a:off x="457200" y="380880"/>
            <a:ext cx="5680080" cy="59436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6243480" y="4495680"/>
            <a:ext cx="2718360" cy="18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Paul Cézanne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Una Olympia moderna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69-70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56 x 55 cm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aul_Cezanne,_A_Modern_Olympia,_c._1873-1874" descr=""/>
          <p:cNvPicPr/>
          <p:nvPr/>
        </p:nvPicPr>
        <p:blipFill>
          <a:blip r:embed="rId1"/>
          <a:stretch/>
        </p:blipFill>
        <p:spPr>
          <a:xfrm>
            <a:off x="1219320" y="228600"/>
            <a:ext cx="6705360" cy="55008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1665000" y="6095880"/>
            <a:ext cx="606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Paul Cézanne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Una Olympia moderna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73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46 x 55 cm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Le%20Dejeuner%20sur%20L'herbe__Paul%20Cezanne" descr=""/>
          <p:cNvPicPr/>
          <p:nvPr/>
        </p:nvPicPr>
        <p:blipFill>
          <a:blip r:embed="rId1"/>
          <a:stretch/>
        </p:blipFill>
        <p:spPr>
          <a:xfrm>
            <a:off x="1295280" y="457200"/>
            <a:ext cx="6351840" cy="46864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1284480" y="5867280"/>
            <a:ext cx="650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Paul Cézanne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e Dejeuner sur l'herbe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70-71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60 x 80 cm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aul_Cézanne_-_Le_Déjeuner_sur_l'herbe_(Orangerie)" descr=""/>
          <p:cNvPicPr/>
          <p:nvPr/>
        </p:nvPicPr>
        <p:blipFill>
          <a:blip r:embed="rId1"/>
          <a:stretch/>
        </p:blipFill>
        <p:spPr>
          <a:xfrm>
            <a:off x="1219320" y="304920"/>
            <a:ext cx="6781680" cy="51418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284480" y="5943600"/>
            <a:ext cx="669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Paul Cézanne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e Dejeuner sur l'herbe. 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73-75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20´8 x 27 cm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-14024-15323" descr=""/>
          <p:cNvPicPr/>
          <p:nvPr/>
        </p:nvPicPr>
        <p:blipFill>
          <a:blip r:embed="rId1"/>
          <a:stretch/>
        </p:blipFill>
        <p:spPr>
          <a:xfrm>
            <a:off x="685800" y="228600"/>
            <a:ext cx="7848720" cy="564372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824760" y="6095880"/>
            <a:ext cx="759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Paul Cézanne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a Barca de Dante (Según Delacroix).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 1870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25 x 33 cm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26T21:56:43Z</dcterms:created>
  <dc:creator>Victor Diaz</dc:creator>
  <dc:description/>
  <dc:language>en-US</dc:language>
  <cp:lastModifiedBy>Victor Diaz</cp:lastModifiedBy>
  <dcterms:modified xsi:type="dcterms:W3CDTF">2009-01-03T03:48:07Z</dcterms:modified>
  <cp:revision>24</cp:revision>
  <dc:subject/>
  <dc:title>Cézanne: constructivismo y el inicio de las vanguardias.</dc:title>
</cp:coreProperties>
</file>