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B6CD8-8B4D-45CC-B48A-040C45F11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AC32F-E22E-4822-BF05-A28C57097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C194C-0706-4CC6-869E-615464585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A2F5B-DD7D-4B5B-B236-E82135E26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2108C-4608-4B81-B4B8-C4165F70F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C6AE5-8753-4F6F-B1AB-E25606E97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BA3EE-669E-4141-B056-7A4AC8591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D5B3A-F915-456E-8EF4-03BF20DC6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2BC13-9AEC-424D-88B4-8FB68A920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D70B0-7DEE-4B00-B29F-CE44ED04D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CA550-E3C3-47AA-8A15-DA982A30C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CF11E-0259-4699-8BF6-CF07BC488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21715-AE76-4731-B5B2-18ADB4762606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Impresionismo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Víspera de la Vanguardia.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ME0000051780_3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4408560" cy="63244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5097960" y="5029200"/>
            <a:ext cx="3882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a cathédrale de Rouen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e portail et la tour Saint-Romain,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effet du matin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93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800px-Claude_Monet_038" descr=""/>
          <p:cNvPicPr/>
          <p:nvPr/>
        </p:nvPicPr>
        <p:blipFill>
          <a:blip r:embed="rId1"/>
          <a:stretch/>
        </p:blipFill>
        <p:spPr>
          <a:xfrm>
            <a:off x="380880" y="990720"/>
            <a:ext cx="8534520" cy="29224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201400" y="5562720"/>
            <a:ext cx="465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es nymphéas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920 - 26 ¿?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219 por 602 cm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espartanos%20degas" descr=""/>
          <p:cNvPicPr/>
          <p:nvPr/>
        </p:nvPicPr>
        <p:blipFill>
          <a:blip r:embed="rId1"/>
          <a:stretch/>
        </p:blipFill>
        <p:spPr>
          <a:xfrm>
            <a:off x="914400" y="457200"/>
            <a:ext cx="7162920" cy="50277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1741320" y="5943600"/>
            <a:ext cx="564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Edgar Degas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Ejercicios de jóvenes espartanos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60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Edgar_Germain_Hilaire_Degas_021" descr=""/>
          <p:cNvPicPr/>
          <p:nvPr/>
        </p:nvPicPr>
        <p:blipFill>
          <a:blip r:embed="rId1"/>
          <a:stretch/>
        </p:blipFill>
        <p:spPr>
          <a:xfrm>
            <a:off x="533520" y="304920"/>
            <a:ext cx="5602320" cy="624816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549480" y="5181480"/>
            <a:ext cx="2172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Edgar Germain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Hilaire Degas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a clase de danza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73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clasedanzacompos" descr=""/>
          <p:cNvPicPr/>
          <p:nvPr/>
        </p:nvPicPr>
        <p:blipFill>
          <a:blip r:embed="rId1"/>
          <a:stretch/>
        </p:blipFill>
        <p:spPr>
          <a:xfrm>
            <a:off x="1981080" y="609480"/>
            <a:ext cx="489456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Absinthe" descr=""/>
          <p:cNvPicPr/>
          <p:nvPr/>
        </p:nvPicPr>
        <p:blipFill>
          <a:blip r:embed="rId1"/>
          <a:stretch/>
        </p:blipFill>
        <p:spPr>
          <a:xfrm>
            <a:off x="4038480" y="304920"/>
            <a:ext cx="4551480" cy="632448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914760" y="4724280"/>
            <a:ext cx="2405520" cy="17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Edgar Degas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'Absinthe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76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92 por 68 cm;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Museo de Orsay, París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Edouard_Manet_040" descr=""/>
          <p:cNvPicPr/>
          <p:nvPr/>
        </p:nvPicPr>
        <p:blipFill>
          <a:blip r:embed="rId1"/>
          <a:stretch/>
        </p:blipFill>
        <p:spPr>
          <a:xfrm>
            <a:off x="609480" y="228600"/>
            <a:ext cx="4464000" cy="62485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5635080" y="5334120"/>
            <a:ext cx="304452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Manet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Retrato de Berthe Morisot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72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Berthe_Morisot_002" descr=""/>
          <p:cNvPicPr/>
          <p:nvPr/>
        </p:nvPicPr>
        <p:blipFill>
          <a:blip r:embed="rId1"/>
          <a:stretch/>
        </p:blipFill>
        <p:spPr>
          <a:xfrm>
            <a:off x="1143000" y="228600"/>
            <a:ext cx="6629400" cy="56419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290160" y="6019920"/>
            <a:ext cx="858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Berthe Morisot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Eugène Manet en la isla de Wight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75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Museo Marmottan, París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Renoir21" descr=""/>
          <p:cNvPicPr/>
          <p:nvPr/>
        </p:nvPicPr>
        <p:blipFill>
          <a:blip r:embed="rId1"/>
          <a:stretch/>
        </p:blipFill>
        <p:spPr>
          <a:xfrm>
            <a:off x="1295280" y="457200"/>
            <a:ext cx="6705720" cy="493704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1358280" y="5715000"/>
            <a:ext cx="6656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Pierre-Auguste Renoir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e Bal au Moulin de la Galette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76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131 por 175. Museo de Orsay, París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mwm07591" descr=""/>
          <p:cNvPicPr/>
          <p:nvPr/>
        </p:nvPicPr>
        <p:blipFill>
          <a:blip r:embed="rId1"/>
          <a:stretch/>
        </p:blipFill>
        <p:spPr>
          <a:xfrm>
            <a:off x="1219320" y="152280"/>
            <a:ext cx="6705360" cy="56880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673920" y="6095880"/>
            <a:ext cx="828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Camille Pissarro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Diligencia a Ennery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77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46 x 55 cm; Museo de Orsay, París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44240" y="6019920"/>
            <a:ext cx="812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Claude Monet,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Impression: soleil levant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72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Museo Marmottan Monet, París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44" name="Impression,%20Sunrise%20(Monet)" descr=""/>
          <p:cNvPicPr/>
          <p:nvPr/>
        </p:nvPicPr>
        <p:blipFill>
          <a:blip r:embed="rId1"/>
          <a:stretch/>
        </p:blipFill>
        <p:spPr>
          <a:xfrm>
            <a:off x="1371600" y="685800"/>
            <a:ext cx="6477120" cy="497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1815480" y="5638680"/>
            <a:ext cx="566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Pissarro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Isla de Lacroix con efecto de niebla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96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46 x 55 cm; Museo de Arte de Filadelfia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79" name="lacroix_island_rouen_in_fog-400" descr=""/>
          <p:cNvPicPr/>
          <p:nvPr/>
        </p:nvPicPr>
        <p:blipFill>
          <a:blip r:embed="rId1"/>
          <a:stretch/>
        </p:blipFill>
        <p:spPr>
          <a:xfrm>
            <a:off x="1219320" y="228600"/>
            <a:ext cx="6553080" cy="538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487px-Claude_Monet_024" descr=""/>
          <p:cNvPicPr/>
          <p:nvPr/>
        </p:nvPicPr>
        <p:blipFill>
          <a:blip r:embed="rId1"/>
          <a:stretch/>
        </p:blipFill>
        <p:spPr>
          <a:xfrm>
            <a:off x="533520" y="609480"/>
            <a:ext cx="4638600" cy="57056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249520" y="4800600"/>
            <a:ext cx="389628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Claude Monet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Femmes au jardin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67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256 por 208 cm; Museo de Orsay, París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5400" y="4876920"/>
            <a:ext cx="3477240" cy="17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Claude Monet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Essai de figure en plein air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(vers la droite).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86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131 x 88 cm; Musée d Orsay, París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48" name="apc" descr=""/>
          <p:cNvPicPr/>
          <p:nvPr/>
        </p:nvPicPr>
        <p:blipFill>
          <a:blip r:embed="rId1"/>
          <a:stretch/>
        </p:blipFill>
        <p:spPr>
          <a:xfrm>
            <a:off x="4419720" y="228600"/>
            <a:ext cx="427356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tmp_14b05e04ae5c406e879cd17e7268adb3" descr=""/>
          <p:cNvPicPr/>
          <p:nvPr/>
        </p:nvPicPr>
        <p:blipFill>
          <a:blip r:embed="rId1"/>
          <a:stretch/>
        </p:blipFill>
        <p:spPr>
          <a:xfrm>
            <a:off x="609480" y="304920"/>
            <a:ext cx="4121280" cy="6248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5327640" y="4572000"/>
            <a:ext cx="3252960" cy="195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Claude Monet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Essai de figure en plein-air :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Femme à l'ombrelle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tournée vers la gauche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86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Musée d'Orsay, Paris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monet.portail-temps-gris" descr=""/>
          <p:cNvPicPr/>
          <p:nvPr/>
        </p:nvPicPr>
        <p:blipFill>
          <a:blip r:embed="rId1"/>
          <a:stretch/>
        </p:blipFill>
        <p:spPr>
          <a:xfrm>
            <a:off x="533520" y="304920"/>
            <a:ext cx="4008240" cy="64008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5406840" y="5257800"/>
            <a:ext cx="2821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a cathédrale de Rouen,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e portail, temps gris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92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apcaa" descr=""/>
          <p:cNvPicPr/>
          <p:nvPr/>
        </p:nvPicPr>
        <p:blipFill>
          <a:blip r:embed="rId1"/>
          <a:stretch/>
        </p:blipFill>
        <p:spPr>
          <a:xfrm>
            <a:off x="4191120" y="228600"/>
            <a:ext cx="4287600" cy="64008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756720" y="5105520"/>
            <a:ext cx="3106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a Cathédrale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de Rouen, Le Portail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vu de face, hamonie brune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92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ME0000051779_3" descr=""/>
          <p:cNvPicPr/>
          <p:nvPr/>
        </p:nvPicPr>
        <p:blipFill>
          <a:blip r:embed="rId1"/>
          <a:stretch/>
        </p:blipFill>
        <p:spPr>
          <a:xfrm>
            <a:off x="4267080" y="304920"/>
            <a:ext cx="4384800" cy="63817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832680" y="5334120"/>
            <a:ext cx="2882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a Cathédrale de Rouen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e portail, soleil matinal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93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th_monet_rouen" descr=""/>
          <p:cNvPicPr/>
          <p:nvPr/>
        </p:nvPicPr>
        <p:blipFill>
          <a:blip r:embed="rId1"/>
          <a:stretch/>
        </p:blipFill>
        <p:spPr>
          <a:xfrm>
            <a:off x="609480" y="457200"/>
            <a:ext cx="3986280" cy="59436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5097600" y="4952880"/>
            <a:ext cx="3797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a cathedrale de Rouen,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e portail et la tour Saint-Romain,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plein soleil, harmonie bleue et or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93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5T02:55:23Z</dcterms:created>
  <dc:creator>Victor Diaz</dc:creator>
  <dc:description/>
  <dc:language>en-US</dc:language>
  <cp:lastModifiedBy>Victor Diaz</cp:lastModifiedBy>
  <dcterms:modified xsi:type="dcterms:W3CDTF">2008-12-26T02:35:16Z</dcterms:modified>
  <cp:revision>25</cp:revision>
  <dc:subject/>
  <dc:title>Impresionismo y postimpresionismo</dc:title>
</cp:coreProperties>
</file>