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5DD8-554F-44AF-AC3E-BB02094E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48EC-AF55-4EE8-8237-3F8330C5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8C3F-0127-4F17-A28F-34060666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7DC6-03C7-4101-B21B-87D6B32F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C7D5-CF5C-4315-BB83-1438A5F0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8CCD-5842-4B3B-AA01-CBDBFC64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141F-E684-4394-B397-015AEE7F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0183-0FE6-4E16-8871-CAF2D6F5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0694-F786-4E3D-8376-EA53523F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BF80-9298-4631-BBB0-713FFE90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422E-74E5-4FD0-B202-B8264FC8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B483-091C-4291-930D-BE5E5F80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23B6-B822-44FC-92F4-565714EAE2F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as vanguardias del siglo XX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xpresionismo, cubismo, futurismo, dadaísmo, surrealismo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assoGuernica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6324480" cy="2836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8280" y="1295280"/>
            <a:ext cx="118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Guernic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37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0" name="Picasso_Massacre_in_Korea" descr=""/>
          <p:cNvPicPr/>
          <p:nvPr/>
        </p:nvPicPr>
        <p:blipFill>
          <a:blip r:embed="rId2"/>
          <a:stretch/>
        </p:blipFill>
        <p:spPr>
          <a:xfrm>
            <a:off x="2666880" y="3352680"/>
            <a:ext cx="6096240" cy="3338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560" y="5334120"/>
            <a:ext cx="202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Masacre en Core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51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163440"/>
            <a:ext cx="86868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Manifiesto futurista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.  Queremos cantar el amor al peligro, el hábito de la energía y de la temerida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2.   El coraje, la audacia, la rebelión, serán elementos esenciales de nuestra poesí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3.   La literatura exaltó, hasta hoy, la inmovilidad pensativa, el éxtasis y el sueño. Nosotros queremos exal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movimiento agresivo, el insomnio febril, el paso de corrida, el salto mortal, el cachetazo y el puñetazo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4. Nosotros afirmamos que la magnificencia del mundo se ha enriquecido con una nueva bellez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 belleza de la velocidad. Un coche de carreras con su capó adornado con gruesos tubos parecid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serpientes de aliento explosivo... un automóvil rugiendo, que parece correr sobre la ráfaga, es más bell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 la Victoria de Samotrac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5.  Queremos ensalzar al hombre que lleva el volante, cuya lanza ideal atraviesa la tierr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nzada también ella a la carrera, sobre el circuito de su órbit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6. Es necesario que el poeta se prodigue, con ardor, boato y liberalidad, para aumen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rvor entusiasta de los elementos primordiale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7. No existe belleza alguna si no es en la lucha. Ninguna obra que no tenga un carácter agresivo puede ser una obr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estra. La poesía debe ser concebida como un asalto violento contra las fuerzas desconocidas,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para forzarlas a postrarse ante el hombr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8.¡Nos encontramos sobre el promontorio más elevado de los siglos!... ¿Porqué deberíamos cuidarnos las espald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si queremos derribar las misteriosas puertas de lo imposible? El Tiempo y el Espacio murieron ayer. Nosotros vivim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en el absoluto, porque hemos creado ya la eterna velocidad omnipresent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9.  Queremos glorificar la guerra –única higiene del mundo– el militarismo, el patriot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gesto destructor de los libertarios, las bellas ideas por las cuales se muere y el desprecio de la muje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0. Queremos destruir los museos, las bibliotecas, las academias de todo tipo, y combatir contra el moral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minismo y contra toda vileza oportunista y utilitar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1.  Nosotros cantaremos a las grandes masas agitadas por el trabajo, por el placer o por la revuelta: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 las marchas multicolores y polifónicas de las revoluciones en las capitales modern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l vibrante fervor nocturno de las minas y de las canteras, incendiados por violentas lunas eléctricas;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las estaciones ávidas, devoradoras de serpientes que humean; a las fábricas suspendidas de las nubes por los retorcidos hilos de sus humos; a los puentes semejantes a gimnastas gigantes que husmean el horizonte, y a las locomotoras de pecho amplio, que patalean sobre los rieles, como enormes caballos de acero embridados con tubos, y al vuelo resbaloso de los aeroplanos, cuya hélice flamea al vient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omo una bandera y parece aplaudir sobre una masa entusiasta. Es desde Italia que lanzamos al mundo este nuestr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nifiesto de violencia arrolladora e incendiaria con el cual fundamos hoy el FUTURISMO porqu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remos liberar a este país de su fétida gangrena de profesores, de arqueólogos, de cicerones y de anticuarios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por demasiado tiempo Italia ha sido un mercado de ropavejeros. Nosotros queremos liberarl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de los innumerables museos que la cubren por completo de cementerios.                      </a:t>
            </a:r>
            <a:r>
              <a:rPr b="1" i="1" lang="es-ES_tradnl" sz="1600" spc="-1" strike="noStrike">
                <a:solidFill>
                  <a:srgbClr val="eaeaea"/>
                </a:solidFill>
                <a:latin typeface="Times New Roman"/>
              </a:rPr>
              <a:t>Filippo Tommaso Marinett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occioni-met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286520" cy="6429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482080" y="5105520"/>
            <a:ext cx="30902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Umberto Boccioni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ormas Únicas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ontinuidad en el Espac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685bg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334120" cy="5162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32800" y="5715000"/>
            <a:ext cx="6348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ino Severin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eroglífico dinámico de Bal Tabar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Arte Moderno, Nueva Yor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chwitters%20-%20Cherry%20Picture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4903920" cy="6324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36640" y="548640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urt Schwitter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erz Picture 32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2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dolf_the_Superma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749840" cy="6477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73200" y="5257800"/>
            <a:ext cx="3841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Heartfield [Helmut Herzfeld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dolf the Superman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wallows Gold and Spouts Jun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32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obertomattastartravel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484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824840" y="5791320"/>
            <a:ext cx="5272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Roberto Matta. </a:t>
            </a:r>
            <a:r>
              <a:rPr b="1" i="1" lang="es-ES_tradnl" sz="2400" spc="-1" strike="noStrike">
                <a:solidFill>
                  <a:srgbClr val="eaeaea"/>
                </a:solidFill>
                <a:latin typeface="Times New Roman"/>
              </a:rPr>
              <a:t>Viaje espacial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1938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0.2 x 64.8 cm; Museum of Modern Art, San Francisc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1400" y="5867280"/>
            <a:ext cx="669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alvador Dalí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gran masturbad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50,5 cm; Museo Nacional Centro de Arte Reina Sofía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4" name="05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0866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927320" cy="6248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65120" y="4800600"/>
            <a:ext cx="26208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vard Mun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kri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rit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9 por 73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Galería Nacional de Oslo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orueg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ranz-marc-tiger" descr=""/>
          <p:cNvPicPr/>
          <p:nvPr/>
        </p:nvPicPr>
        <p:blipFill>
          <a:blip r:embed="rId1"/>
          <a:stretch/>
        </p:blipFill>
        <p:spPr>
          <a:xfrm>
            <a:off x="3962520" y="838080"/>
            <a:ext cx="476064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4200" y="5181480"/>
            <a:ext cx="1489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z Mar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tig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raque_houses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50785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3720" y="5105520"/>
            <a:ext cx="2389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sas en L'Esta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x 59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asso_avignon%5B1%5D_jpg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82120" y="5181480"/>
            <a:ext cx="316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Picasso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627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asso_jolie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371448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62360" y="4267080"/>
            <a:ext cx="254736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 Joli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1-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0 x 65.4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um of Modern Art 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raque_violin" descr=""/>
          <p:cNvPicPr/>
          <p:nvPr/>
        </p:nvPicPr>
        <p:blipFill>
          <a:blip r:embed="rId1"/>
          <a:stretch/>
        </p:blipFill>
        <p:spPr>
          <a:xfrm>
            <a:off x="5229360" y="304920"/>
            <a:ext cx="2876400" cy="6172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84600" y="5334120"/>
            <a:ext cx="36144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olín y pa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9-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8 x 42.9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asso_three_musicians_moma_2006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229360" cy="4711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89360" y="571500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Tres músico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21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22:16:37Z</dcterms:created>
  <dc:creator>Victor Diaz</dc:creator>
  <dc:description/>
  <dc:language>en-US</dc:language>
  <cp:lastModifiedBy>Victor Diaz</cp:lastModifiedBy>
  <dcterms:modified xsi:type="dcterms:W3CDTF">2009-01-03T03:47:47Z</dcterms:modified>
  <cp:revision>20</cp:revision>
  <dc:subject/>
  <dc:title>Las vanguardias del siglo XX</dc:title>
</cp:coreProperties>
</file>