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8A41-20C9-4C27-8C26-E44E908F3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112A-C440-43B0-82F9-41FEDE5E2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A1CB7-B8B1-4AA1-BB1A-7BAF1778A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E7ADE-322B-42AF-A58D-BE21E5EE4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80B9-AC5E-40C3-ADE2-FFE02715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CE6F-5B47-4104-A0D8-420E26625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013BB-92AB-4C5E-AA16-917C4C69B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4EA7D-35DE-45ED-BCE8-A1B6229FA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C0A7E-1955-4E2C-83EB-9E6EC178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55FB-2A98-40AC-912B-1B4404262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3A7E-7B68-4951-8BFE-761D9860D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AAF-BF79-4FED-BD7C-FD36DBED0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0A82E-6C6B-4044-8342-29665DCDF74B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Del romanticismo al impresion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4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sea-monsters-detail" descr=""/>
          <p:cNvPicPr/>
          <p:nvPr/>
        </p:nvPicPr>
        <p:blipFill>
          <a:blip r:embed="rId1"/>
          <a:stretch/>
        </p:blipFill>
        <p:spPr>
          <a:xfrm>
            <a:off x="1219320" y="533520"/>
            <a:ext cx="655308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turner%20botes%20en%20el%20mar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010640" cy="54403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1278360" y="5867280"/>
            <a:ext cx="643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Boats at se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 - 1840¿?[aceptado hacia los ‘50]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2.2 x 27.9 cm; The Tate Gallery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Monet%20-%20Impresión%20Sol%20Naciente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6477120" cy="50068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743760" y="5715000"/>
            <a:ext cx="77094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laude Mo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Impression, soleil levant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[Impresión, sol naciente]. 1872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8 por 63 cm; Museo Marmottan-Monet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800px-John_Constable_013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7620120" cy="54784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19840" y="5791320"/>
            <a:ext cx="823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hn 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The Hay Wai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1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0 por 185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Constable_Salisbury_meadows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162560" cy="5699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1434960" y="5867280"/>
            <a:ext cx="6211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alisbury Cathedral from the meadow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1 por 190 cm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Stonehenge1835_387%20x%20591%20mm_Victoria%20and%20Albert%20Museum,%20London" descr=""/>
          <p:cNvPicPr/>
          <p:nvPr/>
        </p:nvPicPr>
        <p:blipFill>
          <a:blip r:embed="rId1"/>
          <a:stretch/>
        </p:blipFill>
        <p:spPr>
          <a:xfrm>
            <a:off x="914400" y="457200"/>
            <a:ext cx="7543800" cy="48276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46040" y="5715000"/>
            <a:ext cx="846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onstable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tonehen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7 x 591 mm; Victoria and Albert Museum, Londre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turner-1" descr=""/>
          <p:cNvPicPr/>
          <p:nvPr/>
        </p:nvPicPr>
        <p:blipFill>
          <a:blip r:embed="rId1"/>
          <a:stretch/>
        </p:blipFill>
        <p:spPr>
          <a:xfrm>
            <a:off x="685800" y="380880"/>
            <a:ext cx="7848720" cy="521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126800" y="5867280"/>
            <a:ext cx="675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ido building Carthag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55 x 232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800px-Joseph_Mallord_William_Turner_064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077320" cy="52689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974160" y="5791320"/>
            <a:ext cx="746244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oseph Mallord William 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lysses Deriding Polyphemu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33 por 202; National Gallery, Lond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ulysses-detail" descr=""/>
          <p:cNvPicPr/>
          <p:nvPr/>
        </p:nvPicPr>
        <p:blipFill>
          <a:blip r:embed="rId1"/>
          <a:stretch/>
        </p:blipFill>
        <p:spPr>
          <a:xfrm>
            <a:off x="1447920" y="762120"/>
            <a:ext cx="617220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800px-Rain_Steam_and_Speed_the_Great_Western_Railway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7315200" cy="54324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128960" y="5867280"/>
            <a:ext cx="69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Rain, steam and speed. The great western railway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 × 121.8 cm; National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Sunrise%20with%20Sea%20Monsters" descr=""/>
          <p:cNvPicPr/>
          <p:nvPr/>
        </p:nvPicPr>
        <p:blipFill>
          <a:blip r:embed="rId1"/>
          <a:stretch/>
        </p:blipFill>
        <p:spPr>
          <a:xfrm>
            <a:off x="1143000" y="304920"/>
            <a:ext cx="6858000" cy="5173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18040" y="5867280"/>
            <a:ext cx="812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urner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Sunrise with sea monster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45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91.5 x 122 cm; Tate Gallery, Londre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7T00:44:56Z</dcterms:created>
  <dc:creator>Victor Diaz</dc:creator>
  <dc:description/>
  <dc:language>en-US</dc:language>
  <cp:lastModifiedBy>Victor Diaz</cp:lastModifiedBy>
  <dcterms:modified xsi:type="dcterms:W3CDTF">2008-12-14T22:56:48Z</dcterms:modified>
  <cp:revision>19</cp:revision>
  <dc:subject/>
  <dc:title>Del romanticismo al impresionismo</dc:title>
</cp:coreProperties>
</file>