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74C6-F5DA-46AB-9989-805E6CC44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E8C9-9223-4647-A1DD-3373E9315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014D2-AF91-4FC4-8CFF-01EC9AB0E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C52B-A60A-4085-9ADE-9E9E9D6AF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D79C-9A0F-4786-BC2E-56AF6C807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160E-EA84-4CD7-BCDD-9254A0EEE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97D1-C145-4736-8DC0-233E25270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89DE-875C-4C56-8D21-A4C393893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D48E-69E8-49FB-811C-473C29A8F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9C0F-D56A-4FD8-828B-70F5B76E6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0B5E-99FB-4106-8F9B-B35A0BC5B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C4C5-1C0C-42C9-AAE2-F6C63D9F9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6F14E-CF4F-4E93-A227-4C71CA276BB3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Romanticismo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rte del siglo XIX (3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800px-Abtei_im_Eichwald_(C_D_Friedrich)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381880" cy="53006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20560" y="6095880"/>
            <a:ext cx="816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Friedrich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Abtei im Eichwald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09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10,4 por 171 cm; Staatliche Museen, Berlín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800px-Caspar_David_Friedrich_006" descr=""/>
          <p:cNvPicPr/>
          <p:nvPr/>
        </p:nvPicPr>
        <p:blipFill>
          <a:blip r:embed="rId1"/>
          <a:stretch/>
        </p:blipFill>
        <p:spPr>
          <a:xfrm>
            <a:off x="762120" y="152280"/>
            <a:ext cx="7619760" cy="56959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969560" y="6172200"/>
            <a:ext cx="502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aspar David Friedrich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Mar de hiel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23-24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441px-Chargingchasseur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4711680" cy="64008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326920" y="4495680"/>
            <a:ext cx="3599280" cy="20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Théodore Géricault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Officier de chasseurs à cheval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e la garde impériale chargeant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12¿?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349 por 266 cm;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l Louvre, Parí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Gericault%20-%20La%20balsa%20de%20la%20Medusa" descr=""/>
          <p:cNvPicPr/>
          <p:nvPr/>
        </p:nvPicPr>
        <p:blipFill>
          <a:blip r:embed="rId1"/>
          <a:stretch/>
        </p:blipFill>
        <p:spPr>
          <a:xfrm>
            <a:off x="533520" y="152280"/>
            <a:ext cx="8076960" cy="55008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21640" y="6019920"/>
            <a:ext cx="821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éricaul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balsa de la Medusa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1819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491 x 717 cm; Museo del Louvre, Parí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gericault_envy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3946680" cy="4924440"/>
          </a:xfrm>
          <a:prstGeom prst="rect">
            <a:avLst/>
          </a:prstGeom>
          <a:ln w="0">
            <a:noFill/>
          </a:ln>
        </p:spPr>
      </p:pic>
      <p:pic>
        <p:nvPicPr>
          <p:cNvPr id="48" name="gericault.insane" descr=""/>
          <p:cNvPicPr/>
          <p:nvPr/>
        </p:nvPicPr>
        <p:blipFill>
          <a:blip r:embed="rId2"/>
          <a:stretch/>
        </p:blipFill>
        <p:spPr>
          <a:xfrm>
            <a:off x="5029200" y="304920"/>
            <a:ext cx="3657600" cy="48006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401520" y="5383080"/>
            <a:ext cx="70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Loco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6640" y="6145200"/>
            <a:ext cx="157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1819 -1824¿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987120" y="5383080"/>
            <a:ext cx="279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Monomane de l'envi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gericault001" descr=""/>
          <p:cNvPicPr/>
          <p:nvPr/>
        </p:nvPicPr>
        <p:blipFill>
          <a:blip r:embed="rId1"/>
          <a:stretch/>
        </p:blipFill>
        <p:spPr>
          <a:xfrm>
            <a:off x="2590920" y="304920"/>
            <a:ext cx="4132080" cy="52718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966400" y="6095880"/>
            <a:ext cx="319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Retrato de una mujer insana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foto1" descr=""/>
          <p:cNvPicPr/>
          <p:nvPr/>
        </p:nvPicPr>
        <p:blipFill>
          <a:blip r:embed="rId1"/>
          <a:stretch/>
        </p:blipFill>
        <p:spPr>
          <a:xfrm>
            <a:off x="1447920" y="457200"/>
            <a:ext cx="6248160" cy="4713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14440" y="5943600"/>
            <a:ext cx="846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Eugéne Delacroix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ante y Virgilio en los infierno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 (o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barca de Dant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) 182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Eugène_Delacroix_-_La_liberté_guidant_le_peuple" descr=""/>
          <p:cNvPicPr/>
          <p:nvPr/>
        </p:nvPicPr>
        <p:blipFill>
          <a:blip r:embed="rId1"/>
          <a:stretch/>
        </p:blipFill>
        <p:spPr>
          <a:xfrm>
            <a:off x="1143000" y="152280"/>
            <a:ext cx="6781680" cy="55850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7560" y="6095880"/>
            <a:ext cx="888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Eugène Delacroix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liberté guidant le peupl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30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259 por 352;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Museo del Louvre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471px-Caspar_David_Friedrich_032" descr=""/>
          <p:cNvPicPr/>
          <p:nvPr/>
        </p:nvPicPr>
        <p:blipFill>
          <a:blip r:embed="rId1"/>
          <a:stretch/>
        </p:blipFill>
        <p:spPr>
          <a:xfrm>
            <a:off x="380880" y="152280"/>
            <a:ext cx="5083200" cy="64771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015600" y="4800600"/>
            <a:ext cx="270144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aspar David Friedrich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Der Wanderer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über dem Nebelmeer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18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75 por 95 cm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105fried" descr=""/>
          <p:cNvPicPr/>
          <p:nvPr/>
        </p:nvPicPr>
        <p:blipFill>
          <a:blip r:embed="rId1"/>
          <a:stretch/>
        </p:blipFill>
        <p:spPr>
          <a:xfrm>
            <a:off x="533520" y="228600"/>
            <a:ext cx="8229600" cy="52578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967760" y="5791320"/>
            <a:ext cx="54082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Caspar Friedrich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Monje a la orilla del mar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09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10 x 171,5 cm; Staatliche Museen, Berlín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6T21:32:04Z</dcterms:created>
  <dc:creator>Victor Diaz</dc:creator>
  <dc:description/>
  <dc:language>en-US</dc:language>
  <cp:lastModifiedBy>Victor Diaz</cp:lastModifiedBy>
  <dcterms:modified xsi:type="dcterms:W3CDTF">2008-12-07T00:44:48Z</dcterms:modified>
  <cp:revision>12</cp:revision>
  <dc:subject/>
  <dc:title>Romanticismo</dc:title>
</cp:coreProperties>
</file>