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3190-EFDF-40F6-998D-745C11481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C85D9-3A5A-41D2-B025-C60889A0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F9F0B-7C01-4B62-82E4-FD42584F8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2A58-90D4-4FB3-901B-DA1EA5A55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F1B1-19FB-4AA2-9D2C-4B70EBDD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C9D8B-254A-4AA6-8229-55504707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26E7-AB2C-4CEF-AF0C-8AE499C34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AF96C-400A-4AAC-A582-E236855B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39EB-450E-4EB0-B87D-29D4D0E64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F1A03-16CF-43CF-8553-058AFFDC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A581-2727-4F64-9A3B-04833E77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A717-0538-41A6-9323-FE23F00F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766F-4382-42B4-BFCC-F34B090427FC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El neoclásico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rte del siglo XIX (2)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70px-Ingres,_Napoleon_on_his_Imperial_throne" descr=""/>
          <p:cNvPicPr/>
          <p:nvPr/>
        </p:nvPicPr>
        <p:blipFill>
          <a:blip r:embed="rId1"/>
          <a:stretch/>
        </p:blipFill>
        <p:spPr>
          <a:xfrm>
            <a:off x="4191120" y="152280"/>
            <a:ext cx="4135320" cy="67057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373680" y="4876920"/>
            <a:ext cx="352440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Napoleón en su torno imperial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806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259 x 162 cm;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Museo del Ejército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La%20Bañista%20de%20Valpincon”%20(1808)%20Óleo%20en%20tela%20146%20x97.5%20cm" descr=""/>
          <p:cNvPicPr/>
          <p:nvPr/>
        </p:nvPicPr>
        <p:blipFill>
          <a:blip r:embed="rId1"/>
          <a:stretch/>
        </p:blipFill>
        <p:spPr>
          <a:xfrm>
            <a:off x="533520" y="152280"/>
            <a:ext cx="430524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5634720" y="5105520"/>
            <a:ext cx="29210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Bañista de Valpincon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808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6 x97.5 cm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Dominique_Ingres_-_Le_Bain_turc" descr=""/>
          <p:cNvPicPr/>
          <p:nvPr/>
        </p:nvPicPr>
        <p:blipFill>
          <a:blip r:embed="rId1"/>
          <a:stretch/>
        </p:blipFill>
        <p:spPr>
          <a:xfrm>
            <a:off x="1828800" y="304920"/>
            <a:ext cx="5676840" cy="57150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360440" y="6172200"/>
            <a:ext cx="699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e Bain turc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2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08 por 108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4345200" y="60199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1863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jldnapoleon" descr=""/>
          <p:cNvPicPr/>
          <p:nvPr/>
        </p:nvPicPr>
        <p:blipFill>
          <a:blip r:embed="rId1"/>
          <a:stretch/>
        </p:blipFill>
        <p:spPr>
          <a:xfrm>
            <a:off x="152280" y="990720"/>
            <a:ext cx="4469040" cy="5181480"/>
          </a:xfrm>
          <a:prstGeom prst="rect">
            <a:avLst/>
          </a:prstGeom>
          <a:ln w="0">
            <a:noFill/>
          </a:ln>
        </p:spPr>
      </p:pic>
      <p:pic>
        <p:nvPicPr>
          <p:cNvPr id="44" name="napoleonpic" descr=""/>
          <p:cNvPicPr/>
          <p:nvPr/>
        </p:nvPicPr>
        <p:blipFill>
          <a:blip r:embed="rId2"/>
          <a:stretch/>
        </p:blipFill>
        <p:spPr>
          <a:xfrm>
            <a:off x="4800600" y="990720"/>
            <a:ext cx="414828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napoleon-en-su-estudio-1812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3797280" cy="6477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5555880" y="5638680"/>
            <a:ext cx="327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cques-Louis 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Napoleón en su estudi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1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David%20El%20Juramento%20de%20Los%20Horacios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972120" cy="54244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5400" y="6019920"/>
            <a:ext cx="871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Juramento de Los Horaci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4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30 x 425 cm; Museo del Louvre, París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David%20Bruto%20y%20los%20Cadáveres%20de%20sus%20hijos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093080" cy="5391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051560" y="6095880"/>
            <a:ext cx="714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Lictores traen a Bruto los Cadáveres de sus hijos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789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133720" y="6095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1680" y="3886200"/>
            <a:ext cx="23464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uerte de Marat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793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165 por 128 cm;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Museo Rea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ellas Artes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de Bélgica, Brusela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3" name="466px-Death_of_Marat_by_David" descr=""/>
          <p:cNvPicPr/>
          <p:nvPr/>
        </p:nvPicPr>
        <p:blipFill>
          <a:blip r:embed="rId1"/>
          <a:stretch/>
        </p:blipFill>
        <p:spPr>
          <a:xfrm>
            <a:off x="3681360" y="228600"/>
            <a:ext cx="49798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302david" descr=""/>
          <p:cNvPicPr/>
          <p:nvPr/>
        </p:nvPicPr>
        <p:blipFill>
          <a:blip r:embed="rId1"/>
          <a:stretch/>
        </p:blipFill>
        <p:spPr>
          <a:xfrm>
            <a:off x="1295280" y="1295280"/>
            <a:ext cx="661536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la-coronacion-de-napoleon-y-josefina-1804" descr=""/>
          <p:cNvPicPr/>
          <p:nvPr/>
        </p:nvPicPr>
        <p:blipFill>
          <a:blip r:embed="rId1"/>
          <a:stretch/>
        </p:blipFill>
        <p:spPr>
          <a:xfrm>
            <a:off x="457200" y="228600"/>
            <a:ext cx="8381880" cy="52801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815480" y="6019920"/>
            <a:ext cx="563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David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coronación de Napoleón y Josefin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180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potiosis%20de%20homero_ingres" descr=""/>
          <p:cNvPicPr/>
          <p:nvPr/>
        </p:nvPicPr>
        <p:blipFill>
          <a:blip r:embed="rId1"/>
          <a:stretch/>
        </p:blipFill>
        <p:spPr>
          <a:xfrm>
            <a:off x="1828800" y="228600"/>
            <a:ext cx="5638680" cy="54720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355040" y="5943600"/>
            <a:ext cx="66196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ean Auguste Dominique Ingres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Apoteosis de Homer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27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386 x 515 cm; Museo Nacional del Louvre, Parí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6T00:29:19Z</dcterms:created>
  <dc:creator>Victor Diaz</dc:creator>
  <dc:description/>
  <dc:language>en-US</dc:language>
  <cp:lastModifiedBy>Victor Diaz</cp:lastModifiedBy>
  <dcterms:modified xsi:type="dcterms:W3CDTF">2008-12-06T21:32:00Z</dcterms:modified>
  <cp:revision>19</cp:revision>
  <dc:subject/>
  <dc:title>El neoclásico</dc:title>
</cp:coreProperties>
</file>