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4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3FCD-BB26-485C-AFC9-F5F1103F9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BFF9-7976-41AF-A6F3-3F476D70C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9225-1B51-44FB-A484-CE2D88954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CC58-CF57-4AAB-9C00-99C09F64D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56B3-6EE9-4E14-B4FC-860262B71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13AC-C918-45F4-92D4-EFB3D7934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C924D-538A-4937-B0EA-3C8625540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4AB-B6E4-494D-8AAC-DB5406755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B3BAD-721D-4730-AF03-BE2F4AD21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2D76A-49C4-49C7-9BF8-793C8EC23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875A-1578-41F7-9125-99C67E7A8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BCFFC-8C7C-47E8-9184-BCA76EDD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9C18-8FE9-4A43-BA9F-E37DDDD1C7A1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Aproximación comprensiva a las Artes Visuales II.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eaeaea"/>
                </a:solidFill>
                <a:latin typeface="Times New Roman"/>
              </a:rPr>
              <a:t>La representación como problema: el problema de la representación.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goya_34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43243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667080" y="5486400"/>
            <a:ext cx="7579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rancisco José de Goya y Lucientes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desnuda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. 1790 - 1800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7 por 190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Hacia%201800-1805_95por188_museo%20del%20prado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229600" cy="40291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42080" y="5715000"/>
            <a:ext cx="816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Goya. </a:t>
            </a:r>
            <a:r>
              <a:rPr b="1" i="1" lang="en-US" sz="2000" spc="-1" strike="noStrike">
                <a:solidFill>
                  <a:srgbClr val="eaeaea"/>
                </a:solidFill>
                <a:latin typeface="Times New Roman"/>
              </a:rPr>
              <a:t>La maja vestida.</a:t>
            </a: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 1800 - 1805 ¿?.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eaeaea"/>
                </a:solidFill>
                <a:latin typeface="Times New Roman"/>
              </a:rPr>
              <a:t>95 por 188 cm; Museo del Prado, Madrid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olympia" descr=""/>
          <p:cNvPicPr/>
          <p:nvPr/>
        </p:nvPicPr>
        <p:blipFill>
          <a:blip r:embed="rId1"/>
          <a:stretch/>
        </p:blipFill>
        <p:spPr>
          <a:xfrm>
            <a:off x="609480" y="228600"/>
            <a:ext cx="8153640" cy="54770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979560" y="6019920"/>
            <a:ext cx="741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Édouard  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Olympia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63.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800" spc="-1" strike="noStrike">
                <a:solidFill>
                  <a:srgbClr val="eaeaea"/>
                </a:solidFill>
                <a:latin typeface="Times New Roman"/>
              </a:rPr>
              <a:t>190 por 130 cm; Museo de Orsay, París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86%20Manet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7334280" cy="5524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894320" y="6095880"/>
            <a:ext cx="5379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Manet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 bar de las Folies Bergère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881 - 82 ¿?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04920" y="228600"/>
            <a:ext cx="568296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6090840" y="4648320"/>
            <a:ext cx="286308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Diego de Velázquez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eaeaea"/>
                </a:solidFill>
                <a:latin typeface="Times New Roman"/>
              </a:rPr>
              <a:t>Las meninas</a:t>
            </a: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1656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Óleo sobre tela,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318 por 276 cm;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Times New Roman"/>
              </a:rPr>
              <a:t>Museo del Prado, Madrid</a:t>
            </a:r>
            <a:r>
              <a:rPr b="0" lang="es-ES" sz="24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Velazquez%20-%20Venus%20del%20Espejo" descr=""/>
          <p:cNvPicPr/>
          <p:nvPr/>
        </p:nvPicPr>
        <p:blipFill>
          <a:blip r:embed="rId1"/>
          <a:stretch/>
        </p:blipFill>
        <p:spPr>
          <a:xfrm>
            <a:off x="914400" y="272880"/>
            <a:ext cx="7543800" cy="5169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4640" y="5943600"/>
            <a:ext cx="866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Velázquez. </a:t>
            </a: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a Venus del espejo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 1647 - 51 ¿?</a:t>
            </a:r>
            <a:r>
              <a:rPr b="0" lang="es-ES_tradnl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es-ES_tradnl" sz="1600" spc="-1" strike="noStrike">
                <a:solidFill>
                  <a:srgbClr val="eaeaea"/>
                </a:solidFill>
                <a:latin typeface="Times New Roman"/>
              </a:rPr>
              <a:t>122 x 177 cm; The National Gallery, Londres</a:t>
            </a:r>
            <a:endParaRPr b="0" lang="en-US" sz="1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holbein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5791320" cy="57135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22120" y="4648320"/>
            <a:ext cx="28674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Hans Holbein (el joven)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Los embajad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533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209 por 207 cm; National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Gallery, Londres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49px-Holbein_Ambassadors_anamorphosis" descr=""/>
          <p:cNvPicPr/>
          <p:nvPr/>
        </p:nvPicPr>
        <p:blipFill>
          <a:blip r:embed="rId1"/>
          <a:stretch/>
        </p:blipFill>
        <p:spPr>
          <a:xfrm>
            <a:off x="533520" y="1676520"/>
            <a:ext cx="871560" cy="3555720"/>
          </a:xfrm>
          <a:prstGeom prst="rect">
            <a:avLst/>
          </a:prstGeom>
          <a:ln w="0">
            <a:noFill/>
          </a:ln>
        </p:spPr>
      </p:pic>
      <p:pic>
        <p:nvPicPr>
          <p:cNvPr id="50" name="Skull-Ambassadors" descr=""/>
          <p:cNvPicPr/>
          <p:nvPr/>
        </p:nvPicPr>
        <p:blipFill>
          <a:blip r:embed="rId2"/>
          <a:stretch/>
        </p:blipFill>
        <p:spPr>
          <a:xfrm>
            <a:off x="1981080" y="2895480"/>
            <a:ext cx="2292480" cy="2319480"/>
          </a:xfrm>
          <a:prstGeom prst="rect">
            <a:avLst/>
          </a:prstGeom>
          <a:ln w="0">
            <a:noFill/>
          </a:ln>
        </p:spPr>
      </p:pic>
      <p:pic>
        <p:nvPicPr>
          <p:cNvPr id="51" name="220px-Holbein_spoon_trick" descr=""/>
          <p:cNvPicPr/>
          <p:nvPr/>
        </p:nvPicPr>
        <p:blipFill>
          <a:blip r:embed="rId3"/>
          <a:stretch/>
        </p:blipFill>
        <p:spPr>
          <a:xfrm>
            <a:off x="4800600" y="2286000"/>
            <a:ext cx="38098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Albrecht%20Dürer%20(1471-1528).%20%20Underweysung%20der%20Messung" descr=""/>
          <p:cNvPicPr/>
          <p:nvPr/>
        </p:nvPicPr>
        <p:blipFill>
          <a:blip r:embed="rId1"/>
          <a:stretch/>
        </p:blipFill>
        <p:spPr>
          <a:xfrm>
            <a:off x="304920" y="237960"/>
            <a:ext cx="4440240" cy="6620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5330520" y="5334120"/>
            <a:ext cx="323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Albrecht Dürer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Underweysung der Messung</a:t>
            </a: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rnolfini" descr=""/>
          <p:cNvPicPr/>
          <p:nvPr/>
        </p:nvPicPr>
        <p:blipFill>
          <a:blip r:embed="rId1"/>
          <a:stretch/>
        </p:blipFill>
        <p:spPr>
          <a:xfrm>
            <a:off x="3733920" y="228600"/>
            <a:ext cx="4687920" cy="64771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529200" y="5410080"/>
            <a:ext cx="2818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Jan Van Eyck.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eaeaea"/>
                </a:solidFill>
                <a:latin typeface="Times New Roman"/>
              </a:rPr>
              <a:t>El matrimonio Arnolfini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eaeaea"/>
                </a:solidFill>
                <a:latin typeface="Times New Roman"/>
              </a:rPr>
              <a:t>1434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rnolfini_det1" descr=""/>
          <p:cNvPicPr/>
          <p:nvPr/>
        </p:nvPicPr>
        <p:blipFill>
          <a:blip r:embed="rId1"/>
          <a:stretch/>
        </p:blipFill>
        <p:spPr>
          <a:xfrm>
            <a:off x="2438280" y="304920"/>
            <a:ext cx="4627800" cy="63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arnolfini3" descr=""/>
          <p:cNvPicPr/>
          <p:nvPr/>
        </p:nvPicPr>
        <p:blipFill>
          <a:blip r:embed="rId1"/>
          <a:stretch/>
        </p:blipFill>
        <p:spPr>
          <a:xfrm>
            <a:off x="1905120" y="685800"/>
            <a:ext cx="5638680" cy="563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4T20:02:32Z</dcterms:created>
  <dc:creator>Victor Diaz</dc:creator>
  <dc:description/>
  <dc:language>en-US</dc:language>
  <cp:lastModifiedBy>Victor Diaz</cp:lastModifiedBy>
  <dcterms:modified xsi:type="dcterms:W3CDTF">2008-12-04T22:46:07Z</dcterms:modified>
  <cp:revision>14</cp:revision>
  <dc:subject/>
  <dc:title>Aproximación comprensiva a las Artes Visuales II.</dc:title>
</cp:coreProperties>
</file>