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68F1-24BC-41EE-BBED-7FF9939F7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5B311-5B4C-44D3-B001-3EC1732C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A20A6-8DB6-429E-B4CA-FBE66E4AE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C47E-F789-4756-891A-9A9A8B32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219A-CDCB-48E3-888A-87C844555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44F-C87E-4580-A7D4-1103B3E15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9B11-751B-4292-958B-606BC3AE9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EB8-5B0F-4884-AA9C-F6A726F7C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D06F-5AA7-439B-842A-F0E6929E4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5B8-FFFD-46D4-ABFF-F10D9556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08E2-6473-4523-A804-762506FE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4CD-6D08-4688-B86E-AA14EFC60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A10B9-2430-434A-AD87-318BA494067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Times New Roman"/>
              </a:rPr>
              <a:t>Aproximación comprensiva a las </a:t>
            </a:r>
            <a:r>
              <a:rPr b="0" i="1" lang="en-US" sz="4400" spc="-1" strike="noStrike">
                <a:solidFill>
                  <a:srgbClr val="e3ebf1"/>
                </a:solidFill>
                <a:latin typeface="Times New Roman"/>
              </a:rPr>
              <a:t>Artes Visual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scusiones prelimina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kosuth" descr=""/>
          <p:cNvPicPr/>
          <p:nvPr/>
        </p:nvPicPr>
        <p:blipFill>
          <a:blip r:embed="rId1"/>
          <a:stretch/>
        </p:blipFill>
        <p:spPr>
          <a:xfrm>
            <a:off x="1600200" y="380880"/>
            <a:ext cx="5943600" cy="531504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983600" y="5867280"/>
            <a:ext cx="528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Titled (Art as idea as idea)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5683320" cy="64800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940360" y="4797360"/>
            <a:ext cx="305928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iego de Velázquez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ffffff"/>
                </a:solidFill>
                <a:latin typeface="Arial"/>
              </a:rPr>
              <a:t>Las meninas</a:t>
            </a:r>
            <a:r>
              <a:rPr b="0" lang="es-ES" sz="20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1656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Óleo sobre tela, 318 por 276 cm; Museo del Prado, Madri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dejeuner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829800" y="6172200"/>
            <a:ext cx="756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Édouard Manet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e déjeuner sur l'herbe. 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63. </a:t>
            </a:r>
            <a:r>
              <a:rPr b="0" lang="es-ES_tradnl" sz="1400" spc="-1" strike="noStrike">
                <a:solidFill>
                  <a:srgbClr val="ffffff"/>
                </a:solidFill>
                <a:latin typeface="Arial"/>
              </a:rPr>
              <a:t>208 × 264 cm; Musée d'Orsay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Aragne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5105520" cy="3530520"/>
          </a:xfrm>
          <a:prstGeom prst="rect">
            <a:avLst/>
          </a:prstGeom>
          <a:ln w="0">
            <a:noFill/>
          </a:ln>
        </p:spPr>
      </p:pic>
      <p:pic>
        <p:nvPicPr>
          <p:cNvPr id="48" name="mff1916" descr=""/>
          <p:cNvPicPr/>
          <p:nvPr/>
        </p:nvPicPr>
        <p:blipFill>
          <a:blip r:embed="rId2"/>
          <a:stretch/>
        </p:blipFill>
        <p:spPr>
          <a:xfrm>
            <a:off x="609480" y="3962520"/>
            <a:ext cx="3810240" cy="25970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5946480" y="2590920"/>
            <a:ext cx="222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Peter Paul Rub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Minerva y Aracné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6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26,7 x 38,1 cm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47960" y="5029200"/>
            <a:ext cx="3778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acob Jordaen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Apolo como el vencedor de Pan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637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1 por 267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tiziano%20vecellio_El%20rapto%20de%20Europa%20(1562)_185%20por%20205%20cm" descr=""/>
          <p:cNvPicPr/>
          <p:nvPr/>
        </p:nvPicPr>
        <p:blipFill>
          <a:blip r:embed="rId1"/>
          <a:stretch/>
        </p:blipFill>
        <p:spPr>
          <a:xfrm>
            <a:off x="3124080" y="762120"/>
            <a:ext cx="5730840" cy="4994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304920" y="4724280"/>
            <a:ext cx="234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 Vecellio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rapto de Europa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562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85 por 205 c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oncierto%20campestre_tiziano_1511" descr=""/>
          <p:cNvPicPr/>
          <p:nvPr/>
        </p:nvPicPr>
        <p:blipFill>
          <a:blip r:embed="rId1"/>
          <a:stretch/>
        </p:blipFill>
        <p:spPr>
          <a:xfrm>
            <a:off x="1143000" y="228600"/>
            <a:ext cx="6775560" cy="54309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79320" y="5943600"/>
            <a:ext cx="779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Tiziano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Concierto campestre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 - 1511. </a:t>
            </a: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110 x 138 cm ; Museo Nacional del Louvre.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el%20juicio%20de%20paris_1510-20%20marcantonio%20raimondi%20(Rafael)" descr=""/>
          <p:cNvPicPr/>
          <p:nvPr/>
        </p:nvPicPr>
        <p:blipFill>
          <a:blip r:embed="rId1"/>
          <a:stretch/>
        </p:blipFill>
        <p:spPr>
          <a:xfrm>
            <a:off x="762120" y="304920"/>
            <a:ext cx="7696080" cy="525780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1299240" y="6019920"/>
            <a:ext cx="619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antonio Raimondi.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El juicio de Pari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. 1510¿? (Rafae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duchampfontaine2" descr=""/>
          <p:cNvPicPr/>
          <p:nvPr/>
        </p:nvPicPr>
        <p:blipFill>
          <a:blip r:embed="rId1"/>
          <a:stretch/>
        </p:blipFill>
        <p:spPr>
          <a:xfrm>
            <a:off x="3429000" y="228600"/>
            <a:ext cx="5400720" cy="641988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41680" y="5562720"/>
            <a:ext cx="190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Marcel Ducham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La Fonta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191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kosuth-one_and_three_chairs-1965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619760" cy="50846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88160" y="5791320"/>
            <a:ext cx="482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Joseph Kosuth, </a:t>
            </a:r>
            <a:r>
              <a:rPr b="1" i="1" lang="es-ES_tradnl" sz="1800" spc="-1" strike="noStrike">
                <a:solidFill>
                  <a:srgbClr val="ffffff"/>
                </a:solidFill>
                <a:latin typeface="Arial"/>
              </a:rPr>
              <a:t>One and Three Chairs</a:t>
            </a:r>
            <a:r>
              <a:rPr b="0" lang="es-ES_tradnl" sz="1800" spc="-1" strike="noStrike">
                <a:solidFill>
                  <a:srgbClr val="ffffff"/>
                </a:solidFill>
                <a:latin typeface="Arial"/>
              </a:rPr>
              <a:t>, 19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8T18:14:06Z</dcterms:created>
  <dc:creator>Paloma Berríos M.</dc:creator>
  <dc:description/>
  <dc:language>en-US</dc:language>
  <cp:lastModifiedBy>Victor Diaz</cp:lastModifiedBy>
  <dcterms:modified xsi:type="dcterms:W3CDTF">2008-12-04T22:46:36Z</dcterms:modified>
  <cp:revision>23</cp:revision>
  <dc:subject/>
  <dc:title>Aproximación comprensiva a las Artes Visuales</dc:title>
</cp:coreProperties>
</file>