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D3BB-0B29-4FA5-A212-CE14E488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14A0-842B-49BD-AF79-639435F1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EF1E-83EA-42A5-A99D-33C1E7124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3A35-A739-4641-89E9-7D35194D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C33-05E1-435B-91DC-D6F0F2BE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D651-C033-400E-BC05-D3DA73AD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657-0F8A-4693-A332-4D2D0699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6044-891F-4AA9-A2C0-6AF3A739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FB05-6AC7-4280-ADD2-5E712E42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0889-3F52-4C18-9674-A1567253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FA3-79E5-479D-8FB6-092C124D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734A-F441-40B0-B904-DB34FB92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7E88-4365-4002-AF2B-31E0B18FF8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Aproximación comprensiva a las </a:t>
            </a:r>
            <a:r>
              <a:rPr b="0" i="1" lang="en-US" sz="4400" spc="-1" strike="noStrike">
                <a:solidFill>
                  <a:srgbClr val="e3ebf1"/>
                </a:solidFill>
                <a:latin typeface="Times New Roman"/>
              </a:rPr>
              <a:t>Artes Visua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iones prelimi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kosuth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5315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83600" y="5867280"/>
            <a:ext cx="52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Titled (Art as idea as idea)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68332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4797360"/>
            <a:ext cx="3059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ego de Velázquez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Las menin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65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Óleo sobre tela, 318 por 276 cm; Museo del Prado, Madr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9800" y="6172200"/>
            <a:ext cx="75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Édouard Manet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e déjeuner sur l'herbe.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63.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208 × 264 cm; Musée d'Ors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agn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5105520" cy="3530520"/>
          </a:xfrm>
          <a:prstGeom prst="rect">
            <a:avLst/>
          </a:prstGeom>
          <a:ln w="0">
            <a:noFill/>
          </a:ln>
        </p:spPr>
      </p:pic>
      <p:pic>
        <p:nvPicPr>
          <p:cNvPr id="48" name="mff1916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810240" cy="2597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6480" y="2590920"/>
            <a:ext cx="22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ter Paul Rub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Minerva y Aracné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6,7 x 38,1 c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7960" y="5029200"/>
            <a:ext cx="37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acob Jorda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Apolo como el vencedor de P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1 por 267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ziano%20vecellio_El%20rapto%20de%20Europa%20(1562)_185%20por%20205%20cm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5730840" cy="499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47242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 Vecell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rapto de Europa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56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5 por 205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cierto%20campestre_tiziano_151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75560" cy="543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9320" y="5943600"/>
            <a:ext cx="77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cierto campestr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 - 1511.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10 x 138 cm ; Museo Nacional del Louvre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l%20juicio%20de%20paris_1510-20%20marcantonio%20raimondi%20(Rafael)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99240" y="601992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antonio Raimondi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juicio de Pari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¿? (Rafa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uchampfontaine2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400720" cy="641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41680" y="5562720"/>
            <a:ext cx="190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el Duch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a Fonta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osuth-one_and_three_chairs-1965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08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8160" y="579132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,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ne and Three Chair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8:14:06Z</dcterms:created>
  <dc:creator>Paloma Berríos M.</dc:creator>
  <dc:description/>
  <dc:language>en-US</dc:language>
  <cp:lastModifiedBy>Victor Diaz</cp:lastModifiedBy>
  <dcterms:modified xsi:type="dcterms:W3CDTF">2008-12-04T22:46:36Z</dcterms:modified>
  <cp:revision>23</cp:revision>
  <dc:subject/>
  <dc:title>Aproximación comprensiva a las Artes Visuales</dc:title>
</cp:coreProperties>
</file>