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772-280E-4CA6-A4CC-B4304E39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5ADF-B99B-4D1E-BEF3-E3260686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42C-8424-4400-94F5-92A9D2FB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F42-7E3C-4431-A7E2-2ED706DF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3F8D-F9B7-4077-8496-BD48D89D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94B-0340-4FAE-A283-9D60112F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0E2-3699-44A3-8625-9CB7FAAA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829-1A77-45C7-BF9A-09C29A0C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164-6AF4-478F-A28B-0EFD4837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1BE4-B14A-4EB3-BFAF-4FA03E4E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D9C-3576-4D17-BB45-12384008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F46-D06F-4F4D-9B6F-B555860D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A257-3AFD-4AF3-9C50-C0983D58E75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neoclásic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70px-Ingres,_Napoleon_on_his_Imperial_throne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35320" cy="670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3680" y="4876920"/>
            <a:ext cx="35244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en su torno imperia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59 x 162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useo del Ejército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a%20Bañista%20de%20Valpincon”%20(1808)%20Óleo%20en%20tela%20146%20x97.5%20cm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4720" y="5105520"/>
            <a:ext cx="292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ñista de Valpin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6 x97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ominique_Ingres_-_Le_Bain_tur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04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in turc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8 por 108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4520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ldnapoleon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6904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napoleonpic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48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poleon-en-su-estudio-18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797280" cy="647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5880" y="5638680"/>
            <a:ext cx="32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en su estud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avid%20El%20Juramento%20de%20Los%20Horacio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72120" cy="54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400" y="6019920"/>
            <a:ext cx="87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Juramento de Los Horaci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30 x 425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vid%20Bruto%20y%20los%20Cadáveres%20de%20sus%20hijos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930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1560" y="6095880"/>
            <a:ext cx="71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Lictores traen a Bruto los Cadáveres de sus hij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3886200"/>
            <a:ext cx="23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uerte de Mara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93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65 por 128 cm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R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ellas Art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élgica, Brusel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466px-Death_of_Marat_by_David" descr=""/>
          <p:cNvPicPr/>
          <p:nvPr/>
        </p:nvPicPr>
        <p:blipFill>
          <a:blip r:embed="rId1"/>
          <a:stretch/>
        </p:blipFill>
        <p:spPr>
          <a:xfrm>
            <a:off x="3681360" y="228600"/>
            <a:ext cx="4979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2david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153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-coronacion-de-napoleon-y-josefina-18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15480" y="601992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oronación de Napoleón y Josefi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180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potiosis%20de%20homero_ingres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386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55040" y="5943600"/>
            <a:ext cx="6619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ean Auguste Dominique 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poteosis de Homer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6 x 515 cm; Museo Nacional del Louvre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0:29:19Z</dcterms:created>
  <dc:creator>Victor Diaz</dc:creator>
  <dc:description/>
  <dc:language>en-US</dc:language>
  <cp:lastModifiedBy>Victor Diaz</cp:lastModifiedBy>
  <dcterms:modified xsi:type="dcterms:W3CDTF">2008-12-06T21:32:00Z</dcterms:modified>
  <cp:revision>19</cp:revision>
  <dc:subject/>
  <dc:title>El neoclásico</dc:title>
</cp:coreProperties>
</file>