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0F00-C941-4945-B0C7-0FF9054DD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2D48-1D3A-4E61-8170-DF66386F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9FEA-2805-46BC-A4B6-A2CDBC4C8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A888-6B7B-491A-8948-37550CE95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907D-E98F-4E7F-A39B-67FD7679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578B-6FC1-4362-BB5F-E4E46403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0FF4-287F-4FA1-97B8-21E262D5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CA01-FDA0-49AF-9DEC-D19019D1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D373-1631-4CC5-8069-809EB203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7649-D7EC-4D39-87C0-234692B3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5E69-9B22-4A10-8270-8A042BAF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43E3-12CC-447B-A30F-842E5507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9B03-AEAB-45F7-A168-BAA32AA8DAF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Romantic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3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800px-Abtei_im_Eichwald_(C_D_Friedrich)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300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0560" y="6095880"/>
            <a:ext cx="81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Friedric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btei im Eichwald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0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10,4 por 171 cm; Staatliche Museen, Berlín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800px-Caspar_David_Friedrich_006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5695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69560" y="6172200"/>
            <a:ext cx="502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spar David Friedric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ar de hiel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3-2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441px-Chargingchasseur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711680" cy="6400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26920" y="4495680"/>
            <a:ext cx="359928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héodore Géricaul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fficier de chasseurs à cheva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 la garde impériale chargeant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12¿?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49 por 266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l Louvre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Gericault%20-%20La%20balsa%20de%20la%20Medusa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8076960" cy="5500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1640" y="6019920"/>
            <a:ext cx="82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éricaul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lsa de la Medusa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1819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91 x 717 cm; Museo del Louvre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gericault_envy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946680" cy="4924440"/>
          </a:xfrm>
          <a:prstGeom prst="rect">
            <a:avLst/>
          </a:prstGeom>
          <a:ln w="0">
            <a:noFill/>
          </a:ln>
        </p:spPr>
      </p:pic>
      <p:pic>
        <p:nvPicPr>
          <p:cNvPr id="48" name="gericault.insane" descr=""/>
          <p:cNvPicPr/>
          <p:nvPr/>
        </p:nvPicPr>
        <p:blipFill>
          <a:blip r:embed="rId2"/>
          <a:stretch/>
        </p:blipFill>
        <p:spPr>
          <a:xfrm>
            <a:off x="5029200" y="304920"/>
            <a:ext cx="3657600" cy="4800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401520" y="53830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oc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6640" y="614520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819 -1824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87120" y="5383080"/>
            <a:ext cx="279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Monomane de l'envi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gericault001" descr=""/>
          <p:cNvPicPr/>
          <p:nvPr/>
        </p:nvPicPr>
        <p:blipFill>
          <a:blip r:embed="rId1"/>
          <a:stretch/>
        </p:blipFill>
        <p:spPr>
          <a:xfrm>
            <a:off x="2590920" y="304920"/>
            <a:ext cx="4132080" cy="5271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966400" y="6095880"/>
            <a:ext cx="31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Retrato de una mujer insan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foto1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6248160" cy="4713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14440" y="5943600"/>
            <a:ext cx="846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ugéne Delacroix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ante y Virgilio en los infiern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o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rca de Dant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 182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Eugène_Delacroix_-_La_liberté_guidant_le_peuple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6781680" cy="5585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7560" y="6095880"/>
            <a:ext cx="88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ugène Delacroix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liberté guidant le peupl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9 por 352;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l Louvre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471px-Caspar_David_Friedrich_032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5083200" cy="6477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015600" y="4800600"/>
            <a:ext cx="27014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spar David Friedrich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r Wander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über dem Nebelmee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1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5 por 95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05fried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67760" y="5791320"/>
            <a:ext cx="5408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spar Friedric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onje a la orilla del ma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09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10 x 171,5 cm; Staatliche Museen, Berlín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21:32:04Z</dcterms:created>
  <dc:creator>Victor Diaz</dc:creator>
  <dc:description/>
  <dc:language>en-US</dc:language>
  <cp:lastModifiedBy>Victor Diaz</cp:lastModifiedBy>
  <dcterms:modified xsi:type="dcterms:W3CDTF">2008-12-07T00:44:48Z</dcterms:modified>
  <cp:revision>12</cp:revision>
  <dc:subject/>
  <dc:title>Romanticismo</dc:title>
</cp:coreProperties>
</file>