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24C-8A3D-4A6F-B1CF-9BD3C0C9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EF58-2F87-4C35-A9D6-F7379E80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AEA-4176-4878-A056-D5222504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AD8-59E6-4C0A-A09F-AA9C0FE3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FDC-2A81-4E30-BD99-1C5FF609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AFA-512D-479C-871A-8A151CC5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8FD-CB10-423D-AA94-052241F0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2BAE-4D1C-4A76-A82B-892BF1A1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12B-2C30-44F1-845B-D9BB69BB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7106-0AA7-4E24-AD16-FE6BB3F5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2E1-6382-4706-85BC-917052CF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5BFC-533C-4227-A77F-06CE6A56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6BB3-ADB4-4B14-BC02-A956EDB4FC0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mantic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Abtei_im_Eichwald_(C_D_Friedrich)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3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0560" y="60958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btei im Eichwald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,4 por 171 cm; Staatliche Museen, Berlín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00px-Caspar_David_Friedrich_006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69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9560" y="6172200"/>
            <a:ext cx="50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r de hiel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3-2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41px-Chargingchasseur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7116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26920" y="4495680"/>
            <a:ext cx="3599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fficier de chasseurs à chev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la garde impériale chargeant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2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49 por 2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ericault%20-%20La%20balsa%20de%20la%20Medusa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55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640" y="6019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lsa de la Medus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1819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91 x 717 cm; Museo del Louvre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ericault_envy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46680" cy="4924440"/>
          </a:xfrm>
          <a:prstGeom prst="rect">
            <a:avLst/>
          </a:prstGeom>
          <a:ln w="0">
            <a:noFill/>
          </a:ln>
        </p:spPr>
      </p:pic>
      <p:pic>
        <p:nvPicPr>
          <p:cNvPr id="48" name="gericault.insane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520" y="5383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61452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1824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7120" y="538308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onomane de l'env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ricault00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32080" cy="52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664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Retrato de una mujer ins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oto1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48160" cy="471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440" y="5943600"/>
            <a:ext cx="84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é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ante y Virgilio en los infier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 18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ugène_Delacroix_-_La_liberté_guidant_le_peuple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81680" cy="558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7560" y="6095880"/>
            <a:ext cx="88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è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liberté guidant le peupl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9 por 352;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71px-Caspar_David_Friedrich_0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83200" cy="647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5600" y="4800600"/>
            <a:ext cx="2701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Wander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über dem Nebelme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5 por 9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5fried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7760" y="5791320"/>
            <a:ext cx="5408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je a la orilla del ma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71,5 cm; Staatliche Museen, Berlín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21:32:04Z</dcterms:created>
  <dc:creator>Victor Diaz</dc:creator>
  <dc:description/>
  <dc:language>en-US</dc:language>
  <cp:lastModifiedBy>Victor Diaz</cp:lastModifiedBy>
  <dcterms:modified xsi:type="dcterms:W3CDTF">2008-12-07T00:44:48Z</dcterms:modified>
  <cp:revision>12</cp:revision>
  <dc:subject/>
  <dc:title>Romanticismo</dc:title>
</cp:coreProperties>
</file>