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AF1-3332-43D5-8226-97ECA2E0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B61A-D15D-4877-9415-C21D47F2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4478-E3C4-446D-BC17-F896DF6F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ECF7-8199-4CC3-86DC-34A45E4F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9DE-B35E-47D4-A460-666BE691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DDFF-81A9-4793-9A95-66C93376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F477-C75F-44FD-ABA1-039546CF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909-238D-4F6F-AE27-7AC68E85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DC20-7EDD-4668-B0E0-F79B4952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31FD-0F47-40E9-8C46-4D1DF09A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C3DC-2838-4EA2-8116-92224762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7642-8890-4A6F-B53C-652C41B9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16EB-D712-4D59-8959-99C2CAB2DA2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neoclásic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70px-Ingres,_Napoleon_on_his_Imperial_throne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35320" cy="670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3680" y="4876920"/>
            <a:ext cx="35244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en su torno imperia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0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59 x 162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useo del Ejército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a%20Bañista%20de%20Valpincon”%20(1808)%20Óleo%20en%20tela%20146%20x97.5%20cm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30524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4720" y="5105520"/>
            <a:ext cx="2921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ñista de Valpin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6 x97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ominique_Ingres_-_Le_Bain_tur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60440" y="61722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in turc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8 por 108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4520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ldnapoleon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6904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napoleonpic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48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poleon-en-su-estudio-181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3797280" cy="647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5880" y="5638680"/>
            <a:ext cx="32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en su estud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avid%20El%20Juramento%20de%20Los%20Horacios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972120" cy="54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400" y="6019920"/>
            <a:ext cx="87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Juramento de Los Horaci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30 x 425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vid%20Bruto%20y%20los%20Cadáveres%20de%20sus%20hijos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930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1560" y="6095880"/>
            <a:ext cx="71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Lictores traen a Bruto los Cadáveres de sus hij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3886200"/>
            <a:ext cx="234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uerte de Mara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93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65 por 128 cm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R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ellas Art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élgica, Brusel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466px-Death_of_Marat_by_David" descr=""/>
          <p:cNvPicPr/>
          <p:nvPr/>
        </p:nvPicPr>
        <p:blipFill>
          <a:blip r:embed="rId1"/>
          <a:stretch/>
        </p:blipFill>
        <p:spPr>
          <a:xfrm>
            <a:off x="3681360" y="228600"/>
            <a:ext cx="49798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02david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153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a-coronacion-de-napoleon-y-josefina-180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28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15480" y="601992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oronación de Napoleón y Josefi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180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potiosis%20de%20homero_ingres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386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55040" y="5943600"/>
            <a:ext cx="6619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ean Auguste Dominique 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poteosis de Homer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6 x 515 cm; Museo Nacional del Louvre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0:29:19Z</dcterms:created>
  <dc:creator>Victor Diaz</dc:creator>
  <dc:description/>
  <dc:language>en-US</dc:language>
  <cp:lastModifiedBy>Victor Diaz</cp:lastModifiedBy>
  <dcterms:modified xsi:type="dcterms:W3CDTF">2008-12-06T21:32:00Z</dcterms:modified>
  <cp:revision>19</cp:revision>
  <dc:subject/>
  <dc:title>El neoclásico</dc:title>
</cp:coreProperties>
</file>