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BC83-3A90-4FF6-9951-EF5AA8A1E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64EA-5FF4-4F23-9BCF-419EAD89C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46DC-17BB-4494-B5FA-AB07EC32F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8E5B-16D4-4921-8006-59DF764F4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4EFE-067F-4D18-8C02-E05B594F8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D8A6-ED7D-4606-846C-323FA957D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07A2-04C3-45C5-ACCC-E09379F6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742B-E8B4-4122-BAA7-BDBB76A1A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8A5F-8F59-441B-A07F-93C57D1E1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3383-A911-4648-861E-EECE7AB9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3627-E6E9-471E-8A6D-1FE477D4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15C3-2215-450E-8749-82FCD5F5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50112-3C6E-432F-9BB6-89C250985C5D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El arte en el siglo XIX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Fin del Rococó e inicios del neoclasicismo y el romanticismo.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héodore%20Géricault%20Study%20of%20Truncated%20Limbs" descr=""/>
          <p:cNvPicPr/>
          <p:nvPr/>
        </p:nvPicPr>
        <p:blipFill>
          <a:blip r:embed="rId1"/>
          <a:stretch/>
        </p:blipFill>
        <p:spPr>
          <a:xfrm>
            <a:off x="1600200" y="304920"/>
            <a:ext cx="5943600" cy="4873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126440" y="5791320"/>
            <a:ext cx="69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héodore Géricaul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studio de miembros truncad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18 - 19¿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3" descr=""/>
          <p:cNvPicPr/>
          <p:nvPr/>
        </p:nvPicPr>
        <p:blipFill>
          <a:blip r:embed="rId1"/>
          <a:stretch/>
        </p:blipFill>
        <p:spPr>
          <a:xfrm>
            <a:off x="1600200" y="457200"/>
            <a:ext cx="5943600" cy="4888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506320" y="5791320"/>
            <a:ext cx="38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éricaul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Cabezas cortada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18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napoleonpic" descr=""/>
          <p:cNvPicPr/>
          <p:nvPr/>
        </p:nvPicPr>
        <p:blipFill>
          <a:blip r:embed="rId1"/>
          <a:stretch/>
        </p:blipFill>
        <p:spPr>
          <a:xfrm>
            <a:off x="3943440" y="228600"/>
            <a:ext cx="5200560" cy="6400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45800" y="4648320"/>
            <a:ext cx="3699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acques-Louis David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Napoléon franchissant les Alpes.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00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(1802¿?)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[Probablement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segunda versión para Versalles]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oya%20-%20El%20quitasol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858000" cy="4754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26560" y="5638680"/>
            <a:ext cx="77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rancisco de 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El quitasol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777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04 por 152; Museo del Prado, Madr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Goya%20-%20Los%20duques%20de%20Osuna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4791240" cy="6372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786280" y="4876920"/>
            <a:ext cx="28630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os duques de Osuna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788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225 x 174 cm.;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useo del Prado, Madrid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2040" y="6172200"/>
            <a:ext cx="878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os fusilamientos del 3 de mayo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814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266 x 345 cm; Museo del Prado, Madri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8" name="22g" descr=""/>
          <p:cNvPicPr/>
          <p:nvPr/>
        </p:nvPicPr>
        <p:blipFill>
          <a:blip r:embed="rId1"/>
          <a:stretch/>
        </p:blipFill>
        <p:spPr>
          <a:xfrm>
            <a:off x="914400" y="228600"/>
            <a:ext cx="746748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8goya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172360" cy="5715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96760" y="6248520"/>
            <a:ext cx="72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No se puede mirar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810 - 14 ¿?. Museo del grabado de Goy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800px-Francisco_de_Goya_y_Lucientes_021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763120" cy="3930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738800" y="5257800"/>
            <a:ext cx="56397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rancisco de 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a pradera de San Isidro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788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44 por 94 cm; Museo del Prado, Madr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eregrinación_a_la_fuente_de_San_Isidro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8458200" cy="39225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356840" y="5410080"/>
            <a:ext cx="6438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Peregrinación a la fuente de San Isidro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(o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Procesión del Santo Oficio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). 1819 - 1823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23 por 266 cm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800px-La_romería_de_San_Isidro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458200" cy="2725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90760" y="5562720"/>
            <a:ext cx="79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rancisco de 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a romería de San Isidro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819 - 1823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40 por 438 cm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goya.saturn-son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3514680" cy="6324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022000" y="4800600"/>
            <a:ext cx="33004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rancisco de Goya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Saturno devorando a su hijo.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819 - 23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46 x 83 cm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5T02:44:39Z</dcterms:created>
  <dc:creator>Victor Diaz</dc:creator>
  <dc:description/>
  <dc:language>en-US</dc:language>
  <cp:lastModifiedBy>Victor Diaz</cp:lastModifiedBy>
  <dcterms:modified xsi:type="dcterms:W3CDTF">2008-12-05T21:44:37Z</dcterms:modified>
  <cp:revision>14</cp:revision>
  <dc:subject/>
  <dc:title>El arte en el siglo XIX</dc:title>
</cp:coreProperties>
</file>