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76B0E-7B5C-4A8A-9859-6C7B314AA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5BF12-F581-46CC-94CE-9E4B4AD69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1E513-B177-43CA-9089-EC6C1F961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54AEB-3E5A-4BB2-893B-B3C228C57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51AB4-23F8-4883-A426-6CF34B0F0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A876B-758E-43F5-BE5A-C23E9D591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DD245-BEE8-4AE6-B7C6-4B085DA4C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94DEF-103D-4CA2-9B84-7AA69FEDA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AAA93-F4F5-4F13-B1E0-E98D78F6A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73640-C117-4E57-B453-A9EE88D83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27D3D-D33F-40E9-A125-D2212C126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2BE87-870A-47F2-B47E-4C02C5EB8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EF0B5-28D0-4EAC-9A58-59E2B3857BC3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El arte en el siglo XIX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eaeaea"/>
                </a:solidFill>
                <a:latin typeface="Times New Roman"/>
              </a:rPr>
              <a:t>Fin del Rococó e inicios del neoclasicismo y el romanticismo.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Théodore%20Géricault%20Study%20of%20Truncated%20Limbs" descr=""/>
          <p:cNvPicPr/>
          <p:nvPr/>
        </p:nvPicPr>
        <p:blipFill>
          <a:blip r:embed="rId1"/>
          <a:stretch/>
        </p:blipFill>
        <p:spPr>
          <a:xfrm>
            <a:off x="1600200" y="304920"/>
            <a:ext cx="5943600" cy="48736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126440" y="5791320"/>
            <a:ext cx="695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Théodore Géricault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Estudio de miembros truncados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18 - 19¿?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3" descr=""/>
          <p:cNvPicPr/>
          <p:nvPr/>
        </p:nvPicPr>
        <p:blipFill>
          <a:blip r:embed="rId1"/>
          <a:stretch/>
        </p:blipFill>
        <p:spPr>
          <a:xfrm>
            <a:off x="1600200" y="457200"/>
            <a:ext cx="5943600" cy="48880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506320" y="5791320"/>
            <a:ext cx="38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Géricault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Cabezas cortadas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18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napoleonpic" descr=""/>
          <p:cNvPicPr/>
          <p:nvPr/>
        </p:nvPicPr>
        <p:blipFill>
          <a:blip r:embed="rId1"/>
          <a:stretch/>
        </p:blipFill>
        <p:spPr>
          <a:xfrm>
            <a:off x="3943440" y="228600"/>
            <a:ext cx="5200560" cy="64008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145800" y="4648320"/>
            <a:ext cx="3699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Jacques-Louis David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Napoléon franchissant les Alpes.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00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(1802¿?)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[Probablemente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segunda versión para Versalles]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Goya%20-%20El%20quitasol" descr=""/>
          <p:cNvPicPr/>
          <p:nvPr/>
        </p:nvPicPr>
        <p:blipFill>
          <a:blip r:embed="rId1"/>
          <a:stretch/>
        </p:blipFill>
        <p:spPr>
          <a:xfrm>
            <a:off x="1219320" y="304920"/>
            <a:ext cx="6858000" cy="47545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826560" y="5638680"/>
            <a:ext cx="77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rancisco de Goya. </a:t>
            </a:r>
            <a:r>
              <a:rPr b="1" i="1" lang="en-US" sz="2000" spc="-1" strike="noStrike">
                <a:solidFill>
                  <a:srgbClr val="eaeaea"/>
                </a:solidFill>
                <a:latin typeface="Times New Roman"/>
              </a:rPr>
              <a:t>El quitasol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. 1777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104 por 152; Museo del Prado, Madri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Goya%20-%20Los%20duques%20de%20Osuna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4791240" cy="63723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786280" y="4876920"/>
            <a:ext cx="286308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Goya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eaeaea"/>
                </a:solidFill>
                <a:latin typeface="Times New Roman"/>
              </a:rPr>
              <a:t>Los duques de Osuna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1788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225 x 174 cm.;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Museo del Prado, Madrid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2040" y="6172200"/>
            <a:ext cx="878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Goya. </a:t>
            </a:r>
            <a:r>
              <a:rPr b="1" i="1" lang="en-US" sz="2000" spc="-1" strike="noStrike">
                <a:solidFill>
                  <a:srgbClr val="eaeaea"/>
                </a:solidFill>
                <a:latin typeface="Times New Roman"/>
              </a:rPr>
              <a:t>Los fusilamientos del 3 de mayo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. 1814.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266 x 345 cm; Museo del Prado, Madrid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48" name="22g" descr=""/>
          <p:cNvPicPr/>
          <p:nvPr/>
        </p:nvPicPr>
        <p:blipFill>
          <a:blip r:embed="rId1"/>
          <a:stretch/>
        </p:blipFill>
        <p:spPr>
          <a:xfrm>
            <a:off x="914400" y="228600"/>
            <a:ext cx="7467480" cy="57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18goya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8172360" cy="5715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896760" y="6248520"/>
            <a:ext cx="720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Goya. </a:t>
            </a:r>
            <a:r>
              <a:rPr b="1" i="1" lang="en-US" sz="2000" spc="-1" strike="noStrike">
                <a:solidFill>
                  <a:srgbClr val="eaeaea"/>
                </a:solidFill>
                <a:latin typeface="Times New Roman"/>
              </a:rPr>
              <a:t>No se puede mirar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. 1810 - 14 ¿?. Museo del grabado de Goya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800px-Francisco_de_Goya_y_Lucientes_021" descr=""/>
          <p:cNvPicPr/>
          <p:nvPr/>
        </p:nvPicPr>
        <p:blipFill>
          <a:blip r:embed="rId1"/>
          <a:stretch/>
        </p:blipFill>
        <p:spPr>
          <a:xfrm>
            <a:off x="228600" y="609480"/>
            <a:ext cx="8763120" cy="39308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738800" y="5257800"/>
            <a:ext cx="56397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rancisco de Goya. </a:t>
            </a:r>
            <a:r>
              <a:rPr b="1" i="1" lang="en-US" sz="2000" spc="-1" strike="noStrike">
                <a:solidFill>
                  <a:srgbClr val="eaeaea"/>
                </a:solidFill>
                <a:latin typeface="Times New Roman"/>
              </a:rPr>
              <a:t>La pradera de San Isidro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. 1788.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44 por 94 cm; Museo del Prado, Madri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eregrinación_a_la_fuente_de_San_Isidro" descr=""/>
          <p:cNvPicPr/>
          <p:nvPr/>
        </p:nvPicPr>
        <p:blipFill>
          <a:blip r:embed="rId1"/>
          <a:stretch/>
        </p:blipFill>
        <p:spPr>
          <a:xfrm>
            <a:off x="380880" y="533520"/>
            <a:ext cx="8458200" cy="39225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356840" y="5410080"/>
            <a:ext cx="64382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Goya. </a:t>
            </a:r>
            <a:r>
              <a:rPr b="1" i="1" lang="en-US" sz="2000" spc="-1" strike="noStrike">
                <a:solidFill>
                  <a:srgbClr val="eaeaea"/>
                </a:solidFill>
                <a:latin typeface="Times New Roman"/>
              </a:rPr>
              <a:t>Peregrinación a la fuente de San Isidro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(o </a:t>
            </a:r>
            <a:r>
              <a:rPr b="1" i="1" lang="en-US" sz="2000" spc="-1" strike="noStrike">
                <a:solidFill>
                  <a:srgbClr val="eaeaea"/>
                </a:solidFill>
                <a:latin typeface="Times New Roman"/>
              </a:rPr>
              <a:t>Procesión del Santo Oficio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). 1819 - 1823.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123 por 266 cm.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800px-La_romería_de_San_Isidro" descr=""/>
          <p:cNvPicPr/>
          <p:nvPr/>
        </p:nvPicPr>
        <p:blipFill>
          <a:blip r:embed="rId1"/>
          <a:stretch/>
        </p:blipFill>
        <p:spPr>
          <a:xfrm>
            <a:off x="380880" y="914400"/>
            <a:ext cx="8458200" cy="27255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590760" y="5562720"/>
            <a:ext cx="795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rancisco de Goya. </a:t>
            </a:r>
            <a:r>
              <a:rPr b="1" i="1" lang="en-US" sz="2000" spc="-1" strike="noStrike">
                <a:solidFill>
                  <a:srgbClr val="eaeaea"/>
                </a:solidFill>
                <a:latin typeface="Times New Roman"/>
              </a:rPr>
              <a:t>La romería de San Isidro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. 1819 - 1823.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140 por 438 cm.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goya.saturn-son" descr=""/>
          <p:cNvPicPr/>
          <p:nvPr/>
        </p:nvPicPr>
        <p:blipFill>
          <a:blip r:embed="rId1"/>
          <a:stretch/>
        </p:blipFill>
        <p:spPr>
          <a:xfrm>
            <a:off x="533520" y="228600"/>
            <a:ext cx="3514680" cy="63244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5022000" y="4800600"/>
            <a:ext cx="330048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rancisco de Goya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eaeaea"/>
                </a:solidFill>
                <a:latin typeface="Times New Roman"/>
              </a:rPr>
              <a:t>Saturno devorando a su hijo.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1819 - 23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146 x 83 cm.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5T02:44:39Z</dcterms:created>
  <dc:creator>Victor Diaz</dc:creator>
  <dc:description/>
  <dc:language>en-US</dc:language>
  <cp:lastModifiedBy>Victor Diaz</cp:lastModifiedBy>
  <dcterms:modified xsi:type="dcterms:W3CDTF">2008-12-05T21:44:37Z</dcterms:modified>
  <cp:revision>14</cp:revision>
  <dc:subject/>
  <dc:title>El arte en el siglo XIX</dc:title>
</cp:coreProperties>
</file>