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6F08-79B8-46A6-826E-97562BAE8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656B-0A58-49C6-8FA4-1D72C802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8EB5-2C9F-4D92-B50D-C7F33B626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87C2-9D50-4ABF-866C-680EF67C9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5B5C-A662-4DF5-9595-A4FBCDB1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C360-D5BF-4470-A66B-2787E560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8979-54EA-45F9-87E7-89A4224B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B9A4-3806-4361-B7A0-3CE78D4C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B262-A2FE-4DE6-87B7-242BD414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41FA-2712-4E28-9F5A-8BB8932F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12AD-0F74-4B30-B9CD-522BA9AD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54CA-4A64-4E99-B4B1-1604F31F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742E-0113-486C-B63E-057AB055B0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Aproximación comprensiva a las </a:t>
            </a:r>
            <a:r>
              <a:rPr b="0" i="1" lang="en-US" sz="4400" spc="-1" strike="noStrike">
                <a:solidFill>
                  <a:srgbClr val="e3ebf1"/>
                </a:solidFill>
                <a:latin typeface="Times New Roman"/>
              </a:rPr>
              <a:t>Artes Visual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usiones prelimin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kosuth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943600" cy="5315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83600" y="5867280"/>
            <a:ext cx="52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oseph Kosuth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Titled (Art as idea as idea)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, 196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5683320" cy="6480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940360" y="4797360"/>
            <a:ext cx="30592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ego de Velázquez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Las menin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656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Óleo sobre tela, 318 por 276 cm; Museo del Prado, Madr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dejeuner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29800" y="6172200"/>
            <a:ext cx="75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Édouard Manet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Le déjeuner sur l'herbe.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63.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208 × 264 cm; Musée d'Orsa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ragne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5105520" cy="3530520"/>
          </a:xfrm>
          <a:prstGeom prst="rect">
            <a:avLst/>
          </a:prstGeom>
          <a:ln w="0">
            <a:noFill/>
          </a:ln>
        </p:spPr>
      </p:pic>
      <p:pic>
        <p:nvPicPr>
          <p:cNvPr id="48" name="mff1916" descr=""/>
          <p:cNvPicPr/>
          <p:nvPr/>
        </p:nvPicPr>
        <p:blipFill>
          <a:blip r:embed="rId2"/>
          <a:stretch/>
        </p:blipFill>
        <p:spPr>
          <a:xfrm>
            <a:off x="609480" y="3962520"/>
            <a:ext cx="3810240" cy="2597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946480" y="2590920"/>
            <a:ext cx="222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eter Paul Rube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Minerva y Aracné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63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26,7 x 38,1 c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7960" y="5029200"/>
            <a:ext cx="377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acob Jordae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Apolo como el vencedor de Pa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637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1 por 267 c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iziano%20vecellio_El%20rapto%20de%20Europa%20(1562)_185%20por%20205%20cm" descr=""/>
          <p:cNvPicPr/>
          <p:nvPr/>
        </p:nvPicPr>
        <p:blipFill>
          <a:blip r:embed="rId1"/>
          <a:stretch/>
        </p:blipFill>
        <p:spPr>
          <a:xfrm>
            <a:off x="3124080" y="762120"/>
            <a:ext cx="5730840" cy="4994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4724280"/>
            <a:ext cx="234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iziano Vecelli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El rapto de Europa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562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5 por 205 c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cierto%20campestre_tiziano_1511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775560" cy="5430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79320" y="5943600"/>
            <a:ext cx="779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iziano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Concierto campestre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1510 - 1511.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10 x 138 cm ; Museo Nacional del Louvre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el%20juicio%20de%20paris_1510-20%20marcantonio%20raimondi%20(Rafael)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96080" cy="5257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99240" y="6019920"/>
            <a:ext cx="61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arcantonio Raimondi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El juicio de Pari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1510¿? (Rafae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duchampfontaine2" descr=""/>
          <p:cNvPicPr/>
          <p:nvPr/>
        </p:nvPicPr>
        <p:blipFill>
          <a:blip r:embed="rId1"/>
          <a:stretch/>
        </p:blipFill>
        <p:spPr>
          <a:xfrm>
            <a:off x="3429000" y="228600"/>
            <a:ext cx="5400720" cy="6419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41680" y="5562720"/>
            <a:ext cx="190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arcel Ducha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La Fonta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9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kosuth-one_and_three_chairs-1965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19760" cy="5084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88160" y="579132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oseph Kosuth,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One and Three Chair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, 196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8:14:06Z</dcterms:created>
  <dc:creator>Paloma Berríos M.</dc:creator>
  <dc:description/>
  <dc:language>en-US</dc:language>
  <cp:lastModifiedBy>Victor Diaz</cp:lastModifiedBy>
  <dcterms:modified xsi:type="dcterms:W3CDTF">2008-12-04T22:46:36Z</dcterms:modified>
  <cp:revision>23</cp:revision>
  <dc:subject/>
  <dc:title>Aproximación comprensiva a las Artes Visuales</dc:title>
</cp:coreProperties>
</file>