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463B-31FC-4E24-9048-14E5F7B0A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88E4-D64C-4E4E-B09E-5D622621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9038-FB55-4868-B03D-45FD340DD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E111-3BD6-42C5-8E98-ACE46AC4C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80CE-EEF0-476C-AD14-C90BD748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F01B-2C7D-4A60-B1B2-BBDA6B94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F2E6-7BAA-459D-BDCE-E7B9B80A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3BA1-6F5F-45FD-A379-7D4CA2FA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7E0D-6B72-47C9-99F8-16460A57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F483-AF2E-4F2F-9ADC-4C342851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56D4-B824-4725-B3C8-C9F9674A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E153-E722-47FA-B8E9-BB4B5B7D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8593-E88F-4122-BD09-8D4F892136C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Manet: modernismo y surgimiento del impresionismo.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nsición del siglo XIX hacia el siglo XX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anet6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848720" cy="5637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1600" y="6095880"/>
            <a:ext cx="86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usique aux Tuileri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6,2 x 118,1 cm; National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ortrait%20d'Emile%20Zola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952880" cy="6324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16320" y="5105520"/>
            <a:ext cx="2556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ortrait d'Emile Zola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46 x 114 cm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800px-The_Great_Wave_off_Kanagawa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257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1080" y="5943600"/>
            <a:ext cx="85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atsushika Hokusa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Kanagawa oki nami ur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gran ola de Kanagawa]. 1832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4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4560" y="5943600"/>
            <a:ext cx="45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El sueño de la mujer del pescado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Monet_DesayunoEstudio65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21560" cy="5373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5600" y="6095880"/>
            <a:ext cx="84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sayuno sobre la hierb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-66. [Estudio de tamaño menor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ejeuner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467840" cy="5600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3680" y="6172200"/>
            <a:ext cx="89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é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8 por 264 cm; Museo de Orsay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lympia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5477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92640" y="6095880"/>
            <a:ext cx="64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800px-Tizian_102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21560" cy="545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2880" y="5943600"/>
            <a:ext cx="76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izian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enus de Urbi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53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5 por 119 cm; Galería Uffizi, Florenc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l%20pifano%20de%20manet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722400" cy="6400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1880" y="5105520"/>
            <a:ext cx="42620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cador de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1 x 97 cm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DE%20VALLADOLID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670200" cy="6477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33680" y="5791320"/>
            <a:ext cx="4584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blo de Valladolid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636-37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12 por 125 cm; Museo del Prado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fusilamientos_manet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400800" cy="537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36040" y="5791320"/>
            <a:ext cx="615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ejecución del Emperador Maximili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2 x 305 cm; Städtische Kunsthall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anet_balcone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54640" cy="632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027400" y="5486400"/>
            <a:ext cx="389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8-186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70 por 124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80px-Goya_maya_balcon" descr=""/>
          <p:cNvPicPr/>
          <p:nvPr/>
        </p:nvPicPr>
        <p:blipFill>
          <a:blip r:embed="rId1"/>
          <a:stretch/>
        </p:blipFill>
        <p:spPr>
          <a:xfrm>
            <a:off x="4637160" y="304920"/>
            <a:ext cx="4011480" cy="63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6280" y="5715000"/>
            <a:ext cx="398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Majas en el balcón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08-1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62 x 107 cm; colección particula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2:56:51Z</dcterms:created>
  <dc:creator>Victor Diaz</dc:creator>
  <dc:description/>
  <dc:language>en-US</dc:language>
  <cp:lastModifiedBy>Victor Diaz</cp:lastModifiedBy>
  <dcterms:modified xsi:type="dcterms:W3CDTF">2008-12-23T23:27:21Z</dcterms:modified>
  <cp:revision>16</cp:revision>
  <dc:subject/>
  <dc:title>Manet: modernismo y surgimiento del impresionismo.   </dc:title>
</cp:coreProperties>
</file>