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EDE0-1E48-4A5E-B1B5-EF061E22F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B5D2-5626-48AF-B383-DF4FE064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7D1A-35DD-4955-B539-E07403CAE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9850-EE58-49C5-83F9-CC9A249FF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5547-300B-4BB8-88F2-9C743459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AA4A-B448-45B1-8840-F66B53C2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CD40-AFED-4335-82B6-5F931A8E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F306-7FEB-4D9B-AA45-ECDD6525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B7CA-1472-4CB3-8C24-6679090E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4E65-0B29-43C3-A8D3-174C394D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15B6-EC48-4A89-BA8E-57BC3276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60DC-DC6F-4871-952F-77186A71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BF32-022D-4728-8E91-0C2555DCE2C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el romanticismo al impresion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4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ea-monsters-detail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55308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urner%20botes%20en%20el%20mar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010640" cy="5440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78360" y="5867280"/>
            <a:ext cx="643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Boats at se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0 - 1840¿?[aceptado hacia los ‘50]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2.2 x 27.9 cm; The Tate Gallery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Monet%20-%20Impresión%20Sol%20Naciente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477120" cy="5006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43760" y="5715000"/>
            <a:ext cx="7709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mpression, soleil lev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Impresión, sol naciente]. 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8 por 63 cm; Museo Marmottan-Monet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800px-John_Constable_013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478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9840" y="5791320"/>
            <a:ext cx="82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hn 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he Hay Wa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0 por 185 cm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stable_Salisbury_meadows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162560" cy="5699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34960" y="5867280"/>
            <a:ext cx="621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alisbury Cathedral from the meadow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51 por 190 cm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tonehenge1835_387%20x%20591%20mm_Victoria%20and%20Albert%20Museum,%20London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543800" cy="4827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46040" y="5715000"/>
            <a:ext cx="84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toneheng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87 x 591 mm; Victoria and Albert Museum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urner-1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848720" cy="521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26800" y="5867280"/>
            <a:ext cx="675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seph Mallord William 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do building Carthag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55 x 232 cm; National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800px-Joseph_Mallord_William_Turner_064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77320" cy="5268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74160" y="5791320"/>
            <a:ext cx="7462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seph Mallord William 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lysses Deriding Polyphemu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3 por 202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ulysses-detail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617220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800px-Rain_Steam_and_Speed_the_Great_Western_Railway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315200" cy="5432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28960" y="5867280"/>
            <a:ext cx="69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ain, steam and speed. The great western railway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44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 × 121.8 cm; National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unrise%20with%20Sea%20Monsters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858000" cy="5173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8040" y="5867280"/>
            <a:ext cx="81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unrise with sea monster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4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.5 x 122 cm; Tate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00:44:56Z</dcterms:created>
  <dc:creator>Victor Diaz</dc:creator>
  <dc:description/>
  <dc:language>en-US</dc:language>
  <cp:lastModifiedBy>Victor Diaz</cp:lastModifiedBy>
  <dcterms:modified xsi:type="dcterms:W3CDTF">2008-12-14T22:56:48Z</dcterms:modified>
  <cp:revision>19</cp:revision>
  <dc:subject/>
  <dc:title>Del romanticismo al impresionismo</dc:title>
</cp:coreProperties>
</file>