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A583-C2D0-4833-8430-0C230D8D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8969-5E8C-4CFE-BA6A-CDC04DF0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E243-76A7-4751-B31A-744D2CF11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891E-3C7F-472A-9078-D5EC587DE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8ED2-1A33-4706-B626-9AFB7BC2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7AEA-9974-49F2-9363-5A23D323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F65B-896F-460E-A359-2561AB67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96E6-8DB0-4C93-B841-E4437F84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B79E-19BB-42FA-B391-48B0951E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FFBF-5B11-4013-936E-774CDBA7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9946-3E1D-41B2-8964-F36600D4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8072-0B2E-4676-BB8C-08D2C642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2B77-2FC7-4979-A3EC-8ACF497D019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 arte en el siglo XIX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Fin del Rococó e inicios del neoclasicismo y el romanticismo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héodore%20Géricault%20Study%20of%20Truncated%20Limbs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5943600" cy="4873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26440" y="5791320"/>
            <a:ext cx="69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héodore Géricaul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tudio de miembros truncad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8 - 19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3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5943600" cy="4888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06320" y="5791320"/>
            <a:ext cx="38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éricaul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bezas cortad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8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napoleonpic" descr=""/>
          <p:cNvPicPr/>
          <p:nvPr/>
        </p:nvPicPr>
        <p:blipFill>
          <a:blip r:embed="rId1"/>
          <a:stretch/>
        </p:blipFill>
        <p:spPr>
          <a:xfrm>
            <a:off x="3943440" y="228600"/>
            <a:ext cx="5200560" cy="6400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5800" y="4648320"/>
            <a:ext cx="3699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cques-Louis 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poléon franchissant les Alpes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00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(1802¿?)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[Probablement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segunda versión para Versalles]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oya%20-%20El%20quitasol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858000" cy="4754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26560" y="5638680"/>
            <a:ext cx="77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El quitaso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777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04 por 152; Museo del Prado, Madr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oya%20-%20Los%20duques%20de%20Osuna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791240" cy="6372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86280" y="4876920"/>
            <a:ext cx="2863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os duques de Osun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788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225 x 174 cm.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seo del Prado, Madrid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2040" y="6172200"/>
            <a:ext cx="87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os fusilamientos del 3 de may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14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66 x 345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8" name="22g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46748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8goya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17236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96760" y="6248520"/>
            <a:ext cx="72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No se puede mirar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10 - 14 ¿?. Museo del grabado de Goy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800px-Francisco_de_Goya_y_Lucientes_021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763120" cy="3930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38800" y="5257800"/>
            <a:ext cx="5639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pradera de San Isidr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788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44 por 94 cm; Museo del Prado, Madr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eregrinación_a_la_fuente_de_San_Isidro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458200" cy="3922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56840" y="5410080"/>
            <a:ext cx="6438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eregrinación a la fuente de San Isidr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(o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rocesión del Santo Ofici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). 1819 - 1823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23 por 266 cm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800px-La_romería_de_San_Isidro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458200" cy="2725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90760" y="5562720"/>
            <a:ext cx="79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romería de San Isidr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19 - 1823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40 por 438 cm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goya.saturn-son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3514680" cy="6324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22000" y="4800600"/>
            <a:ext cx="33004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Saturno devorando a su hijo.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19 - 23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46 x 83 cm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02:44:39Z</dcterms:created>
  <dc:creator>Victor Diaz</dc:creator>
  <dc:description/>
  <dc:language>en-US</dc:language>
  <cp:lastModifiedBy>Victor Diaz</cp:lastModifiedBy>
  <dcterms:modified xsi:type="dcterms:W3CDTF">2008-12-05T21:44:37Z</dcterms:modified>
  <cp:revision>14</cp:revision>
  <dc:subject/>
  <dc:title>El arte en el siglo XIX</dc:title>
</cp:coreProperties>
</file>