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24661-7782-4DAB-A2A8-270AE623F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96823-927C-4802-9358-F04B0B14E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AF5F9-90D9-4DE0-919A-0BD42FD59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6F913-C4B0-4790-B6A2-2D762C9CC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BD45E-E8AC-483E-BDD4-391DF1D23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7A4CC-6B7C-40C6-B2F9-D408D22B9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C40BE-756E-45A3-AC79-E1463384E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B413D-767A-4D36-963B-EF7F26E29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847DB-0B53-4938-989F-81ABA7AE4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BE8DF-A134-428A-A732-FEF085E2C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14320-8289-41DB-AD34-A212A1C37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DA23B-154C-4700-811A-09AAE0B6C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CB070-2F60-4B62-AD01-BE5C329D9CA1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aeaea"/>
                </a:solidFill>
                <a:latin typeface="Times New Roman"/>
              </a:rPr>
              <a:t>Manet: modernismo y surgimiento del impresionismo.   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ransición del siglo XIX hacia el siglo XX.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Manet6" descr=""/>
          <p:cNvPicPr/>
          <p:nvPr/>
        </p:nvPicPr>
        <p:blipFill>
          <a:blip r:embed="rId1"/>
          <a:stretch/>
        </p:blipFill>
        <p:spPr>
          <a:xfrm>
            <a:off x="685800" y="152280"/>
            <a:ext cx="7848720" cy="563724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91600" y="6095880"/>
            <a:ext cx="863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Manet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a Musique aux Tuileries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62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76,2 x 118,1 cm; National Gallery, Londres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ortrait%20d'Emile%20Zola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4952880" cy="63244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6016320" y="5105520"/>
            <a:ext cx="255672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Portrait d'Emile Zola.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68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146 x 114 cm;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Museo de Orsay, París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800px-The_Great_Wave_off_Kanagawa" descr=""/>
          <p:cNvPicPr/>
          <p:nvPr/>
        </p:nvPicPr>
        <p:blipFill>
          <a:blip r:embed="rId1"/>
          <a:stretch/>
        </p:blipFill>
        <p:spPr>
          <a:xfrm>
            <a:off x="838080" y="228600"/>
            <a:ext cx="7620120" cy="52578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361080" y="5943600"/>
            <a:ext cx="852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Katsushika Hokusai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Kanagawa oki nami ura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 [La gran ola de Kanagawa]. 1832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4" descr=""/>
          <p:cNvPicPr/>
          <p:nvPr/>
        </p:nvPicPr>
        <p:blipFill>
          <a:blip r:embed="rId1"/>
          <a:stretch/>
        </p:blipFill>
        <p:spPr>
          <a:xfrm>
            <a:off x="1066680" y="228600"/>
            <a:ext cx="7086600" cy="531504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2284560" y="5943600"/>
            <a:ext cx="458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aeaea"/>
                </a:solidFill>
                <a:latin typeface="Times New Roman"/>
              </a:rPr>
              <a:t>El sueño de la mujer del pescador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Monet_DesayunoEstudio65" descr=""/>
          <p:cNvPicPr/>
          <p:nvPr/>
        </p:nvPicPr>
        <p:blipFill>
          <a:blip r:embed="rId1"/>
          <a:stretch/>
        </p:blipFill>
        <p:spPr>
          <a:xfrm>
            <a:off x="762120" y="304920"/>
            <a:ext cx="7621560" cy="53737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435600" y="6095880"/>
            <a:ext cx="847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Claude Monet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Desayuno sobre la hierba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65-66. [Estudio de tamaño menor]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dejeuner" descr=""/>
          <p:cNvPicPr/>
          <p:nvPr/>
        </p:nvPicPr>
        <p:blipFill>
          <a:blip r:embed="rId1"/>
          <a:stretch/>
        </p:blipFill>
        <p:spPr>
          <a:xfrm>
            <a:off x="838080" y="228600"/>
            <a:ext cx="7467840" cy="56008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93680" y="6172200"/>
            <a:ext cx="896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Édouard Manet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e Déjeuner sur l'herbe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63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208 por 264 cm; Museo de Orsay, París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olympia" descr=""/>
          <p:cNvPicPr/>
          <p:nvPr/>
        </p:nvPicPr>
        <p:blipFill>
          <a:blip r:embed="rId1"/>
          <a:stretch/>
        </p:blipFill>
        <p:spPr>
          <a:xfrm>
            <a:off x="533520" y="228600"/>
            <a:ext cx="8153280" cy="54770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592640" y="6095880"/>
            <a:ext cx="643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Manet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Olympia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63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190 por 130 cm; Museo de Orsay, París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800px-Tizian_102" descr=""/>
          <p:cNvPicPr/>
          <p:nvPr/>
        </p:nvPicPr>
        <p:blipFill>
          <a:blip r:embed="rId1"/>
          <a:stretch/>
        </p:blipFill>
        <p:spPr>
          <a:xfrm>
            <a:off x="762120" y="152280"/>
            <a:ext cx="7621560" cy="5459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902880" y="5943600"/>
            <a:ext cx="764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Tiziano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Venus de Urbino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538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165 por 119 cm; Galería Uffizi, Florencia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el%20pifano%20de%20manet" descr=""/>
          <p:cNvPicPr/>
          <p:nvPr/>
        </p:nvPicPr>
        <p:blipFill>
          <a:blip r:embed="rId1"/>
          <a:stretch/>
        </p:blipFill>
        <p:spPr>
          <a:xfrm>
            <a:off x="4876920" y="228600"/>
            <a:ext cx="3722400" cy="64008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371880" y="5105520"/>
            <a:ext cx="42620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Manet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El Pífano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 (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Tocador de pífano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)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66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161 x 97 cm. Museo de Orsay, París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ABLO%20DE%20VALLADOLID" descr=""/>
          <p:cNvPicPr/>
          <p:nvPr/>
        </p:nvPicPr>
        <p:blipFill>
          <a:blip r:embed="rId1"/>
          <a:stretch/>
        </p:blipFill>
        <p:spPr>
          <a:xfrm>
            <a:off x="457200" y="228600"/>
            <a:ext cx="3670200" cy="64771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4333680" y="5791320"/>
            <a:ext cx="458496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Velázquez. </a:t>
            </a:r>
            <a:r>
              <a:rPr b="1" i="1" lang="en-US" sz="2000" spc="-1" strike="noStrike">
                <a:solidFill>
                  <a:srgbClr val="eaeaea"/>
                </a:solidFill>
                <a:latin typeface="Times New Roman"/>
              </a:rPr>
              <a:t>Pablo de Valladolid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. 1636-37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212 por 125 cm; Museo del Prado, Madrid.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fusilamientos_manet" descr=""/>
          <p:cNvPicPr/>
          <p:nvPr/>
        </p:nvPicPr>
        <p:blipFill>
          <a:blip r:embed="rId1"/>
          <a:stretch/>
        </p:blipFill>
        <p:spPr>
          <a:xfrm>
            <a:off x="1295280" y="152280"/>
            <a:ext cx="6400800" cy="53755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436040" y="5791320"/>
            <a:ext cx="6151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Manet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a ejecución del Emperador Maximiliano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67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252 x 305 cm; Städtische Kunsthalle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manet_balcone" descr=""/>
          <p:cNvPicPr/>
          <p:nvPr/>
        </p:nvPicPr>
        <p:blipFill>
          <a:blip r:embed="rId1"/>
          <a:stretch/>
        </p:blipFill>
        <p:spPr>
          <a:xfrm>
            <a:off x="380880" y="228600"/>
            <a:ext cx="4454640" cy="63244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5027400" y="5486400"/>
            <a:ext cx="389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Manet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e Balcon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68-1869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170 por 124 cm; Museo de Orsay, París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380px-Goya_maya_balcon" descr=""/>
          <p:cNvPicPr/>
          <p:nvPr/>
        </p:nvPicPr>
        <p:blipFill>
          <a:blip r:embed="rId1"/>
          <a:stretch/>
        </p:blipFill>
        <p:spPr>
          <a:xfrm>
            <a:off x="4637160" y="304920"/>
            <a:ext cx="4011480" cy="63244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296280" y="5715000"/>
            <a:ext cx="3984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Goya. </a:t>
            </a:r>
            <a:r>
              <a:rPr b="1" i="1" lang="en-US" sz="2000" spc="-1" strike="noStrike">
                <a:solidFill>
                  <a:srgbClr val="eaeaea"/>
                </a:solidFill>
                <a:latin typeface="Times New Roman"/>
              </a:rPr>
              <a:t>Majas en el balcón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. 1808-12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162 x 107 cm; colección particular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4T22:56:51Z</dcterms:created>
  <dc:creator>Victor Diaz</dc:creator>
  <dc:description/>
  <dc:language>en-US</dc:language>
  <cp:lastModifiedBy>Victor Diaz</cp:lastModifiedBy>
  <dcterms:modified xsi:type="dcterms:W3CDTF">2008-12-23T23:27:21Z</dcterms:modified>
  <cp:revision>16</cp:revision>
  <dc:subject/>
  <dc:title>Manet: modernismo y surgimiento del impresionismo.   </dc:title>
</cp:coreProperties>
</file>