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F6BC-4199-4FEC-8C29-25F53EF1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6C96-0D54-4931-95F1-F21AE942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B1BB-BCE3-41E3-B054-004759E0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B1F9-7B3E-4A33-BC4F-BF840117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11D7-DC27-492A-B054-88666116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D9C6-C93E-43CB-BADE-D2EC4DCB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69C8-9116-49EB-B8FE-4A53A2AC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011F-C52E-4A05-B65C-04E8AF90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5F64-6BBA-4C69-B5AE-F681066C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7B8E-A4B7-494F-98CE-EB1766E8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0869-0870-40A4-A454-3D00CE86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C736-032D-4191-8D3B-9BE54501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29EC-AAFE-41D2-A70B-F977FA21E45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arte en el siglo XIX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Fin del Rococó e inicios del neoclasicismo y el romanticismo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héodore%20Géricault%20Study%20of%20Truncated%20Limbs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5943600" cy="4873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26440" y="5791320"/>
            <a:ext cx="69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tudio de miembros truncad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8 - 19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3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5943600" cy="4888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6320" y="5791320"/>
            <a:ext cx="38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bezas cortad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8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napoleonpic" descr=""/>
          <p:cNvPicPr/>
          <p:nvPr/>
        </p:nvPicPr>
        <p:blipFill>
          <a:blip r:embed="rId1"/>
          <a:stretch/>
        </p:blipFill>
        <p:spPr>
          <a:xfrm>
            <a:off x="3943440" y="228600"/>
            <a:ext cx="5200560" cy="6400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5800" y="4648320"/>
            <a:ext cx="369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éon franchissant les Alpes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0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1802¿?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[Probablement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egunda versión para Versalles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oya%20-%20El%20quitasol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858000" cy="4754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560" y="5638680"/>
            <a:ext cx="77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El quitaso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7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04 por 152; Museo del Prado, Madr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oya%20-%20Los%20duques%20de%20Osuna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791240" cy="6372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86280" y="4876920"/>
            <a:ext cx="2863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s duques de Osun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8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225 x 174 cm.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2040" y="6172200"/>
            <a:ext cx="87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s fusilamientos del 3 de may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4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66 x 345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22g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46748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8goy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7236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96760" y="6248520"/>
            <a:ext cx="72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o se puede mirar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0 - 14 ¿?. Museo del grabado de Goy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Francisco_de_Goya_y_Lucientes_021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763120" cy="3930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38800" y="5257800"/>
            <a:ext cx="5639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pradera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88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44 por 94 cm; Museo del Prado, Madr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eregrinación_a_la_fuente_de_San_Isidro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458200" cy="3922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56840" y="5410080"/>
            <a:ext cx="6438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eregrinación a la fuente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rocesión del Santo Ofici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). 1819 - 1823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23 por 266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800px-La_romería_de_San_Isidro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2725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90760" y="5562720"/>
            <a:ext cx="79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romería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9 - 1823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40 por 438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goya.saturn-son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35146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22000" y="4800600"/>
            <a:ext cx="33004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Saturno devorando a su hijo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 23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46 x 83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02:44:39Z</dcterms:created>
  <dc:creator>Victor Diaz</dc:creator>
  <dc:description/>
  <dc:language>en-US</dc:language>
  <cp:lastModifiedBy>Victor Diaz</cp:lastModifiedBy>
  <dcterms:modified xsi:type="dcterms:W3CDTF">2008-12-05T21:44:37Z</dcterms:modified>
  <cp:revision>14</cp:revision>
  <dc:subject/>
  <dc:title>El arte en el siglo XIX</dc:title>
</cp:coreProperties>
</file>