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56DD-5F42-4290-A532-8653A02F4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C7CD-29C1-4B28-9DEF-516991A16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D493-487E-4363-82FC-67C3BD81B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48A0-6E31-423E-9523-FA4481C98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94A8-045C-42D3-8E2A-0CC41673E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4B7D-4498-4AAF-9DF9-AAA565F92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9E3E-DAED-4F9C-AE0E-0ABFCFA62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6AC7-9A42-4892-85FC-7043789E8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3A62-FF94-455F-A9E9-C76BD0A83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DDD3-2298-4A50-B404-003736CBE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CD17-8286-4859-97B3-55B78965B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30AF-5BFE-4EF9-B1F6-D180D652A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41862-D427-4CB0-A316-876A966EC8F6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Aproximación comprensiva a las Artes Visuales II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La representación como problema: el problema de la representación.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goya_34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534160" cy="4324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67080" y="5486400"/>
            <a:ext cx="7579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rancisco José de Goya y Lucientes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a maja desnuda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790 - 1800 ¿?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97 por 190 cm; Museo del Prado, Madri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Hacia%201800-1805_95por188_museo%20del%20prado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40291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42080" y="5715000"/>
            <a:ext cx="816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a maja vestida.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1800 - 1805 ¿?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95 por 188 cm; Museo del Prado, Madri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lympia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8153640" cy="54770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979560" y="6019920"/>
            <a:ext cx="741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Édouard  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Olympi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3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90 por 130 cm;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86%20Manet" descr=""/>
          <p:cNvPicPr/>
          <p:nvPr/>
        </p:nvPicPr>
        <p:blipFill>
          <a:blip r:embed="rId1"/>
          <a:stretch/>
        </p:blipFill>
        <p:spPr>
          <a:xfrm>
            <a:off x="914400" y="152280"/>
            <a:ext cx="7334280" cy="5524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894320" y="6095880"/>
            <a:ext cx="537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n bar de las Folies Bergèr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81 - 82 ¿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5682960" cy="6480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090840" y="4648320"/>
            <a:ext cx="28630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Diego de Velázquez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eaeaea"/>
                </a:solidFill>
                <a:latin typeface="Times New Roman"/>
              </a:rPr>
              <a:t>Las meninas</a:t>
            </a: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1656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Óleo sobre tela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318 por 276 cm;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Museo del Prado, Madrid</a:t>
            </a: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Velazquez%20-%20Venus%20del%20Espejo" descr=""/>
          <p:cNvPicPr/>
          <p:nvPr/>
        </p:nvPicPr>
        <p:blipFill>
          <a:blip r:embed="rId1"/>
          <a:stretch/>
        </p:blipFill>
        <p:spPr>
          <a:xfrm>
            <a:off x="914400" y="272880"/>
            <a:ext cx="7543800" cy="5169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4640" y="5943600"/>
            <a:ext cx="86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Velázquez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Venus del espej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647 - 51 ¿?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eaeaea"/>
                </a:solidFill>
                <a:latin typeface="Times New Roman"/>
              </a:rPr>
              <a:t>122 x 177 cm; The National Gallery, Londre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holbein" descr=""/>
          <p:cNvPicPr/>
          <p:nvPr/>
        </p:nvPicPr>
        <p:blipFill>
          <a:blip r:embed="rId1"/>
          <a:stretch/>
        </p:blipFill>
        <p:spPr>
          <a:xfrm>
            <a:off x="3124080" y="609480"/>
            <a:ext cx="5791320" cy="5713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22120" y="4648320"/>
            <a:ext cx="2867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Hans Holbein (el joven)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os embajadores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533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209 por 207 cm; National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allery, Londre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49px-Holbein_Ambassadors_anamorphosis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871560" cy="3555720"/>
          </a:xfrm>
          <a:prstGeom prst="rect">
            <a:avLst/>
          </a:prstGeom>
          <a:ln w="0">
            <a:noFill/>
          </a:ln>
        </p:spPr>
      </p:pic>
      <p:pic>
        <p:nvPicPr>
          <p:cNvPr id="50" name="Skull-Ambassadors" descr=""/>
          <p:cNvPicPr/>
          <p:nvPr/>
        </p:nvPicPr>
        <p:blipFill>
          <a:blip r:embed="rId2"/>
          <a:stretch/>
        </p:blipFill>
        <p:spPr>
          <a:xfrm>
            <a:off x="1981080" y="2895480"/>
            <a:ext cx="2292480" cy="2319480"/>
          </a:xfrm>
          <a:prstGeom prst="rect">
            <a:avLst/>
          </a:prstGeom>
          <a:ln w="0">
            <a:noFill/>
          </a:ln>
        </p:spPr>
      </p:pic>
      <p:pic>
        <p:nvPicPr>
          <p:cNvPr id="51" name="220px-Holbein_spoon_trick" descr=""/>
          <p:cNvPicPr/>
          <p:nvPr/>
        </p:nvPicPr>
        <p:blipFill>
          <a:blip r:embed="rId3"/>
          <a:stretch/>
        </p:blipFill>
        <p:spPr>
          <a:xfrm>
            <a:off x="4800600" y="2286000"/>
            <a:ext cx="380988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Albrecht%20Dürer%20(1471-1528).%20%20Underweysung%20der%20Messung" descr=""/>
          <p:cNvPicPr/>
          <p:nvPr/>
        </p:nvPicPr>
        <p:blipFill>
          <a:blip r:embed="rId1"/>
          <a:stretch/>
        </p:blipFill>
        <p:spPr>
          <a:xfrm>
            <a:off x="304920" y="237960"/>
            <a:ext cx="4440240" cy="6620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330520" y="5334120"/>
            <a:ext cx="323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Albrecht Dürer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nderweysung der Messung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arnolfini" descr=""/>
          <p:cNvPicPr/>
          <p:nvPr/>
        </p:nvPicPr>
        <p:blipFill>
          <a:blip r:embed="rId1"/>
          <a:stretch/>
        </p:blipFill>
        <p:spPr>
          <a:xfrm>
            <a:off x="3733920" y="228600"/>
            <a:ext cx="4687920" cy="6477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29200" y="5410080"/>
            <a:ext cx="281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an Van Eyck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matrimonio Arnolfini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434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Arnolfini_det1" descr=""/>
          <p:cNvPicPr/>
          <p:nvPr/>
        </p:nvPicPr>
        <p:blipFill>
          <a:blip r:embed="rId1"/>
          <a:stretch/>
        </p:blipFill>
        <p:spPr>
          <a:xfrm>
            <a:off x="2438280" y="304920"/>
            <a:ext cx="4627800" cy="63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arnolfini3" descr=""/>
          <p:cNvPicPr/>
          <p:nvPr/>
        </p:nvPicPr>
        <p:blipFill>
          <a:blip r:embed="rId1"/>
          <a:stretch/>
        </p:blipFill>
        <p:spPr>
          <a:xfrm>
            <a:off x="1905120" y="685800"/>
            <a:ext cx="56386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20:02:32Z</dcterms:created>
  <dc:creator>Victor Diaz</dc:creator>
  <dc:description/>
  <dc:language>en-US</dc:language>
  <cp:lastModifiedBy>Victor Diaz</cp:lastModifiedBy>
  <dcterms:modified xsi:type="dcterms:W3CDTF">2008-12-04T22:46:07Z</dcterms:modified>
  <cp:revision>14</cp:revision>
  <dc:subject/>
  <dc:title>Aproximación comprensiva a las Artes Visuales II.</dc:title>
</cp:coreProperties>
</file>