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0AE-4810-436C-BC12-4A7F0BD8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FF2-12BD-427A-8FED-3FCF3534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CC7-BED0-4A6E-B63F-AF73FD9B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AD7-F31D-41C9-83DB-D9792468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9EEC-18BD-43D5-A25D-32109862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263F-D392-4E04-A10F-A136EAF5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8309-73EB-4D35-BB8E-9E53F8F8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19C5-FCB3-4B72-87E7-5E1BC4C3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D19F-04F9-43D1-B804-1DC7C312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378E-07EF-4CF5-A4B4-EB4DAC38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0D6B-2E3C-4C61-A042-8FBAB9C3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55F-DB89-4DF1-BF86-18D1000C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7B55-7CC0-481D-AEA4-2012A60F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B13A-0F15-4797-A5C6-0945789F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6263-E6EE-4FF5-8576-E641760D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D06C-FECE-483B-B959-5A082CEF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2179-7944-4BF8-98EC-865E6998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B02-7C63-43DA-AF9D-99416243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D81-8922-4D30-A2D9-0BB9E92B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A8E-F0A3-4AAE-8938-1891B609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514-A36E-44BC-962F-8B4C0CEC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B30-C308-47E9-98EF-A296C984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E53-97E4-440B-83E5-0734043B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7CB-B0C6-41F0-9B0B-CB96F69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A15E-E233-42C9-A3D0-26BBACDCE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CBA4-1509-42E5-8357-E952E6238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Garamond"/>
              </a:rPr>
              <a:t>ENSAYO: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MX" sz="4000" spc="-1" strike="noStrike">
                <a:solidFill>
                  <a:srgbClr val="000000"/>
                </a:solidFill>
                <a:latin typeface="Garamond"/>
              </a:rPr>
              <a:t>“Entrevista a estudiante área de interés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280" y="4653000"/>
            <a:ext cx="7559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VESTIGACIÓN ETNOGRÁF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Pauta de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¿Cómo escogió su carrera?, temores, razones que lo llevan a optar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ignificado personal que le da a su estudio (enfoque que le da, convicciones)… Definir  lo que es para ud.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Reconocimiento intelectual y social de la carrera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ambiente  estudiantil :facu, etc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Uso Tiempo ¿qué hace como estudiant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isfruta esta situación, Rutinario o cambiante Y por qué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Dificultades: Confrontación expectativas – realida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Grado de especialización de la carrera (distintos enfoqu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Posibilidades/desarrollo de la carrera a lo largo de los añ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¿cómo se abrió camino en la carrera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Tiempo libre: ¿cómo lo utiliza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amilia, amigos, redes sociales ¿cómo son?, cambios a través de los años de estudio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Sesgos de la carrera con su vida cotidiana, y cómo influye en sus relacion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Formato Trabaj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Garamond"/>
              </a:rPr>
              <a:t>Formato individual, times 12, entrega miércoles 3 de noviembre, 2010, por mail e impres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Indic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Presentación: motivo estudio: obtener información de utilidad para la resolución de la elección profesiona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Descripción de camp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Datos personales sobre informa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Entrevista (con impresion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Garamond"/>
              </a:rPr>
              <a:t>Conclusion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aramond"/>
              </a:rPr>
              <a:t>INVESTIGACIÓN ETNOGRÁFIC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El trabajo etnográfico es una forma de investigación cualitativa, que pretende un acercamiento a la realidad estudiada, considerándola plural y con distintos ángulos para ser definida (multicausalidad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Se utiliza generalmente para estudiar fenómenos sociales o cultur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TÉC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Generalmente se trabaja con la técnica de </a:t>
            </a:r>
            <a:r>
              <a:rPr b="0" lang="es-MX" sz="3000" spc="-1" strike="noStrike" u="sng">
                <a:solidFill>
                  <a:srgbClr val="000000"/>
                </a:solidFill>
                <a:uFillTx/>
                <a:latin typeface="Garamond"/>
              </a:rPr>
              <a:t>observación participante</a:t>
            </a: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 que pretende aprehender la totalidad del problema de investigación considerando al investigador como parte del objeto de estudio, en tanto, no puede dejar de influir en su definición del mism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La observación participante tiene un fin descriptivo-analítico, por lo tanto, en general se utiliza para encontrar un probl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1.-“</a:t>
            </a:r>
            <a:r>
              <a:rPr b="1" lang="es-MX" sz="3800" spc="-1" strike="noStrike">
                <a:solidFill>
                  <a:srgbClr val="000000"/>
                </a:solidFill>
                <a:latin typeface="Garamond"/>
              </a:rPr>
              <a:t>El campo”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Es el escenario en que el investigador se va a situar como observad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El primer problema que enfrenta es el choque entre la cultura de los otros y la propia, lo que se puede sobrellevar tratando de ser flexible, empático, interesado en escuchar más que en pregunt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2.- “El informante”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Será relevante que se trate de una persona representativa del grup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Garamond"/>
              </a:rPr>
              <a:t>Informar a grandes rasgos lo que se intenta investig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6868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3.- “La Entrevista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Qué registrar?: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odo lo que pueda recordars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1.Hechos observados: descripciones de personas, actividades, conversaciones, secuencias y duración de los acontecimientos, estructura del escenari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.Comentarios del observad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-Experiencias vividas (sentimientos, impresiones, intuiciones, dudas, incomprensiones, sufrimientos, goces, temores, etc. 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-Conceptualizaciones a partir de lo observado: hipótesis, reflexiones teóricas, líneas de actu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Aspectos a observar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o que dicen (discurs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o que hacen (conductas, gestos, postur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os objetos que utiliz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La ocupación del espacio (de vida socia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El tiempo ordinario (trabajo) y extraordinario (ocio, vacaciones, fiest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El hábitat (forma de vid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Relaciones (grupos, distribución edad-sexo, conflic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Acontecimientos inesperados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Pauta de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s que uds. diseñaron y si les sirven… las siguientes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2:35:17Z</dcterms:created>
  <dc:creator>Carla Ramos</dc:creator>
  <dc:description/>
  <dc:language>en-US</dc:language>
  <cp:lastModifiedBy>Carla Ramos</cp:lastModifiedBy>
  <dcterms:modified xsi:type="dcterms:W3CDTF">2010-10-24T19:23:29Z</dcterms:modified>
  <cp:revision>13</cp:revision>
  <dc:subject/>
  <dc:title>Slide 1</dc:title>
</cp:coreProperties>
</file>