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D7E-5809-428F-8A99-31CBC0E3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F69-2FD1-453B-9BC1-0CD15BD6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C48-9A17-446D-9330-60480CEE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8FA-FCFA-4F7B-8A90-46C05E79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88A4-6372-405A-AD63-9F1CAC16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694F-38EA-463A-A72C-FCCBE151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6553-F05C-4649-B29E-E9EE27BD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6846-F908-4B13-9D6A-BFA82115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6F4C-F13B-46D0-AD38-BE882397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2B39-349C-446C-B1E1-0646D650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09D8-07F0-4599-8CC4-8EDE8C2B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676-D17D-4DB0-859E-C5BF58BF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894B-0E86-48A0-8197-706B1DE1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1D3B-0A17-471D-9192-06DA1D82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3A21-386A-4C08-B178-84536CD4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680A-3444-445E-B422-ED870F85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9CCF-3DE9-4161-B937-7ED3A3D2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1B6-E6A8-4EB5-AE05-848B6D1C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65C9-4F88-4068-B196-966EAF6D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52A-4337-4700-8E3F-BA390E5A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019-69CE-4E5D-8864-12A49CAF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B4B9-D6AE-4D88-9BD6-327D5DD0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1D2-FC09-43F2-A573-E0805A7E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487-BD41-4645-AD13-9331F515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8DA3-FC8E-48CB-9C0F-22FC4E3BB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590-9BE1-4E8C-8F38-E93DD45D8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aramond"/>
              </a:rPr>
              <a:t>ENSAYO: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MX" sz="4000" spc="-1" strike="noStrike">
                <a:solidFill>
                  <a:srgbClr val="000000"/>
                </a:solidFill>
                <a:latin typeface="Garamond"/>
              </a:rPr>
              <a:t>“Entrevista a estudiante área de interés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280" y="46530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VESTIGACIÓN ETNOGRÁF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Pauta de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¿Cómo escogió su carrera?, temores, razones que lo llevan a optar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ignificado personal que le da a su estudio (enfoque que le da, convicciones)… Definir  lo que es para ud.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conocimiento intelectual y social de la carrer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ambiente  estudiantil :facu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so Tiempo ¿qué hace como estudiant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isfruta esta situación, Rutinario o cambiante Y por qué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ificultades: Confrontación expectativas – reali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Grado de especialización de la carrera (distintos enfoqu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osibilidades/desarrollo de la carrera a lo largo de los añ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¿cómo se abrió camino en la carrera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Tiempo libre: ¿cómo lo utiliza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amilia, amigos, redes sociales ¿cómo son?, cambios a través de los años de estudi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sgos de la carrera con su vida cotidiana, y cómo influye en sus relacion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Formato Trabaj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aramond"/>
              </a:rPr>
              <a:t>Formato individual, times 12, entrega miércoles 3 de noviembre, 2010, por mail e impre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Indic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Presentación: motivo estudio: obtener información de utilidad para la resolución de la elección profesion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Descripción de camp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Datos personales sobre informa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Entrevista (con impresion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Conclusion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INVESTIGACIÓN ETNOGRÁFIC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El trabajo etnográfico es una forma de investigación cualitativa, que pretende un acercamiento a la realidad estudiada, considerándola plural y con distintos ángulos para ser definida (multicausalidad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Se utiliza generalmente para estudiar fenómenos sociales o cultur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TÉC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Generalmente se trabaja con la técnica de </a:t>
            </a:r>
            <a:r>
              <a:rPr b="0" lang="es-MX" sz="3000" spc="-1" strike="noStrike" u="sng">
                <a:solidFill>
                  <a:srgbClr val="000000"/>
                </a:solidFill>
                <a:uFillTx/>
                <a:latin typeface="Garamond"/>
              </a:rPr>
              <a:t>observación participante</a:t>
            </a: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 que pretende aprehender la totalidad del problema de investigación considerando al investigador como parte del objeto de estudio, en tanto, no puede dejar de influir en su definición del mis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La observación participante tiene un fin descriptivo-analítico, por lo tanto, en general se utiliza para encontrar un probl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1.-“</a:t>
            </a:r>
            <a:r>
              <a:rPr b="1" lang="es-MX" sz="3800" spc="-1" strike="noStrike">
                <a:solidFill>
                  <a:srgbClr val="000000"/>
                </a:solidFill>
                <a:latin typeface="Garamond"/>
              </a:rPr>
              <a:t>El campo”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Es el escenario en que el investigador se va a situar como observad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El primer problema que enfrenta es el choque entre la cultura de los otros y la propia, lo que se puede sobrellevar tratando de ser flexible, empático, interesado en escuchar más que en pregunt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2.- “El informante”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Será relevante que se trate de una persona representativa del grup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Informar a grandes rasgos lo que se intenta investig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6868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3.- “La Entrevista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Qué registrar?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odo lo que pueda recordars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1.Hechos observados: descripciones de personas, actividades, conversaciones, secuencias y duración de los acontecimientos, estructura del escenari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.Comentarios del observad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-Experiencias vividas (sentimientos, impresiones, intuiciones, dudas, incomprensiones, sufrimientos, goces, temores, etc. 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-Conceptualizaciones a partir de lo observado: hipótesis, reflexiones teóricas, líneas de actu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Aspectos a observar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o que dicen (discurs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o que hacen (conductas, gestos, postur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os objetos que utiliz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a ocupación del espacio (de vida socia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El tiempo ordinario (trabajo) y extraordinario (ocio, vacaciones, fiest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El hábitat (forma de vid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Relaciones (grupos, distribución edad-sexo, conflic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Acontecimientos inesperados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Pauta de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s que uds. diseñaron y si les sirven… las siguiente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2:35:17Z</dcterms:created>
  <dc:creator>Carla Ramos</dc:creator>
  <dc:description/>
  <dc:language>en-US</dc:language>
  <cp:lastModifiedBy>Carla Ramos</cp:lastModifiedBy>
  <dcterms:modified xsi:type="dcterms:W3CDTF">2010-10-24T19:23:29Z</dcterms:modified>
  <cp:revision>13</cp:revision>
  <dc:subject/>
  <dc:title>Slide 1</dc:title>
</cp:coreProperties>
</file>