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800-0162-4F33-8131-30ACB5EF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D42-81A5-4E93-B627-88FD2971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B17-F695-462E-A8F0-AC789DBC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D7E-7296-4055-AEC1-640E25C0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F2A3-8B2D-4779-B19D-BC4EC45A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D2B4-97F3-45FA-A829-D2BB23EB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79E-F696-46AD-B80A-901DD186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5DA0-E8E1-46E0-AE9F-A535B77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BA5B-7B9C-4005-80F7-F09885C0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C42-BA64-4DF8-9027-91AE02E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63D4-D264-42AC-8097-A4CAE523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68E-1311-4636-A35D-E653AFD7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DC4-3291-4793-BC98-4BD6A92E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57C6-EA3A-4F07-BC3C-F21F2AB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10B-D86D-43BF-819E-7DB2AA6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ECED-5FEE-4ED3-90B4-DFCC72CE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6B8C-B513-4332-80A1-6C63E46D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05B-8561-4C26-AFE8-0F4F9382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1BC-7B3B-46D7-B5F4-7DA567B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05B-C0DF-4A8E-AAB0-9C6F016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036-28A1-4601-837F-206B3CE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8DF-DB08-4137-A6FE-BCC4F29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C8D-2CB7-43EE-B591-96EA082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397-7CD2-4150-9597-9133D8C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0DE8-0485-4CB1-B532-61A86FAFB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96A0-4E7F-41D4-BD84-A34443E0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ENSAYO: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Garamond"/>
              </a:rPr>
              <a:t>“Entrevista a estudiante área de interés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46530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VESTIGACIÓN ETNOGRÁF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Pauta de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¿Cómo escogió su carrera?, temores, razones que lo llevan a optar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gnificado personal que le da a su estudio (enfoque que le da, convicciones)… Definir  lo que es para ud.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intelectual y social de la carrer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ambiente  estudiantil :facu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so Tiempo ¿qué hace como estudiant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sfruta esta situación, Rutinario o cambiante Y por qué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ficultades: Confrontación expectativas – real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Grado de especialización de la carrera (distintos enfoqu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osibilidades/desarrollo de la carrera a lo largo de los añ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¿cómo se abrió camino en la carrer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iempo libre: ¿cómo lo utiliz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amilia, amigos, redes sociales ¿cómo son?, cambios a través de los años de estudi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sgos de la carrera con su vida cotidiana, y cómo influye en sus relacion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Formato Trabaj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aramond"/>
              </a:rPr>
              <a:t>Formato individual, times 12, entrega miércoles 3 de noviembre, 2010, por mail e impre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Indic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Presentación: motivo estudio: obtener información de utilidad para la resolución de la elección profesion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cripción de camp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atos personales sobre informa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Entrevista (con impresi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nclus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INVESTIGACIÓN ETNOGRÁF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l trabajo etnográfico es una forma de investigación cualitativa, que pretende un acercamiento a la realidad estudiada, considerándola plural y con distintos ángulos para ser definida (multicausalidad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Se utiliza generalmente para estudiar fenómenos sociales o cultur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TÉC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Generalmente se trabaja con la técnica de </a:t>
            </a:r>
            <a:r>
              <a:rPr b="0" lang="es-MX" sz="3000" spc="-1" strike="noStrike" u="sng">
                <a:solidFill>
                  <a:srgbClr val="000000"/>
                </a:solidFill>
                <a:uFillTx/>
                <a:latin typeface="Garamond"/>
              </a:rPr>
              <a:t>observación participante</a:t>
            </a: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 que pretende aprehender la totalidad del problema de investigación considerando al investigador como parte del objeto de estudio, en tanto, no puede dejar de influir en su definición del m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La observación participante tiene un fin descriptivo-analítico, por lo tanto, en general se utiliza para encontrar un probl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1.-“</a:t>
            </a:r>
            <a:r>
              <a:rPr b="1" lang="es-MX" sz="3800" spc="-1" strike="noStrike">
                <a:solidFill>
                  <a:srgbClr val="000000"/>
                </a:solidFill>
                <a:latin typeface="Garamond"/>
              </a:rPr>
              <a:t>El campo”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s el escenario en que el investigador se va a situar como observad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l primer problema que enfrenta es el choque entre la cultura de los otros y la propia, lo que se puede sobrellevar tratando de ser flexible, empático, interesado en escuchar más que en pregunt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2.- “El informante”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Será relevante que se trate de una persona representativa del gru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Informar a grandes rasgos lo que se intenta investig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686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3.- “La Entrevista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Qué registrar?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o lo que pueda recordar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1.Hechos observados: descripciones de personas, actividades, conversaciones, secuencias y duración de los acontecimientos, estructura del escenari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.Comentarios del observad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-Experiencias vividas (sentimientos, impresiones, intuiciones, dudas, incomprensiones, sufrimientos, goces, temores, etc. 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-Conceptualizaciones a partir de lo observado: hipótesis, reflexiones teóricas, líneas de actu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Aspectos a observar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 que dicen (discurs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 que hacen (conductas, gestos, postur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s objetos que utiliz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a ocupación del espacio (de vida so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El tiempo ordinario (trabajo) y extraordinario (ocio, vacaciones, fiest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El hábitat (forma de vid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Relaciones (grupos, distribución edad-sexo, conflic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Acontecimientos inesperados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Pauta de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que uds. diseñaron y si les sirven… las siguient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2:35:17Z</dcterms:created>
  <dc:creator>Carla Ramos</dc:creator>
  <dc:description/>
  <dc:language>en-US</dc:language>
  <cp:lastModifiedBy>Carla Ramos</cp:lastModifiedBy>
  <dcterms:modified xsi:type="dcterms:W3CDTF">2010-10-24T19:23:29Z</dcterms:modified>
  <cp:revision>13</cp:revision>
  <dc:subject/>
  <dc:title>Slide 1</dc:title>
</cp:coreProperties>
</file>