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7B8-BEAC-401B-9A53-EF2A5C7EFFC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2F9A-1A2A-4012-A4E8-88E48E874971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D82-4B1E-40FC-AEE5-92ED06571424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BD2-CC32-45C1-BEAA-56490BC3EA84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E9D-53F9-40F2-98CE-B82F62E70BC5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B1F-D51D-4CED-A92E-F479DB05549A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09D2-7829-442E-85DA-CAD9BA5DA136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571-0F30-47BC-A3F5-AB4C2E31313E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38B5-B72A-4F89-8A84-CCA04576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9024-C449-403B-A126-FC3EEAE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F6AF-1015-4F7C-9F09-01FFD374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0E73-A4A4-4CB2-B5D4-DC588A75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DA88-29AD-491D-A471-5E67E31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27BD-41EC-4895-8F0D-2A067E6F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2AFB-E173-4124-AC10-4F0774E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E7B3-82B7-4A4E-9A01-86B38B7F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C768-74AE-40DC-BF03-9C06B44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3358-129F-44FE-9EE8-FF99F93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FE12-AC5C-42A9-A7A8-15D29D9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999E-B913-40F1-89EC-09BDB14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0BE-5679-4962-9671-5A2B54AE7E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1857600" cy="1143000"/>
          </a:xfrm>
          <a:prstGeom prst="rect">
            <a:avLst/>
          </a:prstGeom>
          <a:ln w="6480">
            <a:solidFill>
              <a:srgbClr val="7f7f7f"/>
            </a:solidFill>
            <a:miter/>
          </a:ln>
          <a:effectLst>
            <a:outerShdw dist="253976" dir="2996691" blurRad="0" rotWithShape="0">
              <a:srgbClr val="000000">
                <a:alpha val="6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24000" y="18900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00120" y="2421000"/>
            <a:ext cx="6300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d0d0d"/>
                </a:solidFill>
                <a:latin typeface="Arial"/>
              </a:rPr>
              <a:t>CATEDRA: ECONOMIA</a:t>
            </a:r>
            <a:endParaRPr b="0" lang="en-US" sz="4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5268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Introducción </a:t>
            </a:r>
            <a:br>
              <a:rPr sz="3200"/>
            </a:b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1" i="1" lang="es-ES" sz="3200" spc="-1" strike="noStrike">
                <a:solidFill>
                  <a:srgbClr val="0d0d0d"/>
                </a:solidFill>
                <a:latin typeface="Arial"/>
              </a:rPr>
              <a:t>a economía y los sistemas económicos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0745" t="0" r="10866" b="20508"/>
          <a:stretch/>
        </p:blipFill>
        <p:spPr>
          <a:xfrm>
            <a:off x="900000" y="260280"/>
            <a:ext cx="64764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3817800" y="32868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rograma de Estudio Bachillera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6597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lases basadas en el libro de Introducción a la Economía de G. Mankiw y Economía de M. Parkin. Power Point creado por Francisco Leiva Silv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5640" y="152280"/>
            <a:ext cx="1657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n base a los conocimientos que posee actualmente, cuál creo que es la respuesta? (V, F, I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Los conocimientos son difusos o tengo claridad respecto a los conceptos involucrados.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64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Qué conceptos básicos necesitamo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3794"/>
                </a:solidFill>
                <a:latin typeface="Arial"/>
              </a:rPr>
              <a:t>CONCEPTOS: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Ciencia Exacta versus Ciencia So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Definición ini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Enfoque de la Economía versus otras ciencias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Objetivos de la Economí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Problema de Escasez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Ramas de Estudio: Microeconomía o Macroeconomí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ipo de Economía: Positiva o Normativ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42693 CuadroTexto"/>
          <p:cNvSpPr/>
          <p:nvPr/>
        </p:nvSpPr>
        <p:spPr>
          <a:xfrm>
            <a:off x="428760" y="1125360"/>
            <a:ext cx="8319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ienci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finición de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Ciencia que estudia cómo resolver el problema de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nfoque de la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tudia el comportamiento humano, desde la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perspectiva de la 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Objetivo de la 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Asignación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te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de lo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ci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 en términos económic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1" name="8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FD23-FBA5-4CF8-9FDF-DC282280FC88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6390 Rectángulo"/>
          <p:cNvSpPr/>
          <p:nvPr/>
        </p:nvSpPr>
        <p:spPr>
          <a:xfrm>
            <a:off x="468360" y="1989000"/>
            <a:ext cx="35002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El problema económico se plantea a través de una serie de preguntas, cuyas respuestas se encarga de dar la economía.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1.- ¿Qué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2.- ¿Cómo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3.- ¿Para quién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Necesidades Multiples/ Recursos Limitados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42960" y="1285920"/>
            <a:ext cx="770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es el problema económico?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6" name="15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3EC-5801-474C-A9C5-2F175BB4590A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032360" cy="3127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4356000" y="6021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La educación como servicio también se enfrenta al problema económi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1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Problemas Económicos presentes en la economía chile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Salud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duca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Construc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l Transporte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con el Medio ambiente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Pyme Y Microempres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Salu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F4E-41DE-49B0-B29A-F0F2804F2F61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35" name="Picture 2" descr="[61+(TALCA).jpg]"/>
          <p:cNvPicPr/>
          <p:nvPr/>
        </p:nvPicPr>
        <p:blipFill>
          <a:blip r:embed="rId1"/>
          <a:stretch/>
        </p:blipFill>
        <p:spPr>
          <a:xfrm>
            <a:off x="214200" y="1285920"/>
            <a:ext cx="4343400" cy="42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[148+(defuncion).jpg]"/>
          <p:cNvPicPr/>
          <p:nvPr/>
        </p:nvPicPr>
        <p:blipFill>
          <a:blip r:embed="rId2"/>
          <a:stretch/>
        </p:blipFill>
        <p:spPr>
          <a:xfrm>
            <a:off x="4643280" y="2500200"/>
            <a:ext cx="420552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la Educa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C3B-4D8C-43B0-BA41-EF79DC677023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0" name="Picture 2" descr="[educacionperu.png]"/>
          <p:cNvPicPr/>
          <p:nvPr/>
        </p:nvPicPr>
        <p:blipFill>
          <a:blip r:embed="rId1"/>
          <a:stretch/>
        </p:blipFill>
        <p:spPr>
          <a:xfrm>
            <a:off x="214200" y="1643040"/>
            <a:ext cx="4724640" cy="36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pedagogiasocial.cl/campa/educacion400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construc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254-9943-4695-828F-4F85CCC3D45F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5" name="7 Imagen" descr="costanera7.jpg"/>
          <p:cNvPicPr/>
          <p:nvPr/>
        </p:nvPicPr>
        <p:blipFill>
          <a:blip r:embed="rId1"/>
          <a:stretch/>
        </p:blipFill>
        <p:spPr>
          <a:xfrm>
            <a:off x="642960" y="3071880"/>
            <a:ext cx="3546360" cy="3000240"/>
          </a:xfrm>
          <a:prstGeom prst="rect">
            <a:avLst/>
          </a:prstGeom>
          <a:ln w="0">
            <a:noFill/>
          </a:ln>
        </p:spPr>
      </p:pic>
      <p:pic>
        <p:nvPicPr>
          <p:cNvPr id="146" name="8 Imagen" descr="costanera11.jpg"/>
          <p:cNvPicPr/>
          <p:nvPr/>
        </p:nvPicPr>
        <p:blipFill>
          <a:blip r:embed="rId2"/>
          <a:srcRect l="0" t="33521" r="0" b="5044"/>
          <a:stretch/>
        </p:blipFill>
        <p:spPr>
          <a:xfrm>
            <a:off x="642960" y="1357200"/>
            <a:ext cx="3571920" cy="157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danieljadue.cl/blog/wp-content/uploads/2008/04/casascopeva.jpg"/>
          <p:cNvPicPr/>
          <p:nvPr/>
        </p:nvPicPr>
        <p:blipFill>
          <a:blip r:embed="rId3"/>
          <a:stretch/>
        </p:blipFill>
        <p:spPr>
          <a:xfrm>
            <a:off x="4429080" y="241920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el transpor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F36-5F23-4FB5-9570-B374774EB061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1" name="Picture 2" descr="C:\Documents and Settings\Marta\Escritorio\Carmen\Otoño 2009\Ayudantías\Intro Eco\183 (BUSES).jpg"/>
          <p:cNvPicPr/>
          <p:nvPr/>
        </p:nvPicPr>
        <p:blipFill>
          <a:blip r:embed="rId1"/>
          <a:stretch/>
        </p:blipFill>
        <p:spPr>
          <a:xfrm>
            <a:off x="5754600" y="1571760"/>
            <a:ext cx="3246480" cy="41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[147+(book).jpg]"/>
          <p:cNvPicPr/>
          <p:nvPr/>
        </p:nvPicPr>
        <p:blipFill>
          <a:blip r:embed="rId2"/>
          <a:stretch/>
        </p:blipFill>
        <p:spPr>
          <a:xfrm>
            <a:off x="0" y="1643040"/>
            <a:ext cx="5334120" cy="42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el Medio Ambi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30E-DB87-48C3-AE61-CC7C5CB203BE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6" name="Picture 2" descr="[110+(contaminacion).jpg]"/>
          <p:cNvPicPr/>
          <p:nvPr/>
        </p:nvPicPr>
        <p:blipFill>
          <a:blip r:embed="rId1"/>
          <a:stretch/>
        </p:blipFill>
        <p:spPr>
          <a:xfrm>
            <a:off x="155520" y="155736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Marta\Escritorio\Carmen\Otoño 2009\Ayudantías\Intro Eco\180 (mineraII) pascualama.jpg"/>
          <p:cNvPicPr/>
          <p:nvPr/>
        </p:nvPicPr>
        <p:blipFill>
          <a:blip r:embed="rId2"/>
          <a:stretch/>
        </p:blipFill>
        <p:spPr>
          <a:xfrm>
            <a:off x="5072040" y="1571760"/>
            <a:ext cx="3643200" cy="43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cción y Do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Docentes: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A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Alex Chaparro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B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Natalia Bern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C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Francisco Leiv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D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Manuel Aguilar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E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Javier Diaz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F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Christian Belmar (Coordinador)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 con las Py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444B-FCE4-4773-9049-A950BEEE9894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1" name="Picture 2" descr="http://www.elrepuertero.cl/tmp_images/290/noticia_14461_normal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4" name="7 Imagen" descr="n649152750_921509_7634.jpg"/>
          <p:cNvPicPr/>
          <p:nvPr/>
        </p:nvPicPr>
        <p:blipFill>
          <a:blip r:embed="rId2"/>
          <a:stretch/>
        </p:blipFill>
        <p:spPr>
          <a:xfrm>
            <a:off x="285840" y="228600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65" name="8 CuadroTexto"/>
          <p:cNvSpPr/>
          <p:nvPr/>
        </p:nvSpPr>
        <p:spPr>
          <a:xfrm>
            <a:off x="4214880" y="30002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entury Gothic"/>
              </a:rPr>
              <a:t>v/s</a:t>
            </a:r>
            <a:endParaRPr b="0" lang="en-US" sz="3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Globalm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09A4-E8A8-4DB9-966B-3311E508B5C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9" name="Picture 2" descr="[14+(vampigas).jpg]"/>
          <p:cNvPicPr/>
          <p:nvPr/>
        </p:nvPicPr>
        <p:blipFill>
          <a:blip r:embed="rId1"/>
          <a:srcRect l="0" t="6891" r="0" b="6141"/>
          <a:stretch/>
        </p:blipFill>
        <p:spPr>
          <a:xfrm>
            <a:off x="2000160" y="1143000"/>
            <a:ext cx="4869000" cy="564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En America Latina y en el Mundo: ¿Cómo evitamo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obrez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Trabajo Infanti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Informalidad del emple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revisión socia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Salud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73" name="Picture 5" descr="http://s3.amazonaws.com/elespectador/files/images/26dd17adfa9c5af652f9bf4fb39bf9bf.jpg"/>
          <p:cNvPicPr/>
          <p:nvPr/>
        </p:nvPicPr>
        <p:blipFill>
          <a:blip r:embed="rId1"/>
          <a:stretch/>
        </p:blipFill>
        <p:spPr>
          <a:xfrm>
            <a:off x="5643720" y="1285920"/>
            <a:ext cx="3000240" cy="19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://aristotelizar.com/web/wp-content/2008/07/85.jpg"/>
          <p:cNvPicPr/>
          <p:nvPr/>
        </p:nvPicPr>
        <p:blipFill>
          <a:blip r:embed="rId2"/>
          <a:srcRect l="1456" t="1921" r="2610" b="2175"/>
          <a:stretch/>
        </p:blipFill>
        <p:spPr>
          <a:xfrm>
            <a:off x="5572080" y="3643200"/>
            <a:ext cx="301788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8437 CuadroTexto"/>
          <p:cNvSpPr/>
          <p:nvPr/>
        </p:nvSpPr>
        <p:spPr>
          <a:xfrm>
            <a:off x="642960" y="2000160"/>
            <a:ext cx="7704000" cy="31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Fundamentalmente para propósitos pedagógicos la economía se clasifica o divide de varias maneras: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 y macroeconomí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 y economía normativ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Según áreas de aplicación de la metodología de la economí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8 Rectángulo"/>
          <p:cNvSpPr/>
          <p:nvPr/>
        </p:nvSpPr>
        <p:spPr>
          <a:xfrm>
            <a:off x="179280" y="1341360"/>
            <a:ext cx="68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lgunas Clasificaciones o divisiones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249-54AA-488A-8A8C-50593B375C1A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9461 CuadroTexto"/>
          <p:cNvSpPr/>
          <p:nvPr/>
        </p:nvSpPr>
        <p:spPr>
          <a:xfrm>
            <a:off x="714240" y="1500120"/>
            <a:ext cx="770436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pequeños agentes económicos o de l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gentes individualmente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considerado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qué hago cuando aumenta el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ecio de un bie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decid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ontratar o no a un trabajador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oducir o no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más biene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Modelo a utilizar, al inicio el estudio comienza por entender el modelo de mercado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969480" y="1285920"/>
            <a:ext cx="40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Microeconomía y Macro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3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219C-4FDB-4044-A99A-1146B1A611AF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Macro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grande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agregad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conómicos o del conjunto de los agentes económicos.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la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infl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semple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gobierno o el fisco, el sector externo o resto del mundo,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recimient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tc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Modelo a utilizar: Modelo de demanda y oferta agregad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SE 4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21509 CuadroTexto"/>
          <p:cNvSpPr/>
          <p:nvPr/>
        </p:nvSpPr>
        <p:spPr>
          <a:xfrm>
            <a:off x="714240" y="1500120"/>
            <a:ext cx="770436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describe los fenómenos económic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tal cual so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y se preocupa de su medición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los fenómenos económicos desde la perspectiva de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ómo a uno le gustaría que fuesen u ocurriesen las cosas en la 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se fijan metas u objetivos hacia donde se desea llevar las diferentes variables económica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e observan distribuciones inequitativas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Posi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Desarrollar programas para lograr una asignación más equitativa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739440" y="1357200"/>
            <a:ext cx="373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Economía Positiva y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0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27F-54D0-4769-9BB5-4975973CFF07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Distribución del Ingreso en Chi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Chile posee un índice de Gini de 0,57, mientras que el promedio mundial es de 0,405. Esto nos sitúa a la altura de países como Zimbabue  y Zambi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85880" y="2286000"/>
          <a:ext cx="3643200" cy="3929040"/>
        </p:xfrm>
        <a:graphic>
          <a:graphicData uri="http://schemas.openxmlformats.org/drawingml/2006/table">
            <a:tbl>
              <a:tblPr/>
              <a:tblGrid>
                <a:gridCol w="647640"/>
                <a:gridCol w="1014480"/>
                <a:gridCol w="903240"/>
                <a:gridCol w="107784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Decil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Promedi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ín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áx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.84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1.3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57.26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74.49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93.20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2.96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15.71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2.9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5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48.43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6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54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99.07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0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1.24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2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3.94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84.96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4.0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085.0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95" name="4 CuadroTexto"/>
          <p:cNvSpPr/>
          <p:nvPr/>
        </p:nvSpPr>
        <p:spPr>
          <a:xfrm>
            <a:off x="4714920" y="200016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En nuestro país, el 20% de la población más rico acapara el 57% de los ingresos, mientras que el 20% más pobre posee menos del 4,5% del total. Esto quiere decir que el ingreso promedio del quintil superior es 13,8 veces mayor que el ingreso promedio del quintil inferior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i excluyésemos al décimo decil en los cálculos del coeficiente Gini, es decir, incluyésemos sólo los 9 restantes, el Gini resultante para Chile sería de 0,27, lo que nos situaría entre Suecia y España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6" name="5 CuadroTexto"/>
          <p:cNvSpPr/>
          <p:nvPr/>
        </p:nvSpPr>
        <p:spPr>
          <a:xfrm>
            <a:off x="2500200" y="62866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63794"/>
                </a:solidFill>
                <a:latin typeface="Century Gothic"/>
              </a:rPr>
              <a:t>Fuente: Carmen Quezada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2533 CuadroTexto"/>
          <p:cNvSpPr/>
          <p:nvPr/>
        </p:nvSpPr>
        <p:spPr>
          <a:xfrm>
            <a:off x="714240" y="192888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Economía fiscal o finanzas públicas (gobier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Economía monetaria (banca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Economía laboral (capital huma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4.- Economía de la salud (instituciones de salud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5.- Economía de la educación (instituciones de educa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6.- Economía de la energ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7.- Economía de los recursos naturales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8.- Economía del medio ambient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(contaminación o polu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9.- Desarrollo local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9" name="25606 Rectángulo"/>
          <p:cNvSpPr/>
          <p:nvPr/>
        </p:nvSpPr>
        <p:spPr>
          <a:xfrm>
            <a:off x="928800" y="135720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3794"/>
                </a:solidFill>
                <a:latin typeface="Arial"/>
              </a:rPr>
              <a:t>Áreas de aplicación de la metodología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1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147-D43D-4544-A460-CC831C47F1D3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2" name="Picture 8" descr="AndresVelasco"/>
          <p:cNvPicPr/>
          <p:nvPr/>
        </p:nvPicPr>
        <p:blipFill>
          <a:blip r:embed="rId1"/>
          <a:stretch/>
        </p:blipFill>
        <p:spPr>
          <a:xfrm>
            <a:off x="6497640" y="1700280"/>
            <a:ext cx="954000" cy="100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ose_de_gregorio"/>
          <p:cNvPicPr/>
          <p:nvPr/>
        </p:nvPicPr>
        <p:blipFill>
          <a:blip r:embed="rId2"/>
          <a:stretch/>
        </p:blipFill>
        <p:spPr>
          <a:xfrm>
            <a:off x="7667640" y="2852640"/>
            <a:ext cx="1119240" cy="91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imagen"/>
          <p:cNvPicPr/>
          <p:nvPr/>
        </p:nvPicPr>
        <p:blipFill>
          <a:blip r:embed="rId3"/>
          <a:stretch/>
        </p:blipFill>
        <p:spPr>
          <a:xfrm>
            <a:off x="7236000" y="4365720"/>
            <a:ext cx="1014120" cy="1309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5219640" y="6093000"/>
            <a:ext cx="100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ugenio FIguero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Medioambiente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7308720" y="566100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lejandra Mizal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ducación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596360" y="3789360"/>
            <a:ext cx="1296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José de Gregorio.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stabilidad de la moned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445080" y="270828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ndrés Velas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Fiscal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9" name="Picture 23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836640" cy="111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Nombres de artículos en los diferentes ámbitos mencionad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Benavente J.M. y E. Melo (2003)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terminantes socioeconómicos de la criminalidad en Chile durante los noventa”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D.Bravo, G.Crespi and I.Gutiérrez,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sarrollo se escribe con Pyme: el caso chileno.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Century Gothic"/>
              </a:rPr>
              <a:t>Figueroa, E. (ed.); 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Marine Biodiversity: Valuation, Use and Perspectives; Where is Chile Going?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Sánchez J.M., Kunze V. y Castillo J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Environmental, Social, Cultural and Economic Analysis of Large Mining and the Community: Case Study from Chile”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Landerretche, O.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Construyendo Solvencia Fiscal: el éxito macroeconómico de la Concert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2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esentación del Cur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77151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Principales Contenidos: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acroeconomí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3794"/>
                </a:solidFill>
                <a:latin typeface="Arial"/>
              </a:rPr>
              <a:t>Metodología de Enseñanza: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Sesiones expositiva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en el Aul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Grup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Individual/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Ayudantía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Desarrollo de Cas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914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olviendo a nuestra comente ini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Por tanto. Estamos en condiciones entonces de construir una argumentación con respecto a la afirmación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Determinar su valor de verdad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Redactar una justificación utilizando para ellos los conceptos vistos, desde una perspectiva positiva de la economí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Integrar elementos gráficos según correspond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Tomen 10 minutos y construyan una respuesta Escrita, con sus propias palabra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6" name="Diagrama 3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97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Meta de Aprendizaje del Cu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052280"/>
            <a:ext cx="846288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Caracterizar el sistema de asignación de recursos en la economía para comprender el problema de escasez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/Macroeconomí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nterpreta diversos datos económicos básicos a partir de la lectura y construcción de tablas y gráficos para dar sentido a los indicadores económico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diversas situaciones económicas a partir de herramientas teóricas con el objetivo de establecer relaciones de causalidad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lnSpc>
                <a:spcPct val="5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conexiones económicas relevantes para realizar un análisis inicial de la realidad</a:t>
            </a:r>
            <a:r>
              <a:rPr b="1" lang="es-ES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Cómo vamos a aprender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890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Herramienta metodológic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”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Proceso mental para construir un racionamiento de análisis de la realidad desde la perspectiva económic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769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contenid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1.- Comprender la afirmación o hecho: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es es el hecho y qué contructos involucr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esentar el problema, dato, enunciado, notici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Delimitar los contructos involucrados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Identificar constructos a nivel de las características y relacione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2.- Determinar si la afirmación u hecho es simple o compuest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elementos considera afirmación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Identificar el número y  enunciado de las  proposiciones presentes 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Establecer las posibles relaciones lógica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 Establecer conjetur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la la primera intuición y porqué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oponer el valor de verdad de la proposi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Fundamentar su proposición a nivel inicial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4.- Construir el argumento integradamente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línea argumentativa sustenta al hecho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lacionar los contructos teóricos con la afirma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onstruir una línea argumentativa para justificar el valor de verdad del enunciado propuesto, integrando elementos gráficos, si corresponde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visar la lógica de la construcción a partir de contrastarlas  a partir de lo revisado en el curs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5.- Corroborar la hipótesis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La conjetura era la correct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 base de lo relacionado en el punto 4, revisar si la conjetura en el número 3 es falso o verdadero o inciert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6.- Elaboración del comentario económico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el comentario económico puedes elaborar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unciar el valor de verdad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Fundamentación fundamental sintético desde la economía positiv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. Apoyo gráfico, si fuese necesari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6389 CuadroTexto"/>
          <p:cNvSpPr/>
          <p:nvPr/>
        </p:nvSpPr>
        <p:spPr>
          <a:xfrm>
            <a:off x="466560" y="149220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" name="13318 CuadroTexto"/>
          <p:cNvSpPr/>
          <p:nvPr/>
        </p:nvSpPr>
        <p:spPr>
          <a:xfrm>
            <a:off x="582480" y="1192320"/>
            <a:ext cx="82375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“…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La economía es una ciencia exacta que estudia el comportamiento e interacción de las personas desde la perspectiva de cómo priorizar las necesidades que tenemos y de esta forma buscar buenas soluciones a nuestros problemas…”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Comente esta afirmación…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Conceptos Básico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7FDE-D312-4CF6-B7AF-4466FE9B26CA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0720" y="260280"/>
            <a:ext cx="140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63468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nos esta dicie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se nos esta pregunta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0" y="152280"/>
            <a:ext cx="172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simple o Compuesta?.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Cuántas afirmaciones hay en la frase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Tienen alguna relación lògica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una unión de frases que no tiene sentido en términos globales, o si tiene un sentido global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1:34Z</dcterms:created>
  <dc:creator>Fabian Vicencio</dc:creator>
  <dc:description/>
  <dc:language>en-US</dc:language>
  <cp:lastModifiedBy>Sir Alexis</cp:lastModifiedBy>
  <dcterms:modified xsi:type="dcterms:W3CDTF">2010-09-03T12:32:52Z</dcterms:modified>
  <cp:revision>159</cp:revision>
  <dc:subject/>
  <dc:title>Contents</dc:title>
</cp:coreProperties>
</file>