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6644-649D-4BB3-80DA-DEA50744EFC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CB90-A3DC-4894-B20D-55B31734BD1B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FB3B-9843-48D9-86C2-CE6327C7AFDF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E4F4-0D4C-4785-B15C-C77877C0F878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668F-7EC7-44A4-93CA-1C186EDBCE0C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1833-7F39-48D2-8265-BA4DD0441688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57BF-73BE-4387-B149-96D3182D6E19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3B22-0C07-419F-A72D-8A93AF9A457C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D6E05-6B91-4860-9B3E-272663DF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CA580-BCF4-4D4D-A54F-184AE65D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3FFAC-3895-44AB-B62C-514D3EF1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E1748-7492-4CFB-A29D-A6C65D1B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4F63B-E0C1-4758-8CEE-4F8D61C5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8060F-38AC-468A-97F7-0366152E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34D4F-D77D-444A-B737-B3B132DE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0227D-A9E9-45FA-AF12-4443AC17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666B0-AE49-489C-9B39-EF606B3A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69B0-9D8E-4D56-8B20-47F3F86A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8E26-652B-421C-8F80-CAEC61D5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2ABB7-947D-4184-9C57-13FAA137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71E6-2A79-4142-826D-2CBEC53774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44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357120" y="214200"/>
            <a:ext cx="1857600" cy="1143000"/>
          </a:xfrm>
          <a:prstGeom prst="rect">
            <a:avLst/>
          </a:prstGeom>
          <a:ln w="6480">
            <a:solidFill>
              <a:srgbClr val="7f7f7f"/>
            </a:solidFill>
            <a:miter/>
          </a:ln>
          <a:effectLst>
            <a:outerShdw dist="253976" dir="2996691" blurRad="0" rotWithShape="0">
              <a:srgbClr val="000000">
                <a:alpha val="68000"/>
              </a:srgbClr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24000" y="189000"/>
            <a:ext cx="187164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00120" y="2421000"/>
            <a:ext cx="6300720" cy="155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d0d0d"/>
                </a:solidFill>
                <a:latin typeface="Arial"/>
              </a:rPr>
              <a:t>CATEDRA: ECONOMIA</a:t>
            </a:r>
            <a:endParaRPr b="0" lang="en-US" sz="4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0" y="52689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d0d0d"/>
                </a:solidFill>
                <a:latin typeface="Arial"/>
              </a:rPr>
              <a:t>Introducción </a:t>
            </a:r>
            <a:br>
              <a:rPr sz="3200"/>
            </a:br>
            <a:r>
              <a:rPr b="1" i="1" lang="es-ES_tradnl" sz="3200" spc="-1" strike="noStrike">
                <a:solidFill>
                  <a:srgbClr val="0d0d0d"/>
                </a:solidFill>
                <a:latin typeface="Arial"/>
              </a:rPr>
              <a:t>L</a:t>
            </a:r>
            <a:r>
              <a:rPr b="1" i="1" lang="es-ES" sz="3200" spc="-1" strike="noStrike">
                <a:solidFill>
                  <a:srgbClr val="0d0d0d"/>
                </a:solidFill>
                <a:latin typeface="Arial"/>
              </a:rPr>
              <a:t>a economía y los sistemas económicos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rcRect l="20745" t="0" r="10866" b="20508"/>
          <a:stretch/>
        </p:blipFill>
        <p:spPr>
          <a:xfrm>
            <a:off x="900000" y="260280"/>
            <a:ext cx="647640" cy="936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8"/>
          <p:cNvSpPr/>
          <p:nvPr/>
        </p:nvSpPr>
        <p:spPr>
          <a:xfrm>
            <a:off x="3817800" y="32868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rograma de Estudio Bachillerat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65977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Clases basadas en el libro de Introducción a la Economía de G. Mankiw y Economía de M. Parkin. Power Point creado por Francisco Leiva Silva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35640" y="152280"/>
            <a:ext cx="1657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Fase 3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¿En base a los conocimientos que posee actualmente, cuál creo que es la respuesta? (V, F, I)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Los conocimientos son difusos o tengo claridad respecto a los conceptos involucrados.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64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¿Qué conceptos básicos necesitamos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3794"/>
                </a:solidFill>
                <a:latin typeface="Arial"/>
              </a:rPr>
              <a:t>CONCEPTOS: 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Ciencia Exacta versus Ciencia Social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Definición inicial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Enfoque de la Economía versus otras ciencias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Objetivos de la Economía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Problema de Escasez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Ramas de Estudio: Microeconomía o Macroeconomía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Tipo de Economía: Positiva o Normativa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242693 CuadroTexto"/>
          <p:cNvSpPr/>
          <p:nvPr/>
        </p:nvSpPr>
        <p:spPr>
          <a:xfrm>
            <a:off x="428760" y="1125360"/>
            <a:ext cx="831996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Ciencia: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Definición de Economía: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Ciencia que estudia cómo resolver el problema de 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escasez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Enfoque de la Economía: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Estudia el comportamiento humano, desde la 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perspectiva de la escasez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Objetivo de la Economía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Asignación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eficiente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 de los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recursos escasos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1250"/>
              </a:spcBef>
              <a:buClr>
                <a:srgbClr val="163794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Eficiencia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1250"/>
              </a:spcBef>
              <a:buClr>
                <a:srgbClr val="163794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Recursos escaso en términos económicos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1" name="8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31B8-9D96-40C5-8F91-17DF177A00A5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16390 Rectángulo"/>
          <p:cNvSpPr/>
          <p:nvPr/>
        </p:nvSpPr>
        <p:spPr>
          <a:xfrm>
            <a:off x="468360" y="1989000"/>
            <a:ext cx="350028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63794"/>
                </a:solidFill>
                <a:latin typeface="Century Gothic"/>
              </a:rPr>
              <a:t>El problema económico se plantea a través de una serie de preguntas, cuyas respuestas se encarga de dar la economía.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63794"/>
                </a:solidFill>
                <a:latin typeface="Century Gothic"/>
              </a:rPr>
              <a:t>1.- ¿Qué producir?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63794"/>
                </a:solidFill>
                <a:latin typeface="Century Gothic"/>
              </a:rPr>
              <a:t>2.- ¿Cómo producir?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63794"/>
                </a:solidFill>
                <a:latin typeface="Century Gothic"/>
              </a:rPr>
              <a:t>3.- ¿Para quién producir?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63794"/>
                </a:solidFill>
                <a:latin typeface="Century Gothic"/>
              </a:rPr>
              <a:t>Necesidades Multiples/ Recursos Limitados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4" name="11 CuadroTexto"/>
          <p:cNvSpPr/>
          <p:nvPr/>
        </p:nvSpPr>
        <p:spPr>
          <a:xfrm>
            <a:off x="642960" y="1285920"/>
            <a:ext cx="770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¿Qué es el problema económico?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900520" y="214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1.- Introducción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6" name="15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3866-249C-4569-BB91-6884BCF55593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1"/>
          <a:stretch/>
        </p:blipFill>
        <p:spPr>
          <a:xfrm>
            <a:off x="4356000" y="2852640"/>
            <a:ext cx="4032360" cy="31273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4356000" y="6021360"/>
            <a:ext cx="403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La educación como servicio también se enfrenta al problema económico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1508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Problemas Económicos presentes en la economía chilen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95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en la Salud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en Educación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en Construcción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en el Transporte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con el Medio ambiente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en la Pyme Y Microempresa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s en la Salu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D695-7F6F-447C-8E0E-09BA43696FFD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35" name="Picture 2" descr="[61+(TALCA).jpg]"/>
          <p:cNvPicPr/>
          <p:nvPr/>
        </p:nvPicPr>
        <p:blipFill>
          <a:blip r:embed="rId1"/>
          <a:stretch/>
        </p:blipFill>
        <p:spPr>
          <a:xfrm>
            <a:off x="214200" y="1285920"/>
            <a:ext cx="4343400" cy="4286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[148+(defuncion).jpg]"/>
          <p:cNvPicPr/>
          <p:nvPr/>
        </p:nvPicPr>
        <p:blipFill>
          <a:blip r:embed="rId2"/>
          <a:stretch/>
        </p:blipFill>
        <p:spPr>
          <a:xfrm>
            <a:off x="4643280" y="2500200"/>
            <a:ext cx="4205520" cy="2928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s con la Educació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2C5F-25EE-4F46-A4BC-72DC16A0B4D8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40" name="Picture 2" descr="[educacionperu.png]"/>
          <p:cNvPicPr/>
          <p:nvPr/>
        </p:nvPicPr>
        <p:blipFill>
          <a:blip r:embed="rId1"/>
          <a:stretch/>
        </p:blipFill>
        <p:spPr>
          <a:xfrm>
            <a:off x="214200" y="1643040"/>
            <a:ext cx="4724640" cy="3643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www.pedagogiasocial.cl/campa/educacion400.jpg"/>
          <p:cNvPicPr/>
          <p:nvPr/>
        </p:nvPicPr>
        <p:blipFill>
          <a:blip r:embed="rId2"/>
          <a:stretch/>
        </p:blipFill>
        <p:spPr>
          <a:xfrm>
            <a:off x="5357880" y="1571760"/>
            <a:ext cx="3409920" cy="3809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s en la construcció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64ED-4ABA-4FD2-843D-406E08C0C082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45" name="7 Imagen" descr="costanera7.jpg"/>
          <p:cNvPicPr/>
          <p:nvPr/>
        </p:nvPicPr>
        <p:blipFill>
          <a:blip r:embed="rId1"/>
          <a:stretch/>
        </p:blipFill>
        <p:spPr>
          <a:xfrm>
            <a:off x="642960" y="3071880"/>
            <a:ext cx="3546360" cy="3000240"/>
          </a:xfrm>
          <a:prstGeom prst="rect">
            <a:avLst/>
          </a:prstGeom>
          <a:ln w="0">
            <a:noFill/>
          </a:ln>
        </p:spPr>
      </p:pic>
      <p:pic>
        <p:nvPicPr>
          <p:cNvPr id="146" name="8 Imagen" descr="costanera11.jpg"/>
          <p:cNvPicPr/>
          <p:nvPr/>
        </p:nvPicPr>
        <p:blipFill>
          <a:blip r:embed="rId2"/>
          <a:srcRect l="0" t="33521" r="0" b="5044"/>
          <a:stretch/>
        </p:blipFill>
        <p:spPr>
          <a:xfrm>
            <a:off x="642960" y="1357200"/>
            <a:ext cx="3571920" cy="1571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http://danieljadue.cl/blog/wp-content/uploads/2008/04/casascopeva.jpg"/>
          <p:cNvPicPr/>
          <p:nvPr/>
        </p:nvPicPr>
        <p:blipFill>
          <a:blip r:embed="rId3"/>
          <a:stretch/>
        </p:blipFill>
        <p:spPr>
          <a:xfrm>
            <a:off x="4429080" y="2419200"/>
            <a:ext cx="4200480" cy="2152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s en el transpor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D7DA-29AB-4A92-AAEA-5E46161B805E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51" name="Picture 2" descr="C:\Documents and Settings\Marta\Escritorio\Carmen\Otoño 2009\Ayudantías\Intro Eco\183 (BUSES).jpg"/>
          <p:cNvPicPr/>
          <p:nvPr/>
        </p:nvPicPr>
        <p:blipFill>
          <a:blip r:embed="rId1"/>
          <a:stretch/>
        </p:blipFill>
        <p:spPr>
          <a:xfrm>
            <a:off x="5754600" y="1571760"/>
            <a:ext cx="3246480" cy="4171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[147+(book).jpg]"/>
          <p:cNvPicPr/>
          <p:nvPr/>
        </p:nvPicPr>
        <p:blipFill>
          <a:blip r:embed="rId2"/>
          <a:stretch/>
        </p:blipFill>
        <p:spPr>
          <a:xfrm>
            <a:off x="0" y="1643040"/>
            <a:ext cx="5334120" cy="4257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s con el Medio Ambien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CCCE-670D-4CF8-86B5-3892B7533E7A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56" name="Picture 2" descr="[110+(contaminacion).jpg]"/>
          <p:cNvPicPr/>
          <p:nvPr/>
        </p:nvPicPr>
        <p:blipFill>
          <a:blip r:embed="rId1"/>
          <a:stretch/>
        </p:blipFill>
        <p:spPr>
          <a:xfrm>
            <a:off x="155520" y="1557360"/>
            <a:ext cx="4762440" cy="4514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Documents and Settings\Marta\Escritorio\Carmen\Otoño 2009\Ayudantías\Intro Eco\180 (mineraII) pascualama.jpg"/>
          <p:cNvPicPr/>
          <p:nvPr/>
        </p:nvPicPr>
        <p:blipFill>
          <a:blip r:embed="rId2"/>
          <a:stretch/>
        </p:blipFill>
        <p:spPr>
          <a:xfrm>
            <a:off x="5072040" y="1571760"/>
            <a:ext cx="3643200" cy="438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Sección y Docent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163794"/>
                </a:solidFill>
                <a:latin typeface="Arial"/>
              </a:rPr>
              <a:t>Docentes: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32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A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Alex Chaparro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B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Natalia Berna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C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Francisco Leiva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D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Manuel Aguilar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E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Javier Diaz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F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Christian Belmar (Coordinador)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 con las Pym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7133-82B7-468B-A221-1EF964234ED2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61" name="Picture 2" descr="http://www.elrepuertero.cl/tmp_images/290/noticia_14461_normal.jpg"/>
          <p:cNvPicPr/>
          <p:nvPr/>
        </p:nvPicPr>
        <p:blipFill>
          <a:blip r:embed="rId1"/>
          <a:stretch/>
        </p:blipFill>
        <p:spPr>
          <a:xfrm>
            <a:off x="5143680" y="2286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64" name="7 Imagen" descr="n649152750_921509_7634.jpg"/>
          <p:cNvPicPr/>
          <p:nvPr/>
        </p:nvPicPr>
        <p:blipFill>
          <a:blip r:embed="rId2"/>
          <a:stretch/>
        </p:blipFill>
        <p:spPr>
          <a:xfrm>
            <a:off x="285840" y="2286000"/>
            <a:ext cx="3786120" cy="2840040"/>
          </a:xfrm>
          <a:prstGeom prst="rect">
            <a:avLst/>
          </a:prstGeom>
          <a:ln w="0">
            <a:noFill/>
          </a:ln>
        </p:spPr>
      </p:pic>
      <p:sp>
        <p:nvSpPr>
          <p:cNvPr id="165" name="8 CuadroTexto"/>
          <p:cNvSpPr/>
          <p:nvPr/>
        </p:nvSpPr>
        <p:spPr>
          <a:xfrm>
            <a:off x="4214880" y="300024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entury Gothic"/>
              </a:rPr>
              <a:t>v/s</a:t>
            </a:r>
            <a:endParaRPr b="0" lang="en-US" sz="36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Globalmen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5AF1-ACC0-465D-A8F4-3CFC10E23490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69" name="Picture 2" descr="[14+(vampigas).jpg]"/>
          <p:cNvPicPr/>
          <p:nvPr/>
        </p:nvPicPr>
        <p:blipFill>
          <a:blip r:embed="rId1"/>
          <a:srcRect l="0" t="6891" r="0" b="6141"/>
          <a:stretch/>
        </p:blipFill>
        <p:spPr>
          <a:xfrm>
            <a:off x="2000160" y="1143000"/>
            <a:ext cx="4869000" cy="5643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En America Latina y en el Mundo: ¿Cómo evitamos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63794"/>
                </a:solidFill>
                <a:latin typeface="Century Gothic"/>
              </a:rPr>
              <a:t>Pobreza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63794"/>
                </a:solidFill>
                <a:latin typeface="Century Gothic"/>
              </a:rPr>
              <a:t>Trabajo Infantil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63794"/>
                </a:solidFill>
                <a:latin typeface="Century Gothic"/>
              </a:rPr>
              <a:t>Informalidad del emple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63794"/>
                </a:solidFill>
                <a:latin typeface="Century Gothic"/>
              </a:rPr>
              <a:t>Previsión social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63794"/>
                </a:solidFill>
                <a:latin typeface="Century Gothic"/>
              </a:rPr>
              <a:t>Salud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73" name="Picture 5" descr="http://s3.amazonaws.com/elespectador/files/images/26dd17adfa9c5af652f9bf4fb39bf9bf.jpg"/>
          <p:cNvPicPr/>
          <p:nvPr/>
        </p:nvPicPr>
        <p:blipFill>
          <a:blip r:embed="rId1"/>
          <a:stretch/>
        </p:blipFill>
        <p:spPr>
          <a:xfrm>
            <a:off x="5643720" y="1285920"/>
            <a:ext cx="3000240" cy="19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http://aristotelizar.com/web/wp-content/2008/07/85.jpg"/>
          <p:cNvPicPr/>
          <p:nvPr/>
        </p:nvPicPr>
        <p:blipFill>
          <a:blip r:embed="rId2"/>
          <a:srcRect l="1456" t="1921" r="2610" b="2175"/>
          <a:stretch/>
        </p:blipFill>
        <p:spPr>
          <a:xfrm>
            <a:off x="5572080" y="3643200"/>
            <a:ext cx="3017880" cy="2286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18437 CuadroTexto"/>
          <p:cNvSpPr/>
          <p:nvPr/>
        </p:nvSpPr>
        <p:spPr>
          <a:xfrm>
            <a:off x="642960" y="2000160"/>
            <a:ext cx="7704000" cy="31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Fundamentalmente para propósitos pedagógicos la economía se clasifica o divide de varias maneras: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1.-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Microeconomía y macroeconomía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2.-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Economía positiva y economía normativa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3.-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Según áreas de aplicación de la metodología de la economía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7" name="8 Rectángulo"/>
          <p:cNvSpPr/>
          <p:nvPr/>
        </p:nvSpPr>
        <p:spPr>
          <a:xfrm>
            <a:off x="179280" y="1341360"/>
            <a:ext cx="6810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Algunas Clasificaciones o divisiones de la economí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8" name="10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4AEC-61B0-4AF2-8C1B-052AE130D018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19461 CuadroTexto"/>
          <p:cNvSpPr/>
          <p:nvPr/>
        </p:nvSpPr>
        <p:spPr>
          <a:xfrm>
            <a:off x="714240" y="1500120"/>
            <a:ext cx="770436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Microeconomía: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estudia el problema económico desde la perspectiva de los pequeños agentes económicos o de los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agentes individualmente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considerados.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Ejemplo: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qué hago cuando aumenta el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precio de un bien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, o decido si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contratar o no a un trabajador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, o si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producir o no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más bienes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Modelo a utilizar, al inicio el estudio comienza por entender el modelo de mercado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1" name="8 Rectángulo"/>
          <p:cNvSpPr/>
          <p:nvPr/>
        </p:nvSpPr>
        <p:spPr>
          <a:xfrm>
            <a:off x="969480" y="1285920"/>
            <a:ext cx="40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Microeconomía y Macroeconomí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900520" y="214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1.- Introducción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3" name="10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069F-2E21-419B-8CBC-6190AF953C65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Macroeconomía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 estudia el problema económico desde la perspectiva de los grandes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agregados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 económicos o del conjunto de los agentes económicos.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Ejemplo: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 la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inflación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, el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desempleo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, el gobierno o el fisco, el sector externo o resto del mundo,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crecimiento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, etc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Modelo a utilizar: Modelo de demanda y oferta agregada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FASE 4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21509 CuadroTexto"/>
          <p:cNvSpPr/>
          <p:nvPr/>
        </p:nvSpPr>
        <p:spPr>
          <a:xfrm>
            <a:off x="714240" y="1500120"/>
            <a:ext cx="770436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La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economía positiva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describe los fenómenos económicos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tal cual son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y se preocupa de su medición.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La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economía normativa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estudia los fenómenos económicos desde la perspectiva de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cómo a uno le gustaría que fuesen u ocurriesen las cosas en la economía normativa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se fijan metas u objetivos hacia donde se desea llevar las diferentes variables económicas.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Ejemplo: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Se observan distribuciones inequitativas del ingreso </a:t>
            </a:r>
            <a:r>
              <a:rPr b="0" lang="es-ES" sz="1800" spc="-1" strike="noStrike">
                <a:solidFill>
                  <a:srgbClr val="163794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Economía 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Positiv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Desarrollar programas para lograr una asignación más equitativa del ingreso </a:t>
            </a:r>
            <a:r>
              <a:rPr b="0" lang="es-ES" sz="1800" spc="-1" strike="noStrike">
                <a:solidFill>
                  <a:srgbClr val="163794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Economía Normativ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8" name="8 Rectángulo"/>
          <p:cNvSpPr/>
          <p:nvPr/>
        </p:nvSpPr>
        <p:spPr>
          <a:xfrm>
            <a:off x="739440" y="1357200"/>
            <a:ext cx="373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Economía Positiva y Normativ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2900520" y="214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1.- Introducción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0" name="10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8B37-DCD6-48DE-BD6E-1E915B35D783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Distribución del Ingreso en Chil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Chile posee un índice de Gini de 0,57, mientras que el promedio mundial es de 0,405. Esto nos sitúa a la altura de países como Zimbabue  y Zambia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85880" y="2286000"/>
          <a:ext cx="3643200" cy="3929040"/>
        </p:xfrm>
        <a:graphic>
          <a:graphicData uri="http://schemas.openxmlformats.org/drawingml/2006/table">
            <a:tbl>
              <a:tblPr/>
              <a:tblGrid>
                <a:gridCol w="647640"/>
                <a:gridCol w="1014480"/>
                <a:gridCol w="903240"/>
                <a:gridCol w="1077840"/>
              </a:tblGrid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Decil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Promedio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Mínimo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Máximo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6.841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2.822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I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41.358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2.825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49.40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6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II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57.262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49.407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65.65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IV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74.496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65.653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83.658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93.201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83.66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2.967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V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15.71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02.973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30.656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VI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48.431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30.669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69.754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VII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99.075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69.76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236.509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IX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01.24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236.527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93.947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884.961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94.073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2.085.00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95" name="4 CuadroTexto"/>
          <p:cNvSpPr/>
          <p:nvPr/>
        </p:nvSpPr>
        <p:spPr>
          <a:xfrm>
            <a:off x="4714920" y="2000160"/>
            <a:ext cx="3786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37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En nuestro país, el 20% de la población más rico acapara el 57% de los ingresos, mientras que el 20% más pobre posee menos del 4,5% del total. Esto quiere decir que el ingreso promedio del quintil superior es 13,8 veces mayor que el ingreso promedio del quintil inferior.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37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Si excluyésemos al décimo decil en los cálculos del coeficiente Gini, es decir, incluyésemos sólo los 9 restantes, el Gini resultante para Chile sería de 0,27, lo que nos situaría entre Suecia y España.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6" name="5 CuadroTexto"/>
          <p:cNvSpPr/>
          <p:nvPr/>
        </p:nvSpPr>
        <p:spPr>
          <a:xfrm>
            <a:off x="2500200" y="6286680"/>
            <a:ext cx="192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63794"/>
                </a:solidFill>
                <a:latin typeface="Century Gothic"/>
              </a:rPr>
              <a:t>Fuente: Carmen Quezada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22533 CuadroTexto"/>
          <p:cNvSpPr/>
          <p:nvPr/>
        </p:nvSpPr>
        <p:spPr>
          <a:xfrm>
            <a:off x="714240" y="1928880"/>
            <a:ext cx="77043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1.- Economía fiscal o finanzas públicas (gobierno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2.- Economía monetaria (banca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3.- Economía laboral (capital humano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4.- Economía de la salud (instituciones de salud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5.- Economía de la educación (instituciones de educación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6.- Economía de la energí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7.- Economía de los recursos naturales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8.- Economía del medio ambient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(contaminación o polución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9.- Desarrollo local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9" name="25606 Rectángulo"/>
          <p:cNvSpPr/>
          <p:nvPr/>
        </p:nvSpPr>
        <p:spPr>
          <a:xfrm>
            <a:off x="928800" y="1357200"/>
            <a:ext cx="666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3794"/>
                </a:solidFill>
                <a:latin typeface="Arial"/>
              </a:rPr>
              <a:t>Áreas de aplicación de la metodología de la economí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900520" y="214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1.- Introducción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1" name="9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F56F-A06B-4D9E-B86E-1491A3D95001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02" name="Picture 8" descr="AndresVelasco"/>
          <p:cNvPicPr/>
          <p:nvPr/>
        </p:nvPicPr>
        <p:blipFill>
          <a:blip r:embed="rId1"/>
          <a:stretch/>
        </p:blipFill>
        <p:spPr>
          <a:xfrm>
            <a:off x="6497640" y="1700280"/>
            <a:ext cx="954000" cy="1000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jose_de_gregorio"/>
          <p:cNvPicPr/>
          <p:nvPr/>
        </p:nvPicPr>
        <p:blipFill>
          <a:blip r:embed="rId2"/>
          <a:stretch/>
        </p:blipFill>
        <p:spPr>
          <a:xfrm>
            <a:off x="7667640" y="2852640"/>
            <a:ext cx="1119240" cy="91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imagen"/>
          <p:cNvPicPr/>
          <p:nvPr/>
        </p:nvPicPr>
        <p:blipFill>
          <a:blip r:embed="rId3"/>
          <a:stretch/>
        </p:blipFill>
        <p:spPr>
          <a:xfrm>
            <a:off x="7236000" y="4365720"/>
            <a:ext cx="1014120" cy="13096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9"/>
          <p:cNvSpPr/>
          <p:nvPr/>
        </p:nvSpPr>
        <p:spPr>
          <a:xfrm>
            <a:off x="5219640" y="6093000"/>
            <a:ext cx="1008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Eugenio FIgueroa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Medioambiente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7308720" y="5661000"/>
            <a:ext cx="1079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Alejandra Mizala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Educación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596360" y="3789360"/>
            <a:ext cx="1296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José de Gregorio.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Estabilidad de la moneda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6445080" y="2708280"/>
            <a:ext cx="1079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Andrés Velasco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Fiscal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09" name="Picture 23" descr=""/>
          <p:cNvPicPr/>
          <p:nvPr/>
        </p:nvPicPr>
        <p:blipFill>
          <a:blip r:embed="rId4"/>
          <a:stretch/>
        </p:blipFill>
        <p:spPr>
          <a:xfrm>
            <a:off x="5292720" y="4941720"/>
            <a:ext cx="836640" cy="1116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Nombres de artículos en los diferentes ámbitos mencionados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Benavente J.M. y E. Melo (2003) </a:t>
            </a:r>
            <a:r>
              <a:rPr b="1" i="1" lang="es-ES" sz="2000" spc="-1" strike="noStrike">
                <a:solidFill>
                  <a:srgbClr val="163794"/>
                </a:solidFill>
                <a:latin typeface="Century Gothic"/>
              </a:rPr>
              <a:t>“Determinantes socioeconómicos de la criminalidad en Chile durante los noventa”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D.Bravo, G.Crespi and I.Gutiérrez, </a:t>
            </a:r>
            <a:r>
              <a:rPr b="1" i="1" lang="es-ES" sz="2000" spc="-1" strike="noStrike">
                <a:solidFill>
                  <a:srgbClr val="163794"/>
                </a:solidFill>
                <a:latin typeface="Century Gothic"/>
              </a:rPr>
              <a:t>“Desarrollo se escribe con Pyme: el caso chileno.”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3794"/>
                </a:solidFill>
                <a:latin typeface="Century Gothic"/>
              </a:rPr>
              <a:t>Figueroa, E. (ed.); “</a:t>
            </a:r>
            <a:r>
              <a:rPr b="1" i="1" lang="en-US" sz="2000" spc="-1" strike="noStrike">
                <a:solidFill>
                  <a:srgbClr val="163794"/>
                </a:solidFill>
                <a:latin typeface="Century Gothic"/>
              </a:rPr>
              <a:t>Marine Biodiversity: Valuation, Use and Perspectives; Where is Chile Going?”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Sánchez J.M., Kunze V. y Castillo J </a:t>
            </a:r>
            <a:r>
              <a:rPr b="1" i="1" lang="es-ES" sz="2000" spc="-1" strike="noStrike">
                <a:solidFill>
                  <a:srgbClr val="163794"/>
                </a:solidFill>
                <a:latin typeface="Century Gothic"/>
              </a:rPr>
              <a:t>“</a:t>
            </a:r>
            <a:r>
              <a:rPr b="1" i="1" lang="en-US" sz="2000" spc="-1" strike="noStrike">
                <a:solidFill>
                  <a:srgbClr val="163794"/>
                </a:solidFill>
                <a:latin typeface="Century Gothic"/>
              </a:rPr>
              <a:t>Environmental, Social, Cultural and Economic Analysis of Large Mining and the Community: Case Study from Chile”</a:t>
            </a:r>
            <a:r>
              <a:rPr b="1" i="1" lang="es-ES" sz="2000" spc="-1" strike="noStrike">
                <a:solidFill>
                  <a:srgbClr val="163794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Landerretche, O. </a:t>
            </a:r>
            <a:r>
              <a:rPr b="1" i="1" lang="es-ES" sz="2000" spc="-1" strike="noStrike">
                <a:solidFill>
                  <a:srgbClr val="163794"/>
                </a:solidFill>
                <a:latin typeface="Century Gothic"/>
              </a:rPr>
              <a:t>“Construyendo Solvencia Fiscal: el éxito macroeconómico de la Concertación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”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740720" y="62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resentación del Curs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152000"/>
            <a:ext cx="77151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63794"/>
                </a:solidFill>
                <a:latin typeface="Arial"/>
              </a:rPr>
              <a:t>Principales Contenidos: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Conceptos Introductorios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Microeconomía</a:t>
            </a: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Macroeconomía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3794"/>
                </a:solidFill>
                <a:latin typeface="Arial"/>
              </a:rPr>
              <a:t>Metodología de Enseñanza: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Sesiones expositivas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Trabajo en el Aula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Trabajo Grupa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Trabajo Individual/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Ayudantías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Comentes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Desarrollo de Casos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4914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Volviendo a nuestra comente inicia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04352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Arial"/>
              </a:rPr>
              <a:t>Por tanto. Estamos en condiciones entonces de construir una argumentación con respecto a la afirmación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63794"/>
                </a:solidFill>
                <a:latin typeface="Arial"/>
              </a:rPr>
              <a:t>Determinar su valor de verdad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63794"/>
                </a:solidFill>
                <a:latin typeface="Arial"/>
              </a:rPr>
              <a:t>Redactar una justificación utilizando para ellos los conceptos vistos, desde una perspectiva positiva de la economía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63794"/>
                </a:solidFill>
                <a:latin typeface="Arial"/>
              </a:rPr>
              <a:t>Integrar elementos gráficos según corresponda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Arial"/>
              </a:rPr>
              <a:t>Tomen 10 minutos y construyan una respuesta Escrita, con sus propias palabras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16" name="Diagrama 3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29732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Meta de Aprendizaje del Curs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7120" y="1052280"/>
            <a:ext cx="846288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Conceptos Introductorios: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Arial"/>
              </a:rPr>
              <a:t>Caracterizar el sistema de asignación de recursos en la economía para comprender el problema de escasez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Microeconomía/Macroeconomía: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Arial"/>
              </a:rPr>
              <a:t>Interpreta diversos datos económicos básicos a partir de la lectura y construcción de tablas y gráficos para dar sentido a los indicadores económicos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Arial"/>
              </a:rPr>
              <a:t>Identifica diversas situaciones económicas a partir de herramientas teóricas con el objetivo de establecer relaciones de causalidad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-533520">
              <a:lnSpc>
                <a:spcPct val="5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Arial"/>
              </a:rPr>
              <a:t>Identifica conexiones económicas relevantes para realizar un análisis inicial de la realidad</a:t>
            </a:r>
            <a:r>
              <a:rPr b="1" lang="es-ES" sz="28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¿Cómo vamos a aprender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890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Herramienta metodológica: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Comentes”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Proceso mental para construir un racionamiento de análisis de la realidad desde la perspectiva económica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05" name="Diagrama 3" descr=""/>
          <p:cNvPicPr/>
          <p:nvPr/>
        </p:nvPicPr>
        <p:blipFill>
          <a:blip r:embed="rId1"/>
          <a:stretch/>
        </p:blipFill>
        <p:spPr>
          <a:xfrm>
            <a:off x="3564000" y="1413000"/>
            <a:ext cx="537696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Marcador de contenid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1.- Comprender la afirmación o hecho: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Cuáles es el hecho y qué contructos involucra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Presentar el problema, dato, enunciado, noticia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Delimitar los contructos involucrados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Identificar constructos a nivel de las características y relaciones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2.- Determinar si la afirmación u hecho es simple o compuesta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Qué elementos considera afirmación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a. Identificar el número y  enunciado de las  proposiciones presentes 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b. Establecer las posibles relaciones lógicas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- Establecer conjetura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Cuál es la la primera intuición y porqué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Proponer el valor de verdad de la proposición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Fundamentar su proposición a nivel inicial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4.- Construir el argumento integradamente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Qué línea argumentativa sustenta al hecho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Relacionar los contructos teóricos con la afirmación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Construir una línea argumentativa para justificar el valor de verdad del enunciado propuesto, integrando elementos gráficos, si corresponde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Revisar la lógica de la construcción a partir de contrastarlas  a partir de lo revisado en el curso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5.- Corroborar la hipótesis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La conjetura era la correcta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a. En base de lo relacionado en el punto 4, revisar si la conjetura en el número 3 es falso o verdadero o incierto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6.- Elaboración del comentario económico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Cuál es el comentario económico puedes elaborar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a. Enunciar el valor de verdad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b. Fundamentación fundamental sintético desde la economía positiva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c. Apoyo gráfico, si fuese necesario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16389 CuadroTexto"/>
          <p:cNvSpPr/>
          <p:nvPr/>
        </p:nvSpPr>
        <p:spPr>
          <a:xfrm>
            <a:off x="466560" y="149220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8" name="13318 CuadroTexto"/>
          <p:cNvSpPr/>
          <p:nvPr/>
        </p:nvSpPr>
        <p:spPr>
          <a:xfrm>
            <a:off x="582480" y="1192320"/>
            <a:ext cx="823752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63794"/>
                </a:solidFill>
                <a:latin typeface="Century Gothic"/>
              </a:rPr>
              <a:t>“…</a:t>
            </a:r>
            <a:r>
              <a:rPr b="1" lang="es-ES" sz="2800" spc="-1" strike="noStrike">
                <a:solidFill>
                  <a:srgbClr val="163794"/>
                </a:solidFill>
                <a:latin typeface="Century Gothic"/>
              </a:rPr>
              <a:t>La economía es una ciencia exacta que estudia el comportamiento e interacción de las personas desde la perspectiva de cómo priorizar las necesidades que tenemos y de esta forma buscar buenas soluciones a nuestros problemas…”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163794"/>
                </a:solidFill>
                <a:latin typeface="Century Gothic"/>
              </a:rPr>
              <a:t>Comente esta afirmación…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900520" y="214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1.- Conceptos Básicos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0" name="9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E62D-45A4-49B0-83AB-5BDFEA107A10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40720" y="260280"/>
            <a:ext cx="140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Fase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63468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63794"/>
                </a:solidFill>
                <a:latin typeface="Arial"/>
              </a:rPr>
              <a:t>¿Qué nos esta diciendo?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63794"/>
                </a:solidFill>
                <a:latin typeface="Arial"/>
              </a:rPr>
              <a:t>¿Qué se nos esta preguntando?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36000" y="152280"/>
            <a:ext cx="1728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Fase 2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¿Es simple o Compuesta?.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¿Cuántas afirmaciones hay en la frase?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¿Tienen alguna relación lògica?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¿Es una unión de frases que no tiene sentido en términos globales, o si tiene un sentido global?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1:34Z</dcterms:created>
  <dc:creator>Fabian Vicencio</dc:creator>
  <dc:description/>
  <dc:language>en-US</dc:language>
  <cp:lastModifiedBy>Sir Alexis</cp:lastModifiedBy>
  <dcterms:modified xsi:type="dcterms:W3CDTF">2010-09-03T12:32:52Z</dcterms:modified>
  <cp:revision>159</cp:revision>
  <dc:subject/>
  <dc:title>Contents</dc:title>
</cp:coreProperties>
</file>