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13E-A3DB-4404-9B4A-3626561A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C93-DDBC-4CDC-86CF-E0025938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493-4654-491E-9020-CDF5A56D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538-71BF-4DD2-81B3-13A09EA4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E0C-8329-43DB-AEDA-C9C30716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52B-8FAB-4B23-922A-34BCC4F5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672-543A-43E1-B59B-24D55800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518-8E84-488D-8D05-42DE21CE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EC1-0D53-48CE-8AB4-63297A02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58F-6E12-4503-80CD-00BC6F4D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E90-8A3C-4E0C-BBCE-8A70347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FD4-B37E-4D18-BF02-C4E54299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601F-90EC-494B-946B-B7036408324B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te Actual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uevas tendencias en la producción artíst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rc-quin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832200" cy="4724640"/>
          </a:xfrm>
          <a:prstGeom prst="rect">
            <a:avLst/>
          </a:prstGeom>
          <a:ln w="0">
            <a:noFill/>
          </a:ln>
        </p:spPr>
      </p:pic>
      <p:pic>
        <p:nvPicPr>
          <p:cNvPr id="66" name="haden-guest10-1-2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8098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rJohnSulston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91500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720" y="5334120"/>
            <a:ext cx="429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 Genomic Portrait: Sir John Sulsto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1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58960" y="59436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Hel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2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0" name="chapmanbrothers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ell0_674846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3579840"/>
          </a:xfrm>
          <a:prstGeom prst="rect">
            <a:avLst/>
          </a:prstGeom>
          <a:ln w="0">
            <a:noFill/>
          </a:ln>
        </p:spPr>
      </p:pic>
      <p:pic>
        <p:nvPicPr>
          <p:cNvPr id="72" name="hell1_674847c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84804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hell2_674849c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84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1b_29_hell-new_415x275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410080" cy="3584520"/>
          </a:xfrm>
          <a:prstGeom prst="rect">
            <a:avLst/>
          </a:prstGeom>
          <a:ln w="0">
            <a:noFill/>
          </a:ln>
        </p:spPr>
      </p:pic>
      <p:pic>
        <p:nvPicPr>
          <p:cNvPr id="75" name="11b_29_hitler-fig_415x275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95280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ApocalypseHellHugoPhilpottAFO460" descr=""/>
          <p:cNvPicPr/>
          <p:nvPr/>
        </p:nvPicPr>
        <p:blipFill>
          <a:blip r:embed="rId3"/>
          <a:stretch/>
        </p:blipFill>
        <p:spPr>
          <a:xfrm>
            <a:off x="4800600" y="457200"/>
            <a:ext cx="4038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ail516-121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2746080"/>
          </a:xfrm>
          <a:prstGeom prst="rect">
            <a:avLst/>
          </a:prstGeom>
          <a:ln w="0">
            <a:noFill/>
          </a:ln>
        </p:spPr>
      </p:pic>
      <p:pic>
        <p:nvPicPr>
          <p:cNvPr id="78" name="pail524-1785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852720" cy="2500560"/>
          </a:xfrm>
          <a:prstGeom prst="rect">
            <a:avLst/>
          </a:prstGeom>
          <a:ln w="0">
            <a:noFill/>
          </a:ln>
        </p:spPr>
      </p:pic>
      <p:pic>
        <p:nvPicPr>
          <p:cNvPr id="79" name="chapman-hell-192_674845e" descr=""/>
          <p:cNvPicPr/>
          <p:nvPr/>
        </p:nvPicPr>
        <p:blipFill>
          <a:blip r:embed="rId3"/>
          <a:stretch/>
        </p:blipFill>
        <p:spPr>
          <a:xfrm>
            <a:off x="5029200" y="685800"/>
            <a:ext cx="346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jake_dinos_chapman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3809880" cy="408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81960" y="5715000"/>
            <a:ext cx="65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at Deeds! Against the Dea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82" name="haden-guest10-1-4s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2365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oya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2440" y="5562720"/>
            <a:ext cx="64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¡Gran hazaña! Con muerto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1810 - 2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380880"/>
          <a:ext cx="3809880" cy="57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380988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09240" y="5029200"/>
            <a:ext cx="31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lfredo Jaar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lamento de las imágene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422440" y="609480"/>
          <a:ext cx="412452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609480"/>
                    <a:ext cx="41245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mithsonSpiralJettyAerial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41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76640" y="5715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Smithso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Spiral Jett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7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438280" y="609480"/>
          <a:ext cx="4179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609480"/>
                    <a:ext cx="4179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362320" y="457200"/>
          <a:ext cx="44496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4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228600"/>
          <a:ext cx="43434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4343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art21jaar03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981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mithsonSpiralJettyFromLand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81440" cy="2581560"/>
          </a:xfrm>
          <a:prstGeom prst="rect">
            <a:avLst/>
          </a:prstGeom>
          <a:ln w="0">
            <a:noFill/>
          </a:ln>
        </p:spPr>
      </p:pic>
      <p:pic>
        <p:nvPicPr>
          <p:cNvPr id="46" name="SPIRALJ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343400" cy="285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2960" y="57150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reat Salt Lake, Rozel Point, Utah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8" name="Spiral_Jetty_Robert_Smithson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2667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ightningfield-top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90204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89160" y="495288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alter De Mari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Lightning Fiel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7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1" name="DeMariaLighteningFieldDay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862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emariaLighteningFieldStorm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46852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5920" y="571500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Quemado, New Méxic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" name="79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7909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9_wrapped_reichstag_0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7" name="09_wrapped_reichstag_01_small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58" name="74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724280" cy="3705120"/>
          </a:xfrm>
          <a:prstGeom prst="rect">
            <a:avLst/>
          </a:prstGeom>
          <a:ln w="0">
            <a:noFill/>
          </a:ln>
        </p:spPr>
      </p:pic>
      <p:pic>
        <p:nvPicPr>
          <p:cNvPr id="59" name="Wrapped-Reichstag-Project-for-Berlin-Posters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ravan1tn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61" name="caravan5tn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4876920" cy="324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1320" y="5257800"/>
            <a:ext cx="28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irkrit Tiravanij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Untitled, 1999 (caravan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95360" y="601992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elf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64" name="MQ-SELF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343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9:50:46Z</dcterms:created>
  <dc:creator>Victor Diaz</dc:creator>
  <dc:description/>
  <dc:language>en-US</dc:language>
  <cp:lastModifiedBy>Victor Diaz</cp:lastModifiedBy>
  <dcterms:modified xsi:type="dcterms:W3CDTF">2009-01-18T21:49:15Z</dcterms:modified>
  <cp:revision>30</cp:revision>
  <dc:subject/>
  <dc:title>Arte Actual</dc:title>
</cp:coreProperties>
</file>