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49E-DE42-46F2-AB09-6164B80D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22E-5CDF-4DC0-A1D0-8889C205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A9F-F0FF-4790-BABF-1ED3CF14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005-5EE4-4781-8728-FABDADA9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F3A-B9B7-4B24-8758-3C93925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70E-E090-4AA4-AA6C-28321F75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EBD-F29A-4B62-AEF0-EC13FA21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6F4-B411-48B8-B2B1-B19730E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843-0A06-483A-8E3C-35E201D2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7D5-54B7-4BF7-A9EA-5040A96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0B8-9FF8-4511-9AFF-EEBCAB5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BCA-C979-4C16-AD44-835AA45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B40-E5EC-4228-B4BB-EDFCEFD7CBA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os efectos de la Segunda Guerra Mundial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Neo-plasticismo, De Stijl, Abstracción lírica, Bauhaus y el surgimiento del expresionismo abstracto en Norteamér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oost_schmidt_cartelexpobau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62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633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33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46240" y="5486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ckson Pollo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lue poles Number 11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2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%20Kooning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30848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87120" y="5029200"/>
            <a:ext cx="2206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illem de Kooni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Woma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9 - 5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olsky4-3-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512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8080" y="60199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ittle Electric Chair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koln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6732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" y="5791320"/>
            <a:ext cx="913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Piet Mondri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omposition mit großer roter Fläche, Gelb, Schwarz, Grau und Blau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21 [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Composición con rojo, amarillo, azul y negro]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mpositie1918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04960" cy="348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51520" y="5410080"/>
            <a:ext cx="47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Bart van der Lec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omposi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8-192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leine_Dada_Soirée_1922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678280" cy="57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03840" y="617220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Theo van Doesburg y Kurt Schwitters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leine Dadá Soiré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2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ietveld_chair_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2847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2640" y="5334120"/>
            <a:ext cx="19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errit Rietvel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a roja y azu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andinsky-d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65000" y="6019920"/>
            <a:ext cx="57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Vasílievich Kandinski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urva dominant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3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llonwasilly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42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4400" y="601992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ies van de Rohe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ón Wasill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9¿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_sillas_similares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753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uhaus9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8:22:47Z</dcterms:created>
  <dc:creator>Victor Diaz</dc:creator>
  <dc:description/>
  <dc:language>en-US</dc:language>
  <cp:lastModifiedBy>Victor Diaz</cp:lastModifiedBy>
  <dcterms:modified xsi:type="dcterms:W3CDTF">2009-01-13T23:56:20Z</dcterms:modified>
  <cp:revision>18</cp:revision>
  <dc:subject/>
  <dc:title>Sin título de diapositiva</dc:title>
</cp:coreProperties>
</file>