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9C6D-6C1F-4C72-999D-D2A22BFB9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E07B-EF63-45F0-ACC3-B3B9FC483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15D2-643E-48F8-984A-58BB7C278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2FC3-517C-42F1-916F-5C3F25BFD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A4AD-B9F8-44D6-82C7-2E5045EE2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5BDA-D430-4316-8E28-892449F3D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1F92-0F8C-4254-8BB2-B22AA7F16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6285-5298-498F-82CF-C3EDC3277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8C3B-CE8F-4CE1-A586-8A050ED78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1F22-D785-4F0F-9F67-ACCCF63BD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05AC-DAA6-4D10-9731-8A9426C2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09AD-242D-4CBB-997E-58E955CB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BF50C-16A0-43EC-89CA-B0A8D1F5C3B3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aeaea"/>
                </a:solidFill>
                <a:latin typeface="Times New Roman"/>
              </a:rPr>
              <a:t>Neoimpresionismo y Postimpresionismo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La progresiva transformación de la visualidad en la representació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Hiroshige_Van_Gogh_2" descr=""/>
          <p:cNvPicPr/>
          <p:nvPr/>
        </p:nvPicPr>
        <p:blipFill>
          <a:blip r:embed="rId1"/>
          <a:stretch/>
        </p:blipFill>
        <p:spPr>
          <a:xfrm>
            <a:off x="1371600" y="380880"/>
            <a:ext cx="6477120" cy="4734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676880" y="5334120"/>
            <a:ext cx="22532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Hiroshige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aeaea"/>
                </a:solidFill>
                <a:latin typeface="Times New Roman"/>
              </a:rPr>
              <a:t>El puente O-hashi en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aeaea"/>
                </a:solidFill>
                <a:latin typeface="Times New Roman"/>
              </a:rPr>
              <a:t>Atake bajo una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aeaea"/>
                </a:solidFill>
                <a:latin typeface="Times New Roman"/>
              </a:rPr>
              <a:t>lluvia repentina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027400" y="5486400"/>
            <a:ext cx="225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Van Gogh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aeaea"/>
                </a:solidFill>
                <a:latin typeface="Times New Roman"/>
              </a:rPr>
              <a:t>Puente bajo la lluvia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887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VanGogh-starry_night_ballance1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6705360" cy="5356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22000" y="5943600"/>
            <a:ext cx="84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 sterrennach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[La noche estrellada]. 188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73 por 92 cm; MOMA, Nueva York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-Lautrec_at_the_moulin_rouge_1892" descr=""/>
          <p:cNvPicPr/>
          <p:nvPr/>
        </p:nvPicPr>
        <p:blipFill>
          <a:blip r:embed="rId1"/>
          <a:stretch/>
        </p:blipFill>
        <p:spPr>
          <a:xfrm>
            <a:off x="1676520" y="304920"/>
            <a:ext cx="5715000" cy="4967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212120" y="5486400"/>
            <a:ext cx="675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Henri Marie Raymond de Toulouse-Lautrec-Monfa Tapié de Celeyran,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conde de Toulouse-Lautrec-Monfa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aeaea"/>
                </a:solidFill>
                <a:latin typeface="Times New Roman"/>
              </a:rPr>
              <a:t>Au Moulin Rouge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892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dx6nkohj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3630600" cy="5029200"/>
          </a:xfrm>
          <a:prstGeom prst="rect">
            <a:avLst/>
          </a:prstGeom>
          <a:ln w="0">
            <a:noFill/>
          </a:ln>
        </p:spPr>
      </p:pic>
      <p:pic>
        <p:nvPicPr>
          <p:cNvPr id="67" name="Lautrec_ambassadeurs,_aristide_bruant_(poster)_1892" descr=""/>
          <p:cNvPicPr/>
          <p:nvPr/>
        </p:nvPicPr>
        <p:blipFill>
          <a:blip r:embed="rId2"/>
          <a:stretch/>
        </p:blipFill>
        <p:spPr>
          <a:xfrm>
            <a:off x="4952880" y="457200"/>
            <a:ext cx="3443400" cy="51814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360080" y="6172200"/>
            <a:ext cx="620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Henri Touluse-Lautrec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Aristide Bruan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(Carteles). 1892¿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Georges_Seurat_031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7619760" cy="5048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67080" y="5715000"/>
            <a:ext cx="7948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eorges Seura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n dimanche après-midi à l'Ile de la Grande Jatt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8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Art Institute, Chicag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14-10CYRETEQ00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6858000" cy="45050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123280" y="5638680"/>
            <a:ext cx="47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eorges Seura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parade de cirqu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9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eurat-La_Parade_detail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3467160" cy="5629320"/>
          </a:xfrm>
          <a:prstGeom prst="rect">
            <a:avLst/>
          </a:prstGeom>
          <a:ln w="0">
            <a:noFill/>
          </a:ln>
        </p:spPr>
      </p:pic>
      <p:pic>
        <p:nvPicPr>
          <p:cNvPr id="48" name="detailpoint" descr=""/>
          <p:cNvPicPr/>
          <p:nvPr/>
        </p:nvPicPr>
        <p:blipFill>
          <a:blip r:embed="rId2"/>
          <a:stretch/>
        </p:blipFill>
        <p:spPr>
          <a:xfrm>
            <a:off x="4191120" y="1219320"/>
            <a:ext cx="4724280" cy="45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aul_Signac_Dimanche" descr=""/>
          <p:cNvPicPr/>
          <p:nvPr/>
        </p:nvPicPr>
        <p:blipFill>
          <a:blip r:embed="rId1"/>
          <a:stretch/>
        </p:blipFill>
        <p:spPr>
          <a:xfrm>
            <a:off x="3276720" y="685800"/>
            <a:ext cx="5451480" cy="5478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61760" y="4648320"/>
            <a:ext cx="2007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Signac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oming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8-1890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Colección privada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aul_Signac_Port_de_Marseilles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581880" cy="54770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055880" y="6019920"/>
            <a:ext cx="72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Signac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Puerto de Marsell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0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l Ermitage, San Petesburgo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aul_Gauguin_104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553440" cy="527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281240" y="5715000"/>
            <a:ext cx="66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Gaugin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Vincent Van Gogh pintando los girasole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88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Amsterdam, Museo Van Gogh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aul_Gauguin_144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621560" cy="5345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204640" y="6019920"/>
            <a:ext cx="49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Mujeres de Tahiti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91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Vincent_Van_Gogh_-_The_Potato_Eaters" descr=""/>
          <p:cNvPicPr/>
          <p:nvPr/>
        </p:nvPicPr>
        <p:blipFill>
          <a:blip r:embed="rId1"/>
          <a:stretch/>
        </p:blipFill>
        <p:spPr>
          <a:xfrm>
            <a:off x="1371600" y="457200"/>
            <a:ext cx="6477120" cy="45752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892880" y="5791320"/>
            <a:ext cx="54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Vincent van Gogh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os Comedores de Patat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85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0T01:39:29Z</dcterms:created>
  <dc:creator>Victor Diaz</dc:creator>
  <dc:description/>
  <dc:language>en-US</dc:language>
  <cp:lastModifiedBy>Victor Diaz</cp:lastModifiedBy>
  <dcterms:modified xsi:type="dcterms:W3CDTF">2008-12-26T21:59:00Z</dcterms:modified>
  <cp:revision>18</cp:revision>
  <dc:subject/>
  <dc:title>Paul Cézanne</dc:title>
</cp:coreProperties>
</file>