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720-01C6-4AC2-A2E3-F103D8E5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32DB-092B-4840-A298-91E84F88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3AA9-84B9-4564-92D7-D8522185F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C46-F011-4E8A-8AB4-A260A566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835-9E8B-4541-8D99-AEE7B13F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0B39-8438-49CE-BF59-7280135B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3B1-D5A4-421D-9A1E-A7B8028E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B931-85B3-474C-877B-BC23A1EA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CCE7-62BB-4A21-8135-9103E8EEF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092-2656-445D-ADD6-B761A957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4F2E-4849-4A29-AF94-2E80610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5AD-D97C-4B1C-B843-3321DDB9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75C3-0AED-4A10-A132-8F7CEB8BECA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Neoimpresionismo y Postimpresionismo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La progresiva transformación de la visualidad en la representació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Hiroshige_Van_Gogh_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477120" cy="4734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76880" y="5334120"/>
            <a:ext cx="22532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iroshige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El puente O-hashi en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take bajo una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lluvia repentin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7400" y="5486400"/>
            <a:ext cx="225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Van Gogh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Puente bajo la lluvia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87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VanGogh-starry_night_ballance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05360" cy="535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2000" y="594360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sterrennac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noche estrellada]. 188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3 por 92 cm; MOMA, Nueva York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-Lautrec_at_the_moulin_rouge_1892" descr=""/>
          <p:cNvPicPr/>
          <p:nvPr/>
        </p:nvPicPr>
        <p:blipFill>
          <a:blip r:embed="rId1"/>
          <a:stretch/>
        </p:blipFill>
        <p:spPr>
          <a:xfrm>
            <a:off x="1676520" y="304920"/>
            <a:ext cx="5715000" cy="4967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2120" y="5486400"/>
            <a:ext cx="675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Henri Marie Raymond de Toulouse-Lautrec-Monfa Tapié de Celeyran,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nde de Toulouse-Lautrec-Monfa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eaeaea"/>
                </a:solidFill>
                <a:latin typeface="Times New Roman"/>
              </a:rPr>
              <a:t>Au Moulin Rouge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dx6nkohj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3630600" cy="5029200"/>
          </a:xfrm>
          <a:prstGeom prst="rect">
            <a:avLst/>
          </a:prstGeom>
          <a:ln w="0">
            <a:noFill/>
          </a:ln>
        </p:spPr>
      </p:pic>
      <p:pic>
        <p:nvPicPr>
          <p:cNvPr id="67" name="Lautrec_ambassadeurs,_aristide_bruant_(poster)_1892" descr=""/>
          <p:cNvPicPr/>
          <p:nvPr/>
        </p:nvPicPr>
        <p:blipFill>
          <a:blip r:embed="rId2"/>
          <a:stretch/>
        </p:blipFill>
        <p:spPr>
          <a:xfrm>
            <a:off x="4952880" y="457200"/>
            <a:ext cx="3443400" cy="5181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60080" y="6172200"/>
            <a:ext cx="620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enri Touluse-Lautre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ristide Bru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Carteles). 1892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eorges_Seurat_031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04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67080" y="5715000"/>
            <a:ext cx="794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dimanche après-midi à l'Ile de la Grande Ja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rt Institute, Chica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4-10CYRETEQ00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858000" cy="450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23280" y="5638680"/>
            <a:ext cx="47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eorges Seura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parade de cirqu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eurat-La_Parade_detail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3467160" cy="5629320"/>
          </a:xfrm>
          <a:prstGeom prst="rect">
            <a:avLst/>
          </a:prstGeom>
          <a:ln w="0">
            <a:noFill/>
          </a:ln>
        </p:spPr>
      </p:pic>
      <p:pic>
        <p:nvPicPr>
          <p:cNvPr id="48" name="detailpoint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2428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aul_Signac_Dimanche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5451480" cy="5478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1760" y="4648320"/>
            <a:ext cx="2007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Signac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oming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8-189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Colección privad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ul_Signac_Port_de_Marseilles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81880" cy="5477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55880" y="6019920"/>
            <a:ext cx="72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ignac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uerto de Marsel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Ermitage, San Petesburgo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aul_Gauguin_104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553440" cy="527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81240" y="5715000"/>
            <a:ext cx="66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Gaugin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incent Van Gogh pintando los girasol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Amsterdam, Museo Van Gogh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Gauguin_144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215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04640" y="601992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ujeres de Tahiti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Vincent_Van_Gogh_-_The_Potato_Eaters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477120" cy="4575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92880" y="5791320"/>
            <a:ext cx="54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incent van Gog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Comedores de Pata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01:39:29Z</dcterms:created>
  <dc:creator>Victor Diaz</dc:creator>
  <dc:description/>
  <dc:language>en-US</dc:language>
  <cp:lastModifiedBy>Victor Diaz</cp:lastModifiedBy>
  <dcterms:modified xsi:type="dcterms:W3CDTF">2008-12-26T21:59:00Z</dcterms:modified>
  <cp:revision>18</cp:revision>
  <dc:subject/>
  <dc:title>Paul Cézanne</dc:title>
</cp:coreProperties>
</file>