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61F-D13F-44F0-A5AA-289BE1CC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DC17-56A5-471E-8B63-1F83061B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1C7A-53C0-4D27-AF18-4F6AC9C2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202D-D06B-4009-9E24-8DF3E967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BBF-55A5-4D60-9EF1-1C02DCE2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52C-E180-4FDD-AF24-98B48D50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9BD-9A40-4B5D-AC62-5E01585A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859-FF70-42B6-936E-CD4C24D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033A-E38F-4761-82FA-58BEFE8E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6F4-FB6C-4DF1-8BF5-28893DD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B53-8F49-4C35-B84A-2DAC127F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CE5-9EDB-464D-A80E-16F5904F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4632-17CE-40A2-A0DD-AC82A3FDD72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íspera de la Vanguardia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E0000051780_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408560" cy="6324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97960" y="5029200"/>
            <a:ext cx="388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ffet du mat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800px-Claude_Monet_038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534520" cy="292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01400" y="5562720"/>
            <a:ext cx="46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nymphé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20 - 26 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19 por 602 c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rtanos%20degas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162920" cy="5027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41320" y="5943600"/>
            <a:ext cx="564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jercicios de jóvenes esparta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Edgar_Germain_Hilaire_Degas_02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602320" cy="6248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549480" y="5181480"/>
            <a:ext cx="217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Germai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ilaire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lase de danz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clasedanzacompos" descr=""/>
          <p:cNvPicPr/>
          <p:nvPr/>
        </p:nvPicPr>
        <p:blipFill>
          <a:blip r:embed="rId1"/>
          <a:stretch/>
        </p:blipFill>
        <p:spPr>
          <a:xfrm>
            <a:off x="1981080" y="609480"/>
            <a:ext cx="48945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bsinthe" descr=""/>
          <p:cNvPicPr/>
          <p:nvPr/>
        </p:nvPicPr>
        <p:blipFill>
          <a:blip r:embed="rId1"/>
          <a:stretch/>
        </p:blipFill>
        <p:spPr>
          <a:xfrm>
            <a:off x="4038480" y="304920"/>
            <a:ext cx="4551480" cy="6324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914760" y="4724280"/>
            <a:ext cx="24055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dgar Deg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'Absint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2 por 68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Edouard_Manet_040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4464000" cy="624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635080" y="5334120"/>
            <a:ext cx="304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etrato de Berthe Moriso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Berthe_Morisot_002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629400" cy="564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0160" y="6019920"/>
            <a:ext cx="85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Berthe Moriso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ugène Manet en la isla de Wigh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5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, Parí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Renoir21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705720" cy="493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58280" y="5715000"/>
            <a:ext cx="66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erre-Auguste Renoi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 au Moulin de la Galet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por 175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mwm07591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05360" cy="568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73920" y="6095880"/>
            <a:ext cx="828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mille 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ligencia a Enner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4240" y="6019920"/>
            <a:ext cx="812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,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: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Marmottan Monet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4" name="Impression,%20Sunrise%20(Monet)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647712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15480" y="5638680"/>
            <a:ext cx="566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issarr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sla de Lacroix con efecto de niebl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; Museo de Arte de Filadelf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79" name="lacroix_island_rouen_in_fog-400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55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487px-Claude_Monet_024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4638600" cy="570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9520" y="4800600"/>
            <a:ext cx="38962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s au jard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6 por 208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5400" y="4876920"/>
            <a:ext cx="34772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 ai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(vers la droite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1 x 88 cm; Musée d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apc" descr=""/>
          <p:cNvPicPr/>
          <p:nvPr/>
        </p:nvPicPr>
        <p:blipFill>
          <a:blip r:embed="rId1"/>
          <a:stretch/>
        </p:blipFill>
        <p:spPr>
          <a:xfrm>
            <a:off x="4419720" y="228600"/>
            <a:ext cx="42735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mp_14b05e04ae5c406e879cd17e7268adb3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4121280" cy="6248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327640" y="4572000"/>
            <a:ext cx="3252960" cy="19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sai de figure en plein-air :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Femme à l'ombrel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urnée vers la gauch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ée d'Orsay, Pari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monet.portail-temps-gris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400824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406840" y="5257800"/>
            <a:ext cx="2821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temps gri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pcaa" descr=""/>
          <p:cNvPicPr/>
          <p:nvPr/>
        </p:nvPicPr>
        <p:blipFill>
          <a:blip r:embed="rId1"/>
          <a:stretch/>
        </p:blipFill>
        <p:spPr>
          <a:xfrm>
            <a:off x="4191120" y="228600"/>
            <a:ext cx="4287600" cy="6400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6720" y="5105520"/>
            <a:ext cx="310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Rouen, Le Portai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u de face, hamonie brun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E0000051779_3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384800" cy="6381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2680" y="5334120"/>
            <a:ext cx="288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édrale de Roue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, soleil matina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h_monet_rouen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398628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97600" y="4952880"/>
            <a:ext cx="379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athedrale de Roue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portail et la tour Saint-Romain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lein soleil, harmonie bleue et o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9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2:55:23Z</dcterms:created>
  <dc:creator>Victor Diaz</dc:creator>
  <dc:description/>
  <dc:language>en-US</dc:language>
  <cp:lastModifiedBy>Victor Diaz</cp:lastModifiedBy>
  <dcterms:modified xsi:type="dcterms:W3CDTF">2008-12-26T02:35:16Z</dcterms:modified>
  <cp:revision>25</cp:revision>
  <dc:subject/>
  <dc:title>Impresionismo y postimpresionismo</dc:title>
</cp:coreProperties>
</file>