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5F9-255B-4AF5-8040-E633530E1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87B7-6B7B-4683-8ADE-CAF2B627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08B-9C13-43BE-96F2-204EA5D8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68D0-E70E-4364-A5BF-EFEBDAB8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A781-FCCB-4BA1-A53E-277D2364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7273-64C1-427C-A8D1-6B10FB2A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B25-3383-4A9E-A0D7-EC2AEC4F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74A-995A-4B1C-BBAD-280D95FC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C83-201C-4A1E-B726-B615D1F7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F1D4-A699-4579-8857-4E5103D06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5327-FA92-4207-874C-83D4649C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B0F8-E835-489B-ACA4-7D69A088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951C-F51A-4FF1-B012-9860F1FCBCB2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8001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Cézanne: romanticismo, impresionismo, postimpresionismo, constructivismo y el inicio de las vanguardia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60807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arque-dante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925040" cy="59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c1613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4800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19800" y="5715000"/>
            <a:ext cx="57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mino a Pontoise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8 x 7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aul-Cezanne-Blue-Vase-16203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4871880" cy="5943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2280" y="495288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vaso azul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85-8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1 x 5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ezannejugadores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55308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87600" y="6095880"/>
            <a:ext cx="61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Jugadores de car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0-9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7 x 57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cezanne.pommes-oranges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629400" cy="5210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92560" y="6019920"/>
            <a:ext cx="82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degón con manzanas y naranj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5-1900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4 x 9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ezanne_appsorgs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verano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81680" cy="5257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89080" y="5867280"/>
            <a:ext cx="86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taña Santa Victoria desde Les Lauv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2-0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3,5 x 8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aul_Cézanne_047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754680" cy="5716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505240" y="6095880"/>
            <a:ext cx="440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s bañist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98-190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asso_avignon%5B1%5D_jpg" descr=""/>
          <p:cNvPicPr/>
          <p:nvPr/>
        </p:nvPicPr>
        <p:blipFill>
          <a:blip r:embed="rId1"/>
          <a:stretch/>
        </p:blipFill>
        <p:spPr>
          <a:xfrm>
            <a:off x="1981080" y="228600"/>
            <a:ext cx="503424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95040" y="6019920"/>
            <a:ext cx="52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blo Picass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s Demoiselles d´Avign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90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ezanne14-10CYRETEQ00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6782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90480" y="4648320"/>
            <a:ext cx="26402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sueño del poet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beso de la mus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59-60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82 x 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ill%20life%20with%20bread%20and%20eggs%20by%20Cezanne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086600" cy="556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2640" y="6095880"/>
            <a:ext cx="71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turaleza muerta: pan y huev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9 x 76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die_orgie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3730680" cy="632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065960" y="5029200"/>
            <a:ext cx="1701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rgí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x 81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ezanne10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5680080" cy="5943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3480" y="4495680"/>
            <a:ext cx="2718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9-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56 x 5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aul_Cezanne,_A_Modern_Olympia,_c._1873-1874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6705360" cy="550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65000" y="609588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a Olympia moder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6 x 5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Le%20Dejeuner%20sur%20L'herbe__Paul%20Cezanne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51840" cy="468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84480" y="5867280"/>
            <a:ext cx="65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70-7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60 x 80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aul_Cézanne_-_Le_Déjeuner_sur_l'herbe_(Orangerie)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781680" cy="5141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84480" y="5943600"/>
            <a:ext cx="66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ejeuner sur l'herbe.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73-7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´8 x 27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-14024-15323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564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824760" y="6095880"/>
            <a:ext cx="75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Paul Cézanne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 (Según Delacroix)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187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 x 33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1:56:43Z</dcterms:created>
  <dc:creator>Victor Diaz</dc:creator>
  <dc:description/>
  <dc:language>en-US</dc:language>
  <cp:lastModifiedBy>Victor Diaz</cp:lastModifiedBy>
  <dcterms:modified xsi:type="dcterms:W3CDTF">2009-01-03T03:48:07Z</dcterms:modified>
  <cp:revision>24</cp:revision>
  <dc:subject/>
  <dc:title>Cézanne: constructivismo y el inicio de las vanguardias.</dc:title>
</cp:coreProperties>
</file>