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437-C670-4E0A-B168-53EA7BC3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397-04AF-4BFD-818D-125334FA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A6B-C226-4F29-961B-78EF71EE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E27-34A7-4E6D-8DE0-78AFF54B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ACC-A86E-4C29-B46E-3DC63011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EAC8-2772-4107-8B2A-6B1D240F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6BC8-AE7A-42D7-8BED-BC535C37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E5B4-181E-45C1-B076-16360B84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3A1-63FB-4BD8-8BD2-11B9F617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065-9503-49A2-B5DD-0BCC6753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7B35-3024-4652-AFD3-038CFDC1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340-EDE0-4729-9A7C-CD592E1F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A7D3-9FDB-4EEA-9CD8-8DFC50A0A5D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Neoimpresionismo y Postimpresionismo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a progresiva transformación de la visualidad en la represent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iroshige_Van_Gogh_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473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880" y="5334120"/>
            <a:ext cx="225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iroshige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El puente O-hashi e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take bajo un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lluvia repentin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7400" y="54864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Van Gogh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Puente bajo la lluvia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87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anGogh-starry_night_ballanc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3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00" y="5943600"/>
            <a:ext cx="84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sterrennac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noche estrellada]. 188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por 92 cm; MOMA, 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-Lautrec_at_the_moulin_rouge_1892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2120" y="5486400"/>
            <a:ext cx="67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enri Marie Raymond de Toulouse-Lautrec-Monfa Tapié de Celeyran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nde de Toulouse-Lautrec-Monf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u Moulin Rouge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x6nkohj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306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Lautrec_ambassadeurs,_aristide_bruant_(poster)_1892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4434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0080" y="6172200"/>
            <a:ext cx="62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enri Touluse-Lautre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ristide Bru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Carteles). 1892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eorges_Seurat_03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4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7080" y="5715000"/>
            <a:ext cx="794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dimanche après-midi à l'Ile de la Grande Ja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rt Institute, Chica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-10CYRETEQ00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45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3280" y="5638680"/>
            <a:ext cx="47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arade de cir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eurat-La_Parade_detai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67160" cy="5629320"/>
          </a:xfrm>
          <a:prstGeom prst="rect">
            <a:avLst/>
          </a:prstGeom>
          <a:ln w="0">
            <a:noFill/>
          </a:ln>
        </p:spPr>
      </p:pic>
      <p:pic>
        <p:nvPicPr>
          <p:cNvPr id="48" name="detailpoint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242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ul_Signac_Dimanche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5451480" cy="547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1760" y="4648320"/>
            <a:ext cx="2007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Signa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oming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8-189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lección privad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ul_Signac_Port_de_Marseille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81880" cy="54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55880" y="60199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igna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uerto de Marsel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Ermitage, San Petesburgo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ul_Gauguin_10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27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81240" y="5715000"/>
            <a:ext cx="66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Gaugi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ncent Van Gogh pintando los girasol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msterdam, Museo Van Gogh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Gauguin_14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215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4640" y="6019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ujeres de Tahiti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incent_Van_Gogh_-_The_Potato_Eaters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457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92880" y="57913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incent van Gog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Comedores de Pata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1:39:29Z</dcterms:created>
  <dc:creator>Victor Diaz</dc:creator>
  <dc:description/>
  <dc:language>en-US</dc:language>
  <cp:lastModifiedBy>Victor Diaz</cp:lastModifiedBy>
  <dcterms:modified xsi:type="dcterms:W3CDTF">2008-12-26T21:59:00Z</dcterms:modified>
  <cp:revision>18</cp:revision>
  <dc:subject/>
  <dc:title>Paul Cézanne</dc:title>
</cp:coreProperties>
</file>