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A35-6CEB-48C8-A129-68FF63A4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CD9-2386-4151-AD75-84DC4F30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F16-211F-4D43-B420-69A7DCF0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91F-6797-4BEB-A0C7-A0E60541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671-0F39-48D3-BD7F-30C67F39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115E-7BF2-4F83-AF46-FC478BDC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22E1-2416-4445-B539-02D788D6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FB51-9D6E-46A9-AB3B-731417DC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B491-D886-41F7-88FB-433CAC07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FFE-41B4-47A8-96DF-B76E2BAA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638C-01F2-403A-BA27-B20DBB59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873-3836-47AF-B3D1-1063D7F0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F878-29A9-4883-9E25-4F24F4A7E2E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eaea"/>
                </a:solidFill>
                <a:latin typeface="Times New Roman"/>
              </a:rPr>
              <a:t>Manet: modernismo y surgimiento del impresionismo.  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nsición del siglo XIX hacia el siglo XX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Manet6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848720" cy="5637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91600" y="6095880"/>
            <a:ext cx="86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usique aux Tuilerie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6,2 x 118,1 cm; National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ortrait%20d'Emile%20Zol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4952880" cy="6324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016320" y="5105520"/>
            <a:ext cx="2556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Portrait d'Emile Zola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8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46 x 114 cm;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 Orsay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800px-The_Great_Wave_off_Kanagawa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257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1080" y="5943600"/>
            <a:ext cx="85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Katsushika Hokusai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Kanagawa oki nami ur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La gran ola de Kanagawa]. 1832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4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4560" y="5943600"/>
            <a:ext cx="45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imes New Roman"/>
              </a:rPr>
              <a:t>El sueño de la mujer del pescado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Monet_DesayunoEstudio65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21560" cy="53737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35600" y="6095880"/>
            <a:ext cx="84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sayuno sobre la hierb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5-66. [Estudio de tamaño menor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dejeuner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467840" cy="5600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3680" y="6172200"/>
            <a:ext cx="89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Déjeuner sur l'herb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08 por 264 cm; Museo de Orsay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lympia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53280" cy="5477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92640" y="6095880"/>
            <a:ext cx="64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800px-Tizian_102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21560" cy="545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02880" y="59436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iziano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Venus de Urbi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53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5 por 119 cm; Galería Uffizi, Florencia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l%20pifano%20de%20manet" descr=""/>
          <p:cNvPicPr/>
          <p:nvPr/>
        </p:nvPicPr>
        <p:blipFill>
          <a:blip r:embed="rId1"/>
          <a:stretch/>
        </p:blipFill>
        <p:spPr>
          <a:xfrm>
            <a:off x="4876920" y="228600"/>
            <a:ext cx="3722400" cy="64008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71880" y="5105520"/>
            <a:ext cx="42620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ocador de píf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66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61 x 97 cm.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ABLO%20DE%20VALLADOLID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3670200" cy="6477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33680" y="5791320"/>
            <a:ext cx="4584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ablo de Valladolid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636-3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12 por 125 cm; Museo del Prado, Madrid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usilamientos_manet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6400800" cy="537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436040" y="5791320"/>
            <a:ext cx="615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ejecución del Emperador Maximilian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2 x 305 cm; Städtische Kunsthall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manet_balcone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54640" cy="6324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027400" y="5486400"/>
            <a:ext cx="389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l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8-186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70 por 124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380px-Goya_maya_balcon" descr=""/>
          <p:cNvPicPr/>
          <p:nvPr/>
        </p:nvPicPr>
        <p:blipFill>
          <a:blip r:embed="rId1"/>
          <a:stretch/>
        </p:blipFill>
        <p:spPr>
          <a:xfrm>
            <a:off x="4637160" y="304920"/>
            <a:ext cx="40114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6280" y="5715000"/>
            <a:ext cx="398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Majas en el balcón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08-1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62 x 107 cm; colección particula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2:56:51Z</dcterms:created>
  <dc:creator>Victor Diaz</dc:creator>
  <dc:description/>
  <dc:language>en-US</dc:language>
  <cp:lastModifiedBy>Victor Diaz</cp:lastModifiedBy>
  <dcterms:modified xsi:type="dcterms:W3CDTF">2008-12-23T23:27:21Z</dcterms:modified>
  <cp:revision>16</cp:revision>
  <dc:subject/>
  <dc:title>Manet: modernismo y surgimiento del impresionismo.   </dc:title>
</cp:coreProperties>
</file>