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A7DB-073A-459D-8553-68D5C5848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BE11-E78C-41FD-91BF-5E64FD66C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B2D3-D0C8-4BD8-B721-1D4E290A1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7BC7-92F3-4665-A143-DA5378CFF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3587-84CF-43D8-8203-1C253806C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10CD-6F25-4795-8170-BEEF7D0F4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636B-3C2C-4D1B-B7B4-486F19C61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04D0-8544-41A6-98D7-323262126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AF8B-C9B0-4767-842B-059014B17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9014-49EF-4ED4-B777-D5C5C8385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FA0C-02F0-4B5A-9C3E-253772AC1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1882-FDEE-4B22-B657-0A98B1F78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BC2FB-9EA1-40CB-B9E2-338BD6BEC5FD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Del romanticismo al impresionismo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rte del siglo XIX (4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sea-monsters-detail" descr=""/>
          <p:cNvPicPr/>
          <p:nvPr/>
        </p:nvPicPr>
        <p:blipFill>
          <a:blip r:embed="rId1"/>
          <a:stretch/>
        </p:blipFill>
        <p:spPr>
          <a:xfrm>
            <a:off x="1219320" y="533520"/>
            <a:ext cx="6553080" cy="55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turner%20botes%20en%20el%20mar" descr=""/>
          <p:cNvPicPr/>
          <p:nvPr/>
        </p:nvPicPr>
        <p:blipFill>
          <a:blip r:embed="rId1"/>
          <a:stretch/>
        </p:blipFill>
        <p:spPr>
          <a:xfrm>
            <a:off x="1066680" y="152280"/>
            <a:ext cx="7010640" cy="5440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278360" y="5867280"/>
            <a:ext cx="643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Turne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Boats at se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30 - 1840¿?[aceptado hacia los ‘50]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2.2 x 27.9 cm; The Tate Gallery, Londre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Monet%20-%20Impresión%20Sol%20Naciente" descr=""/>
          <p:cNvPicPr/>
          <p:nvPr/>
        </p:nvPicPr>
        <p:blipFill>
          <a:blip r:embed="rId1"/>
          <a:stretch/>
        </p:blipFill>
        <p:spPr>
          <a:xfrm>
            <a:off x="1371600" y="228600"/>
            <a:ext cx="6477120" cy="50068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43760" y="5715000"/>
            <a:ext cx="7709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laude Mo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Impression, soleil levant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[Impresión, sol naciente]. 187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48 por 63 cm; Museo Marmottan-Monet, Parí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800px-John_Constable_013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620120" cy="5478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19840" y="5791320"/>
            <a:ext cx="823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ohn Constabl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The Hay Wai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21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30 por 185 cm; National Gallery, Londre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onstable_Salisbury_meadows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7162560" cy="5699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434960" y="5867280"/>
            <a:ext cx="6211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onstabl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Salisbury Cathedral from the meadow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2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51 por 190 cm; National Gallery, Londre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tonehenge1835_387%20x%20591%20mm_Victoria%20and%20Albert%20Museum,%20London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543800" cy="4827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46040" y="5715000"/>
            <a:ext cx="84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onstabl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Stoneheng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3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387 x 591 mm; Victoria and Albert Museum, Londre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turner-1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7848720" cy="5210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126800" y="5867280"/>
            <a:ext cx="675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oseph Mallord William Turne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ido building Carthag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1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55 x 232 cm; National Gallery, Londre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800px-Joseph_Mallord_William_Turner_064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8077320" cy="52689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974160" y="5791320"/>
            <a:ext cx="7462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oseph Mallord William Turne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Ulysses Deriding Polyphemu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2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33 por 202; National Gallery, Londre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ulysses-detail" descr=""/>
          <p:cNvPicPr/>
          <p:nvPr/>
        </p:nvPicPr>
        <p:blipFill>
          <a:blip r:embed="rId1"/>
          <a:stretch/>
        </p:blipFill>
        <p:spPr>
          <a:xfrm>
            <a:off x="1447920" y="762120"/>
            <a:ext cx="617220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800px-Rain_Steam_and_Speed_the_Great_Western_Railway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7315200" cy="54324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128960" y="5867280"/>
            <a:ext cx="699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Turne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Rain, steam and speed. The great western railway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44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91 × 121.8 cm; National Gallery, Londre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Sunrise%20with%20Sea%20Monsters" descr=""/>
          <p:cNvPicPr/>
          <p:nvPr/>
        </p:nvPicPr>
        <p:blipFill>
          <a:blip r:embed="rId1"/>
          <a:stretch/>
        </p:blipFill>
        <p:spPr>
          <a:xfrm>
            <a:off x="1143000" y="304920"/>
            <a:ext cx="6858000" cy="51735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18040" y="5867280"/>
            <a:ext cx="81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Turne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Sunrise with sea monster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4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91.5 x 122 cm; Tate Gallery, Londre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7T00:44:56Z</dcterms:created>
  <dc:creator>Victor Diaz</dc:creator>
  <dc:description/>
  <dc:language>en-US</dc:language>
  <cp:lastModifiedBy>Victor Diaz</cp:lastModifiedBy>
  <dcterms:modified xsi:type="dcterms:W3CDTF">2008-12-14T22:56:48Z</dcterms:modified>
  <cp:revision>19</cp:revision>
  <dc:subject/>
  <dc:title>Del romanticismo al impresionismo</dc:title>
</cp:coreProperties>
</file>